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51B-0326-4A68-8F2C-7F3ECCD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351-D8FC-4F61-96A2-56FD7CB2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9BE-93EB-4802-900C-20779CE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B37-5E28-4A7B-899E-1D23EF61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1CC-C7BB-47DA-8614-D40B1C37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D6CD-7212-4F9C-8279-A867755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205-EC5A-4C4D-BF57-ACEC230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B822-68A4-47D4-B422-5307D6B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062-571D-4024-916D-8496B30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B01-5152-4275-A45C-98B805D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1B2-6BB5-4B4C-94EA-2675B01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C90-BDBF-4BFA-9008-321493F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B80A-3828-44C0-B2A2-8452CAD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B3AF-B823-4800-99A9-EF315FE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08A1-164A-407F-9995-747EB914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E87-76DD-4B9A-ABE4-2A2113B9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0C5-CA31-4A5D-9385-A23FEDF4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782-70A4-41EF-9027-0197E199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B5D-655F-4428-88BD-EFA45FC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36E-2472-48FB-82BD-D65241E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D35-380E-48E7-BCC3-B0212E9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06B-8E92-4979-88AA-01E4CDE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C00-8B4E-4D0B-BCC4-C1D9AB2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7B3-D2F2-4F75-B48A-7A4CA84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3CB3-4B22-4AFF-B4CA-969645DDD613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2F07-B8BB-49E7-BF67-18E431503142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五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樓梯剖面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樓梯剖面詳圖的圖面繪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   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樓梯剖面詳圖的位置標示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樓梯剖面詳圖的材料標示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樓梯構造注意事項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樓梯剖面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12189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剖面詳圖的位置標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828800" y="0"/>
          <a:ext cx="693432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0"/>
                    <a:ext cx="69343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1371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剖面詳圖的形狀標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828800" y="76320"/>
          <a:ext cx="6705720" cy="67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320"/>
                    <a:ext cx="670572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樓梯剖面詳圖的材料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樓梯材料標示的順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應以有序的標示順序為宜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欄杆與扶手等的構造設計特別，而有另行繪製大樣詳圖的需要時，通常是以大樣詳圖符號標示，其餘材料標示方法與外牆剖面詳圖相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材料標示的順序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85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剖面詳圖的材料標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676520" y="76320"/>
          <a:ext cx="6705360" cy="67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6320"/>
                    <a:ext cx="6705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樓梯構造注意事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級高、級深的規定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補強樑構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開口構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滴水線構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扶手構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樓梯轉折處的補強筋構造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76320" y="1847880"/>
          <a:ext cx="8991360" cy="316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847880"/>
                    <a:ext cx="899136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大梁下降至轉臺下之構造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1295280"/>
          <a:ext cx="8982000" cy="497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98200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14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上下梯階級面處的構造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447920" y="533520"/>
          <a:ext cx="7188120" cy="58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33520"/>
                    <a:ext cx="718812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609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樓梯剖面詳圖的範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219320" y="0"/>
          <a:ext cx="693396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0"/>
                    <a:ext cx="693396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　通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2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，一般採用比例尺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1/30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樓梯剖面詳圖的意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數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表達的範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樓梯剖面詳圖的圖面數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樓梯剖面詳圖的圖名標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樓梯剖面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面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說明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材料標示的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符號與圖名之查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8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剖面詳圖的圖面範圍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00200" y="76320"/>
          <a:ext cx="678168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76320"/>
                    <a:ext cx="67816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樓梯剖面詳圖的圖面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繪製順序採由最底層至最頂層的順序進行，且由圖面左側構件往右逐漸完成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先繪製基準線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繪製內外牆的剖構體部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繪製樓梯本體部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繪製視構件部分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樓梯剖面詳圖的圖面繪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52480" y="0"/>
          <a:ext cx="6858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38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繪製順序一︵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先繪剖體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︶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5562720"/>
            <a:ext cx="69343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981080"/>
            <a:ext cx="69339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9810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1430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2590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2209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2096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6668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62012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1371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143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1142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4479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905120"/>
            <a:ext cx="289584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56272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7913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57913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6248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5333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5105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48765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9880" y="46479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429000" y="44193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48120" y="4190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876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191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666880" y="3962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71600" y="39625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962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52480" y="41911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191120"/>
            <a:ext cx="26668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066680"/>
            <a:ext cx="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26668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62720" y="2286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286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86000"/>
            <a:ext cx="0" cy="3200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828800"/>
            <a:ext cx="2590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86400" y="106632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800240" y="10666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543440" y="27432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274320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54864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28840" y="5486400"/>
            <a:ext cx="198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29200" y="5257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648320" y="5028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267080" y="48002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86200" y="45716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05320" y="43430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124080" y="4114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43200" y="3885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257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0292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8006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45720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3434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114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29528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886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5720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828800" y="4266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4267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267080"/>
            <a:ext cx="266724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63244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562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58672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6324480"/>
            <a:ext cx="6098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58672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257800" y="1523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57800" y="159984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57800" y="17524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086600" y="2666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086600" y="28195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086600" y="3123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86600" y="34290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86600" y="37339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86600" y="40381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86600" y="44197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86600" y="50292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238880" y="53337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4572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572000"/>
            <a:ext cx="28958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63244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0"/>
            <a:ext cx="76212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0"/>
            <a:ext cx="76176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14479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51055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2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17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繪製順序二︵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後繪視體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︶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5562720"/>
            <a:ext cx="69343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981080"/>
            <a:ext cx="69339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9810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11430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2590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86400" y="2209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22096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26668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62012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055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1371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143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410080" y="1142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14479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905120"/>
            <a:ext cx="289584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56272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7913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57913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438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6248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952880" y="5333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5105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91120" y="48765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09880" y="46479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429000" y="44193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048120" y="4190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876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191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66880" y="3962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371600" y="39625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962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752480" y="41911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191120"/>
            <a:ext cx="26668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6668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62720" y="2286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2286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286000"/>
            <a:ext cx="0" cy="3200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1828800"/>
            <a:ext cx="2590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86400" y="106632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800240" y="10666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543440" y="27432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274320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54864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28840" y="5486400"/>
            <a:ext cx="198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29200" y="5257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648320" y="5028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267080" y="48002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886200" y="45716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505320" y="43430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124080" y="4114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43200" y="3885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257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50292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48006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45720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43434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114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29528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886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45720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828800" y="4266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267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267080"/>
            <a:ext cx="266724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6920" y="63244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562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58672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6324480"/>
            <a:ext cx="6098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6201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8672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257800" y="1523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57800" y="159984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57800" y="17524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86600" y="2666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086600" y="28951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86600" y="3123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086600" y="34290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86600" y="37339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86600" y="40381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086600" y="44197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086600" y="50292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238880" y="53337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590920" y="3657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95480" y="3276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19720" y="2285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038480" y="2514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289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3048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2895480"/>
            <a:ext cx="22096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43200" y="3048120"/>
            <a:ext cx="22096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42670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1814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895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124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3124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3352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657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37339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0384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114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4419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2286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8480" y="2514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092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657240" y="266688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52680" y="3505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895120" y="36576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78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572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4572000"/>
            <a:ext cx="28958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63244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0"/>
            <a:ext cx="76212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0"/>
            <a:ext cx="76176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01000" y="14479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1000" y="51055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2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1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繪製順序︵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局部</a:t>
            </a:r>
            <a:br>
              <a:rPr sz="4000"/>
            </a:b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示意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︶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5562720"/>
            <a:ext cx="69343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1981080"/>
            <a:ext cx="69339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838080"/>
            <a:ext cx="0" cy="5639040"/>
          </a:xfrm>
          <a:prstGeom prst="line">
            <a:avLst/>
          </a:prstGeom>
          <a:ln w="936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19810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11430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590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486400" y="2209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22096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86600" y="26668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62012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01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055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1371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1143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142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14479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1905120"/>
            <a:ext cx="289584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556272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57913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57913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5791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6248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8660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2666880"/>
            <a:ext cx="0" cy="289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5333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572000" y="5105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48765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809880" y="46479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29000" y="44193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48120" y="41907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4876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4191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666880" y="396216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371600" y="39625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1600" y="3962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752480" y="41911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24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26668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1066680"/>
            <a:ext cx="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6668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562720" y="2286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2286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2286000"/>
            <a:ext cx="0" cy="3200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1828800"/>
            <a:ext cx="2590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486400" y="106632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800240" y="10666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543440" y="27432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274320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54864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028840" y="5486400"/>
            <a:ext cx="198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029200" y="5257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648320" y="5028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267080" y="48002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886200" y="45716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505320" y="43430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24080" y="41144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743200" y="38858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8320" y="5257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67080" y="50292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48006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5720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434340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411480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29528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3886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45720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828800" y="4266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4267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4267080"/>
            <a:ext cx="266724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63244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562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58672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6324480"/>
            <a:ext cx="6098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6201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0120" y="58672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57800" y="1523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257800" y="159984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257800" y="17524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086600" y="2666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086600" y="28951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086600" y="3123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086600" y="34290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086600" y="37339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86600" y="40381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086600" y="44197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86600" y="50292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238880" y="53337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90920" y="3657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95480" y="3276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419720" y="2285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038480" y="2514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19320" y="2895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9320" y="3048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2895480"/>
            <a:ext cx="22096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3048120"/>
            <a:ext cx="22096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29200" y="42670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814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19320" y="2895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051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38280" y="3048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19520" y="3124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124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3352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3657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37339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40384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114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060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4419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2286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38480" y="2514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657240" y="266688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352680" y="3505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95120" y="36576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9608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78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13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0572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29400" y="4419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0" y="4572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81080" y="4572000"/>
            <a:ext cx="28958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63244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0"/>
            <a:ext cx="76212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4320" y="0"/>
            <a:ext cx="761760" cy="76212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1000" y="14479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01000" y="5105520"/>
            <a:ext cx="914400" cy="304560"/>
          </a:xfrm>
          <a:prstGeom prst="rect">
            <a:avLst/>
          </a:prstGeom>
          <a:solidFill>
            <a:srgbClr val="2b548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標楷體"/>
              </a:rPr>
              <a:t>2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樓梯剖面詳圖的位置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構件位置的尺寸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形狀尺寸的標示方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剖構件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剖構體的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粉刷體的材料標示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視構件的材料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與立面圖的方法完全相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1T05:35:00Z</dcterms:modified>
  <cp:revision>70</cp:revision>
  <dc:subject/>
  <dc:title>施工圖02建築</dc:title>
</cp:coreProperties>
</file>