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12F-9AB3-4B04-9921-F8BC02E8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58F-40E1-49A2-949F-918A26E0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3BA-CA05-4A3A-9BF4-FE77A0E5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A11-59C8-4868-BDCB-79C95108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1823-2ECE-4625-970D-64DDA2F6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6FA5-83DD-46CB-8F46-995308C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5DFD-E70D-4EF5-9F1B-0A896251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5045-1299-459C-850A-82ECE148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86F2-00AB-4162-B9D4-EB84A1EA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2B20-3DD3-4710-A305-C78C93B2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5CAA-2F78-4519-8E9D-2120903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83F-690C-4AFF-A571-E87C19F1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2AA0-EB68-4CEF-A8E0-F60F37F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72F-B8D1-4B4F-A8C2-18BEF2D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7751-999A-4878-8575-C4513B3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9280-FE33-4862-A53C-72A17DC1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1F2-6E34-49F7-B141-ADA6BF20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B3F-73E2-4668-9EFB-AC1C128C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CAB-F23D-4AA9-BD00-0AEC5392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D5E-99F7-40CB-8B8F-77F6711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0F8-0B52-4B41-BAE3-DC7BFE9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38F-9E00-466F-A68D-CCEDBA9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656-FE10-4FF8-B038-A0DD280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AFD-998B-4C36-8639-D5EC065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6092-D61C-493E-9EDE-7CEF141A9975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73A-A57C-470A-9557-295EF8959EA9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五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柱配筋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239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柱配筋詳圖的繪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柱結構注意事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柱配筋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底端鋼筋配置之規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43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752480"/>
                    <a:ext cx="86104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柱頂端鋼筋配置之規定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1752480"/>
          <a:ext cx="754380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543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配筋詳圖範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762120"/>
          <a:ext cx="8686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762120"/>
                    <a:ext cx="8686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柱配筋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繪製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表格部分的查核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1.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表格線條查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2.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表格欄位中的註記查核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圖面內容的查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1.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繪製的查核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2.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標示的查核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柱配筋詳圖的比例尺為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2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3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5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，通常以比例尺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/3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繪製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表現方式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通常是以柱的平面詳圖方式表現，並以表格方式整理成「</a:t>
            </a:r>
            <a:r>
              <a:rPr b="1" lang="zh-TW" sz="28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柱配筋詳圖表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」來呈現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面數量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決定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每一層的每一個不同編號的柱子（柱編號之編列以結構計算書為準），均應繪製配筋詳圖。即使上下層柱之混凝土斷面與配筋完全相同時，仍應詳加繪製不可省略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柱配筋詳圖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295280"/>
          <a:ext cx="90964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0964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柱配筋詳圖的繪製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表達方式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柱配筋詳圖通常以表格方式表現 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繪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表格繪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圖面繪製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之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每一根柱子的配筋平面詳圖中均需標示出混凝土的形狀、縱向主筋直徑與數量、橫向箍筋與繫筋的直徑與數量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配筋詳圖的繪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295280"/>
          <a:ext cx="8305920" cy="521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95280"/>
                    <a:ext cx="830592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柱結構注意事項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最小柱斷面與最小配筋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矩形柱最小邊長需在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30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公分以上，主筋至少需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4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根，直徑為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D16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#5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以上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主鋼筋搭接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由於台灣為地震地區，建議柱主筋搭接長度全部為鋼筋直徑的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4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倍，搭接位置必須在柱中央段淨高一半範圍內，且同一斷面處的搭接鋼筋數不得超過總數的一半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不同斷面柱鋼筋之接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箍筋配置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箍筋直徑應在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D1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（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#3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）以上，且其間距宜少於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30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公分，其配置除需依結構計算結果之外，還需符合技構第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410-4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第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44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條規定。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子端點主筋之處理方式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斷面變化處鋼筋的接續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981080"/>
          <a:ext cx="8920080" cy="40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1080"/>
                    <a:ext cx="892008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914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箍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筋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配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置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規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定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14600" y="304920"/>
          <a:ext cx="6324480" cy="63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04920"/>
                    <a:ext cx="6324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繫筋的配置方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905120"/>
          <a:ext cx="8856720" cy="39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8856720" cy="39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8T15:31:32Z</dcterms:modified>
  <cp:revision>60</cp:revision>
  <dc:subject/>
  <dc:title>施工圖03結構</dc:title>
</cp:coreProperties>
</file>