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39E-B04C-4F8E-8C7B-AA613203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39B-BC14-498E-B256-03E70ED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3F1-E73E-49A4-8082-EBCE399D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D45-C324-4FE3-98D8-E36BFCA9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A56-4DB3-4403-BFF0-EE80A42B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7E9F-E8B6-4743-8BB6-5211E2DC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ED97-18AC-4DA7-B053-D6DB2B63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271-79F8-4151-AC21-94C95375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A52-33BC-4563-B123-949BE01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6BA3-BB00-4BD5-821A-7002B0D8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B46-9FA0-48B1-AB6A-C931D0F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8A4-58F6-40A4-BE56-297734E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DFA5-7C74-4A16-904B-277F51B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BD7E-2B0A-4B3D-B5DD-7537EC2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296-F8B2-40A0-8375-EEEB55E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835-10F7-433C-B1ED-CB9CF8CB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CC99-55A1-42D7-A8D2-E897229C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9FC-D083-4408-9AF9-77A8B190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BF0-E116-4469-B3D4-B8CA72FA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545-B854-4E36-A54F-88AB502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03B-B8E0-43BA-9C21-33F229C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F30-79A6-4655-9876-9578EF0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5D4-1ABF-40C8-A57D-27557EA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22E-AFBA-4B08-B8E1-E807F0C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D6EC-513C-4644-9D55-CCFF6AF3CE2B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9959-20CA-4F6D-A765-41214A8D0C1C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一</a:t>
            </a:r>
            <a:r>
              <a:rPr b="0" lang="zh-TW" sz="5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TW" sz="5400" spc="-1" strike="noStrike">
                <a:solidFill>
                  <a:srgbClr val="ffff00"/>
                </a:solidFill>
                <a:latin typeface="新細明體"/>
              </a:rPr>
              <a:t>施工圖的意義與功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施工圖的意義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建築工程與施工圖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施工圖的功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良好施工圖的條件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5400" spc="-1" strike="noStrike">
                <a:solidFill>
                  <a:srgbClr val="e5ffff"/>
                </a:solidFill>
                <a:latin typeface="Tahoma"/>
              </a:rPr>
              <a:t>三</a:t>
            </a:r>
            <a:r>
              <a:rPr b="0" lang="zh-TW" sz="5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5400" spc="-1" strike="noStrike">
                <a:solidFill>
                  <a:srgbClr val="e5ffff"/>
                </a:solidFill>
                <a:latin typeface="新細明體"/>
              </a:rPr>
              <a:t>施工圖的功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將建築構想具體表達的功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具有指導施工技術的功能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工程合約的訂單功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工程估價的依據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營建管理的基本資料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良好施工圖的條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一套良好的施工圖除了應該要能夠滿足前述的功能之外，也還須具備下列性質（條件）：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說明性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完整性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可理解性（系統化與簡明性）</a:t>
            </a:r>
            <a:r>
              <a:rPr b="1" lang="zh-TW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技術性</a:t>
            </a:r>
            <a:r>
              <a:rPr b="1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一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施工圖的意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建築師業務中的設計圖應包括</a:t>
            </a:r>
            <a:r>
              <a:rPr b="1" lang="zh-TW" sz="3600" spc="-1" strike="noStrike">
                <a:solidFill>
                  <a:srgbClr val="ffcc00"/>
                </a:solidFill>
                <a:latin typeface="Times New Roman"/>
              </a:rPr>
              <a:t>概念設計圖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一般稱為設計圖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與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詳細設計圖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﹙一般稱為施工圖﹚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施工圖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一詞，純粹是建築業界與學界的習慣用語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主要是用來表示與設計圖﹙概念設計圖﹚的區別。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營建法令中並無施工圖的定義與規定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施工圖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實為建築設計業務中的中心作業</a:t>
            </a:r>
            <a:r>
              <a:rPr b="1" lang="zh-TW" sz="36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1</a:t>
            </a:r>
            <a:r>
              <a:rPr b="1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、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施工圖在</a:t>
            </a:r>
            <a:r>
              <a:rPr b="1" lang="zh-TW" sz="4400" spc="-1" strike="noStrike">
                <a:solidFill>
                  <a:srgbClr val="e5ffff"/>
                </a:solidFill>
                <a:latin typeface="標楷體"/>
              </a:rPr>
              <a:t>課程中之系統定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057400"/>
            <a:ext cx="12956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規劃階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2057400"/>
            <a:ext cx="388620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設計階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666880"/>
            <a:ext cx="42084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2666880"/>
            <a:ext cx="42048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2666880"/>
            <a:ext cx="42084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666880"/>
            <a:ext cx="42048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724280"/>
            <a:ext cx="76212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ff00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ff00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ff00"/>
                </a:solidFill>
                <a:latin typeface="Times New Roman"/>
              </a:rPr>
              <a:t>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724280"/>
            <a:ext cx="42048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724280"/>
            <a:ext cx="42048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420840" cy="1451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666880"/>
            <a:ext cx="457200" cy="1451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666880"/>
            <a:ext cx="914400" cy="3429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666880"/>
            <a:ext cx="914400" cy="3505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343400"/>
            <a:ext cx="6705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4572000"/>
            <a:ext cx="6705720" cy="0"/>
          </a:xfrm>
          <a:prstGeom prst="line">
            <a:avLst/>
          </a:prstGeom>
          <a:ln w="7632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1371600"/>
            <a:ext cx="3048120" cy="4572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(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建築師業務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流程取向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6400800"/>
            <a:ext cx="304812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(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  <a:ea typeface="Times New Roman"/>
              </a:rPr>
              <a:t>建築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課程之流程取向</a:t>
            </a:r>
            <a:r>
              <a:rPr b="0" lang="zh-TW" sz="2400" spc="-1" strike="noStrike">
                <a:solidFill>
                  <a:srgbClr val="e5ffff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2</a:t>
            </a:r>
            <a:r>
              <a:rPr b="1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、建築傳達與實現的工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-1 </a:t>
            </a:r>
            <a:r>
              <a:rPr b="0" lang="zh-TW" sz="3200" spc="-1" strike="noStrike">
                <a:solidFill>
                  <a:srgbClr val="ffffff"/>
                </a:solidFill>
                <a:latin typeface="全真顏體"/>
                <a:ea typeface="全真顏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建築產製的特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-2 </a:t>
            </a:r>
            <a:r>
              <a:rPr b="0" lang="zh-TW" sz="3200" spc="-1" strike="noStrike">
                <a:solidFill>
                  <a:srgbClr val="ffffff"/>
                </a:solidFill>
                <a:latin typeface="全真顏體"/>
                <a:ea typeface="全真顏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建築傳達方式與特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-3 </a:t>
            </a:r>
            <a:r>
              <a:rPr b="0" lang="zh-TW" sz="3200" spc="-1" strike="noStrike">
                <a:solidFill>
                  <a:srgbClr val="ffffff"/>
                </a:solidFill>
                <a:latin typeface="全真顏體"/>
                <a:ea typeface="全真顏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建築構想的表達工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-4 </a:t>
            </a:r>
            <a:r>
              <a:rPr b="0" lang="zh-TW" sz="3200" spc="-1" strike="noStrike">
                <a:solidFill>
                  <a:srgbClr val="ffffff"/>
                </a:solidFill>
                <a:latin typeface="全真顏體"/>
                <a:ea typeface="全真顏體"/>
              </a:rPr>
              <a:t>、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建築物的表達工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2-1</a:t>
            </a:r>
            <a:r>
              <a:rPr b="0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、</a:t>
            </a:r>
            <a:r>
              <a:rPr b="1" lang="zh-TW" sz="4400" spc="-1" strike="noStrike">
                <a:solidFill>
                  <a:srgbClr val="ffcc00"/>
                </a:solidFill>
                <a:latin typeface="Tahoma"/>
              </a:rPr>
              <a:t>建築產製的特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由無到有——創造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他人製造——訂製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永不重複——唯一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2-2</a:t>
            </a:r>
            <a:r>
              <a:rPr b="0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、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建築</a:t>
            </a:r>
            <a:r>
              <a:rPr b="1" lang="zh-TW" sz="4400" spc="-1" strike="noStrike">
                <a:solidFill>
                  <a:srgbClr val="ffcc00"/>
                </a:solidFill>
                <a:latin typeface="Tahoma"/>
              </a:rPr>
              <a:t>傳達方式與特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傳達方式： 傳   ╱達    ╱特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口頭交談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歷時╱歷時╱當場、具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文字書寫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共時╱歷時╱缺席、想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平面圖片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共時╱共時╱一目瞭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立體模型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共時╱共時╱立體、尺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</a:rPr>
              <a:t>2-3</a:t>
            </a:r>
            <a:r>
              <a:rPr b="0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、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建築構想</a:t>
            </a:r>
            <a:r>
              <a:rPr b="1" lang="zh-TW" sz="4400" spc="-1" strike="noStrike">
                <a:solidFill>
                  <a:srgbClr val="ffcc00"/>
                </a:solidFill>
                <a:latin typeface="Tahoma"/>
              </a:rPr>
              <a:t>的表達工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計劃書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文字為主、圖片為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設計圖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圖面為主、文字為輔、重表現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模型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正模、草模╱ 造型量體、空間表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慣用方式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口語、簡報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</a:rPr>
              <a:t>2-4</a:t>
            </a:r>
            <a:r>
              <a:rPr b="0" lang="zh-TW" sz="4400" spc="-1" strike="noStrike">
                <a:solidFill>
                  <a:srgbClr val="e5ffff"/>
                </a:solidFill>
                <a:latin typeface="全真顏體"/>
                <a:ea typeface="全真顏體"/>
              </a:rPr>
              <a:t>、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建築物</a:t>
            </a:r>
            <a:r>
              <a:rPr b="1" lang="zh-TW" sz="4400" spc="-1" strike="noStrike">
                <a:solidFill>
                  <a:srgbClr val="ffcc00"/>
                </a:solidFill>
                <a:latin typeface="Tahoma"/>
              </a:rPr>
              <a:t>的表達工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施工圖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表達建築物施工所需的內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施工說明書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施工規範、材料規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慣用方式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現場監工、說明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Tahoma"/>
              </a:rPr>
              <a:t>輔助模型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—細部或接頭模型等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非正規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e5ffff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1" lang="zh-TW" sz="4400" spc="-1" strike="noStrike">
                <a:solidFill>
                  <a:srgbClr val="e5ffff"/>
                </a:solidFill>
                <a:latin typeface="新細明體"/>
              </a:rPr>
              <a:t>建築工程與施工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建築物在施工興建之前只是一種想像物，「營建施工」就是將建築物由想像物製造成真實物的一系列工作。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     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建築工程的特徵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唯一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代工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訂製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現場施工性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建築工程所具有的這些特徵，使得建築工程想完全工業化生產是不太可能的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使得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施工圖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成為每棟建築物建造時必備的委建文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3:47Z</dcterms:created>
  <dc:creator>min</dc:creator>
  <dc:description/>
  <dc:language>en-US</dc:language>
  <cp:lastModifiedBy>706</cp:lastModifiedBy>
  <dcterms:modified xsi:type="dcterms:W3CDTF">2004-01-28T07:08:13Z</dcterms:modified>
  <cp:revision>49</cp:revision>
  <dc:subject/>
  <dc:title>施工圖01觀念</dc:title>
</cp:coreProperties>
</file>