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12D-0B41-4805-BE98-210493A9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311-250F-49E7-ADEF-DB4384C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0AD-E09F-449E-B54C-B6E2991A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286-21BE-4DF1-AA1F-B94ADF76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334A-1E6A-4F29-9262-1F1555B9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485-AAB0-44FF-B048-09A3C45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8FC0-3EB3-4E6F-A305-509AD61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4F28-69E0-46AC-A7A2-30890B4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923A-806F-457B-8338-154C9C74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F7FA-7EBE-484E-8CC7-B8909C71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AC3E-2D06-495E-90DF-E44CCB1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B80-0234-418D-8536-07618D85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2964-92DB-4875-8F5E-B2E49C2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AC12-0655-4772-81EC-4C2E747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0B6B-57BA-48BD-B61C-C40D702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E752-1ED6-4AA7-B09B-29738F74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E469-FEE2-4C52-8470-7E4B1EDF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A5C-DDFC-497D-BDDD-43203B22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39A-1951-480B-BF01-32FE2425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977-2DC1-489A-BFA9-1F1A852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FFE-8BCF-4ED5-AB37-6DA467B6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07-A9C5-4B51-95DF-B89AD6A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FF8-34D6-486B-BC10-F8B4DFB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910-99A5-48E4-9DA3-7894F08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508-8F06-4876-8327-91093C314BE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4824-5DE5-4449-8BD9-5B07F98FA0D2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四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外牆剖面詳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21333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外牆剖面詳圖的圖面繪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外牆剖面詳圖的材料標示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外牆構造注意事項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外牆剖面詳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圖之繪製順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76320"/>
          <a:ext cx="678168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76320"/>
                    <a:ext cx="67816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8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圖的位置標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52480" y="76320"/>
          <a:ext cx="678204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320"/>
                    <a:ext cx="67820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962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詳圖形狀的標示順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611280"/>
          <a:ext cx="8958240" cy="624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1280"/>
                    <a:ext cx="8958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標示的方法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0"/>
          <a:ext cx="6781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0"/>
                    <a:ext cx="6781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外牆剖面詳圖的材料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材料標示的順序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材料標示的方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剖構件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剖構體的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粉刷體的材料標示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視構件的材料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與立面圖的方法完全相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1295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剖面詳圖中粉刷線的標示順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81080" y="0"/>
          <a:ext cx="6858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1371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詳圖材料的標示方法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5120" y="76320"/>
          <a:ext cx="6781680" cy="67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76320"/>
                    <a:ext cx="67816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外牆構造注意事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開口上方構造物下緣滴水線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門窗眉樑與窗臺板構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屋頂排水與女兒牆防水收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地面層排水溝構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滴水線構造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9400" y="2057400"/>
          <a:ext cx="8994600" cy="377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2057400"/>
                    <a:ext cx="89946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開口眉樑構造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38320"/>
          <a:ext cx="8993160" cy="57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8320"/>
                    <a:ext cx="8993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　通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剖面詳圖的比例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2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，一般採用比例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30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剖面圖的意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剖面詳圖的意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面中之線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圖名與圖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剖面詳圖圖面數量的決定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剖示符號的標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14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女兒牆防水層收頭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47920" y="133200"/>
          <a:ext cx="6933960" cy="672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3200"/>
                    <a:ext cx="69339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水溝構造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477800"/>
          <a:ext cx="8534160" cy="496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77800"/>
                    <a:ext cx="8534160" cy="49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陰井構造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219320"/>
          <a:ext cx="8839080" cy="555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83908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609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外牆剖面詳圖範例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0"/>
          <a:ext cx="693432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69343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外牆剖面詳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數量的查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針對一層平面圖或索引圖中的外牆剖示符號進行對照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圖面的查核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依序為：圖面繪製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位置尺寸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形狀尺寸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材料標示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符號註記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38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剖面圖的意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1080" y="76320"/>
          <a:ext cx="66294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76320"/>
                    <a:ext cx="66294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詳圖的意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0"/>
          <a:ext cx="6745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0"/>
                    <a:ext cx="674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剖面圖中線條的涵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76520" y="0"/>
          <a:ext cx="693396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0"/>
                    <a:ext cx="693396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線條的分類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966960"/>
          <a:ext cx="8555040" cy="55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66960"/>
                    <a:ext cx="855504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外牆剖面詳圖數量之決定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143000"/>
          <a:ext cx="8994600" cy="54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946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剖示符號的意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2133720"/>
          <a:ext cx="852624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133720"/>
                    <a:ext cx="85262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外牆剖面詳圖的圖面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繪製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位置尺寸說明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形狀尺寸說明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材料說明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名與圖名號等符號標示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施工圖面查核作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剖面詳圖的圖面繪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範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繪法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外牆剖面詳圖之尺寸標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1)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位置尺寸的標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形狀的尺寸標示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0T07:03:06Z</dcterms:modified>
  <cp:revision>58</cp:revision>
  <dc:subject/>
  <dc:title>施工圖02建築</dc:title>
</cp:coreProperties>
</file>