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239-BF4D-4888-9D94-71A6E10D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598-7578-4E81-AA73-EC04FC3A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6F7-3D00-4623-86DB-0D958769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FFB-B505-49FA-AC71-8882844C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CA30-4B18-4F9A-9471-E08A32B4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F313-2D4C-4934-9101-943E9CC0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C0C7-ED8C-455E-A080-1F274467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3923-51DA-4F23-A054-CF5D8791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5F5F-3664-4903-95F5-4B098549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AD9B-833B-4BED-AA51-335681FC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1971-EA28-4477-937E-D24452F9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F81-0866-4D6B-B8A8-E137EEDB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1794-32B7-410B-95CB-DE4202C0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F1CC-C30C-48A0-B798-6B2705EE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CF76-2263-412F-8A09-B9D13CC4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3BFD-0045-4534-9CB7-7DCC307F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B172-74B4-48C7-A8FF-1859FAAE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308-81FA-4958-B04C-D687D805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685-A52C-4D3F-AF86-C50D4A5E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CDF-1016-480E-B1A8-CA93FFDC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FA2-84DE-4BA4-B2DA-7308C10A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DF7-996B-42B5-BA28-B1C28B1F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977-CF06-4EC2-8BA6-A593D969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C60-4D5C-455B-9FF5-B4A7436E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DD32-5FAD-4D43-8FE8-CB9375B93270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F82D-5342-4E1F-A28D-F41A25152A69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Tahoma"/>
              </a:rPr>
              <a:t>八</a:t>
            </a:r>
            <a:r>
              <a:rPr b="0" lang="zh-TW" sz="48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4800" spc="-1" strike="noStrike">
                <a:solidFill>
                  <a:srgbClr val="ffff00"/>
                </a:solidFill>
                <a:latin typeface="Tahoma"/>
              </a:rPr>
              <a:t>樓梯版配筋詳圖的繪製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通則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梯版配筋詳圖的繪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梯版配筋詳圖的標示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梯版配筋注意事項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梯版配筋詳圖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梁支撐梯版的配筋（例）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0360" y="1843200"/>
          <a:ext cx="8964720" cy="34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360" y="1843200"/>
                    <a:ext cx="89647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梯版轉角小梁的補強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1371600"/>
          <a:ext cx="862956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371600"/>
                    <a:ext cx="86295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五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梯版配筋詳圖的查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數量的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繪製的查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標示的查核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一）混凝土體標示的查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二）鋼筋體標示的查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三）圖面符號的查核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一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通則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比例尺與圖面範圍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版配筋詳圖的比例尺通常為</a:t>
            </a:r>
            <a:r>
              <a:rPr b="1" lang="zh-TW" sz="32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1/3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。梯版配筋詳圖的施工標示內容，需包含圖示之混凝土形狀與其中的配筋狀況 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數量與圖名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梯版配筋詳圖的圖面數量是依據結構平面圖中的梯版種類而定。每一種梯版均應繪製一個梯版配筋標準詳圖 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梯版配筋詳圖的繪製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95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.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混凝土體的繪製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 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2.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鋼筋體的繪製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920" y="2514600"/>
          <a:ext cx="8381880" cy="33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14600"/>
                    <a:ext cx="838188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梯版配筋詳圖的標示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梯版混凝土的標示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梯版鋼筋的標示原則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A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）梯版主筋的標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B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）梯版工作鋼筋的標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C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）轉角補強筋標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D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）梯版配筋尺寸的標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    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）轉台版配筋部分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    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2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）斜版配筋部分：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梯版混凝土的形狀標示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2133720"/>
          <a:ext cx="8915400" cy="32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梯版配筋的尺寸標示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1339920"/>
          <a:ext cx="8534160" cy="50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339920"/>
                    <a:ext cx="853416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梯版配筋詳圖範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990720"/>
          <a:ext cx="8305920" cy="57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8305920" cy="57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四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梯版配筋注意事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結構系統與配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懸臂版式結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梁支撐式結構 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構造注意事項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懸臂式梯版配筋的繪製（例）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2133720"/>
          <a:ext cx="8974080" cy="36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33720"/>
                    <a:ext cx="897408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18T11:21:10Z</dcterms:modified>
  <cp:revision>73</cp:revision>
  <dc:subject/>
  <dc:title>施工圖03結構</dc:title>
</cp:coreProperties>
</file>