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8CB-9438-4C0E-95F0-4665B8D7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7AD-6533-4E2A-9F35-B239EFC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021-8BDA-41A5-80DA-5FB089B5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107-D84B-48FD-B1D1-C72ECDBC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5685-0E02-4989-BFB9-219E64BD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821E-E258-48AD-983C-97E857B5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A638-4062-40AC-BB71-B672B57E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4CF8-B727-4618-9581-747D2FCE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0594-D570-4AC6-A806-7CDDF46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E101-0D18-46B3-84A1-18536060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B92B-0D19-40A5-87CE-F13DA5A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CC9-208F-4A66-9D70-FA744237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5FA2-99E2-4257-B31A-F233BE1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327A-4D0C-4F34-B668-747F8DC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5F46-DB28-4B83-B71B-910FD88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EACD-9545-40F8-AB54-886DEDC0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08BD-8200-4425-84ED-CB6408C1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3A9-89EB-4646-B189-1787DDD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E0D-EBD8-4014-9F0B-1070D23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FB4-0A43-40C2-A303-73AAEDB8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64C-25DE-42B0-9B51-33EEAD5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5BD-B022-4810-A715-8C06969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745-1F9D-435D-B6A3-9FC7805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75F-6DFE-41C5-A546-53B2165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F20-7EF8-4749-BED0-51253A3E7F9B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7DE-9D9A-44A8-8C9A-70BDFFF92D58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三、結構平面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一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通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二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各層結構平面的意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三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結構平面圖的圖面繪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四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結構平面圖的標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五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構造注意事項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六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各層結構平面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結構平面圖的範例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211400"/>
          <a:ext cx="9144000" cy="534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1400"/>
                    <a:ext cx="914400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5400" spc="-1" strike="noStrike">
                <a:solidFill>
                  <a:srgbClr val="e5ffff"/>
                </a:solidFill>
                <a:latin typeface="標楷體"/>
              </a:rPr>
              <a:t>構造注意事項</a:t>
            </a:r>
            <a:r>
              <a:rPr b="1" lang="zh-TW" sz="5400" spc="-1" strike="noStrike">
                <a:solidFill>
                  <a:srgbClr val="e5ffff"/>
                </a:solidFill>
                <a:latin typeface="標楷體"/>
                <a:ea typeface="標楷體"/>
              </a:rPr>
              <a:t>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97144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樓版開口小梁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懸臂版小梁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樓梯轉台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樓版開口小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244520"/>
          <a:ext cx="8305920" cy="52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44520"/>
                    <a:ext cx="830592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懸臂版小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295280"/>
          <a:ext cx="8229600" cy="483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822960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樓梯轉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1066680"/>
          <a:ext cx="6858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6858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六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　各層結構平面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圖面數量的查核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面繪製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尺寸標示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尺寸標示的查核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材料標示的查核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符號標示的查核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5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1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2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，一般採用比例尺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1/1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繪製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示內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包括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FL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以上的柱、承重牆與剪力牆、樓梯、以及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FL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以下的梁、版等，非結構體均不必表示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RC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隔間牆亦同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數量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決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包括最底層至最頂層結構平面圖，也就是每一個樓層均應繪製結構平面圖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名與圖號的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意義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各層結構平面圖的圖面正下方均應標示該圖的圖名號、圖名與比例尺。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圖名與圖號</a:t>
            </a:r>
            <a:r>
              <a:rPr b="1" lang="zh-TW" sz="4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意義</a:t>
            </a: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0600" y="2631960"/>
          <a:ext cx="890424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2631960"/>
                    <a:ext cx="89042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各層結構平面的意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074600"/>
          <a:ext cx="7051680" cy="578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074600"/>
                    <a:ext cx="70516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結構平面圖的圖面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4520" y="1371600"/>
          <a:ext cx="899496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1371600"/>
                    <a:ext cx="8994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ahoma"/>
              </a:rPr>
              <a:t>繪製要領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971800"/>
            <a:ext cx="693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410080"/>
            <a:ext cx="693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981080"/>
            <a:ext cx="0" cy="4114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95288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51460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137160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137160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7432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7432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28195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8195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27432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2004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1814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6386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7432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2004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1814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56386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6688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24852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6688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55308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74320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04812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33412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563868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27432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3048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3123720"/>
            <a:ext cx="350532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5400" spc="-1" strike="noStrike">
                <a:solidFill>
                  <a:srgbClr val="e5ffff"/>
                </a:solidFill>
                <a:latin typeface="標楷體"/>
              </a:rPr>
              <a:t>結構平面圖的標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構件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的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標示方法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構件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形狀與材料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的標示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名與符號的標示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構件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位置的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標示方法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143000"/>
          <a:ext cx="90169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016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形狀與材料的標示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295280"/>
          <a:ext cx="914400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7T06:43:11Z</dcterms:modified>
  <cp:revision>56</cp:revision>
  <dc:subject/>
  <dc:title>施工圖03結構</dc:title>
</cp:coreProperties>
</file>