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F84-DE19-4DB4-AE24-486CAF49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D4F-5AC3-4768-9829-E99E1B73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46F-F41E-4126-85E9-E633178D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3FF-7F91-4628-87BD-8E357565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447D-0592-4887-AFA3-5F649E46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16E2-7535-4C90-A3D7-59B1723A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4D4C-ED1D-423B-A02C-AFE1F233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4D16-5032-4D81-B953-F86AEBDA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EC11-B631-44CF-B41F-E6B29783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3ADF-1511-4384-8F12-29600496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6459-6E22-49BE-8CD2-ACAA66FA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9BE-239E-4EEC-89EA-4A3D9D8C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8CE1-CE3B-48AD-B9EA-1049BA18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91D5-4419-40C1-89FF-A11421C3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84BD-6448-4D54-BA50-A248AF93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0F5E-4804-4C35-8AD0-0ADF35E2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80B2-F046-4CAE-8DC2-BCCFB346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0DF-86B1-4F2E-B8FD-A4D45EFC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0E5-28AC-40EE-B800-431D4A6B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B10-19B3-4574-8B40-30B21255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55C-BD20-48F1-9E18-52039982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D2F-BAAA-4B94-B23D-FAFE13D0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F78-EFB0-41F6-8F39-F5F1F725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5A8-1BAA-4C44-B028-B87DB7F9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BAB2-4D57-4BFC-80B6-32B8FCC68768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7AE0-89B8-4865-8EA6-BF8EADACADB9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三</a:t>
            </a:r>
            <a:r>
              <a:rPr b="0" lang="zh-TW" sz="4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現行施工圖的內容與表達方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建築施工圖內容概要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結構施工圖內容概要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三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設備施工圖內容概要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5400" spc="-1" strike="noStrike">
                <a:solidFill>
                  <a:srgbClr val="e5ffff"/>
                </a:solidFill>
                <a:latin typeface="Tahoma"/>
              </a:rPr>
              <a:t>一</a:t>
            </a:r>
            <a:r>
              <a:rPr b="0" lang="zh-TW" sz="5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5400" spc="-1" strike="noStrike">
                <a:solidFill>
                  <a:srgbClr val="e5ffff"/>
                </a:solidFill>
                <a:latin typeface="新細明體"/>
              </a:rPr>
              <a:t>建築施工圖內容概要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251460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1</a:t>
            </a:r>
            <a:r>
              <a:rPr b="0" lang="zh-TW" sz="40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圖面表達內容概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結構體、填充體、裝修體、飾面體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2</a:t>
            </a:r>
            <a:r>
              <a:rPr b="0" lang="zh-TW" sz="40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施工圖的圖面構成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</a:rPr>
              <a:t>現行建築施工圖的圖面構成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新細明體"/>
              </a:rPr>
              <a:t>封面圖：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╱</a:t>
            </a:r>
            <a:r>
              <a:rPr b="0" lang="zh-TW" sz="3200" spc="-1" strike="noStrike">
                <a:solidFill>
                  <a:srgbClr val="ffff00"/>
                </a:solidFill>
                <a:latin typeface="新細明體"/>
              </a:rPr>
              <a:t>建築施工圖目錄索引表：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新細明體"/>
              </a:rPr>
              <a:t>一般事項與規定說明圖：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新細明體"/>
              </a:rPr>
              <a:t>位置圖：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╱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200" spc="-1" strike="noStrike">
                <a:solidFill>
                  <a:srgbClr val="ffff00"/>
                </a:solidFill>
                <a:latin typeface="新細明體"/>
              </a:rPr>
              <a:t>現況圖、地籍圖：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╱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200" spc="-1" strike="noStrike">
                <a:solidFill>
                  <a:srgbClr val="ffff00"/>
                </a:solidFill>
                <a:latin typeface="新細明體"/>
              </a:rPr>
              <a:t>配置圖：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新細明體"/>
              </a:rPr>
              <a:t>面積計算表：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╱</a:t>
            </a:r>
            <a:r>
              <a:rPr b="0" lang="zh-TW" sz="3200" spc="-1" strike="noStrike">
                <a:solidFill>
                  <a:srgbClr val="ffff00"/>
                </a:solidFill>
                <a:latin typeface="新細明體"/>
              </a:rPr>
              <a:t>日照圖與日照分析表：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新細明體"/>
              </a:rPr>
              <a:t>各層平面圖：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比例尺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1/50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1/100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1/200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新細明體"/>
              </a:rPr>
              <a:t>各向立面圖：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比例尺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1/50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1/100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1/200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新細明體"/>
              </a:rPr>
              <a:t>外牆剖面詳圖：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比例尺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50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30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0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新細明體"/>
              </a:rPr>
              <a:t>樓梯剖面詳圖：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比例尺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50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30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0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新細明體"/>
              </a:rPr>
              <a:t>門窗詳圖：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╱</a:t>
            </a:r>
            <a:r>
              <a:rPr b="0" lang="zh-TW" sz="3200" spc="-1" strike="noStrike">
                <a:solidFill>
                  <a:srgbClr val="ffff00"/>
                </a:solidFill>
                <a:latin typeface="新細明體"/>
              </a:rPr>
              <a:t>粉刷表：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╱</a:t>
            </a:r>
            <a:r>
              <a:rPr b="0" lang="zh-TW" sz="3200" spc="-1" strike="noStrike">
                <a:solidFill>
                  <a:srgbClr val="ffff00"/>
                </a:solidFill>
                <a:latin typeface="新細明體"/>
              </a:rPr>
              <a:t>細部大樣詳圖：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二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結構施工圖內容概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結構施工圖封面圖：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╱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結構施工圖目錄圖： </a:t>
            </a:r>
            <a:r>
              <a:rPr b="1" lang="zh-TW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一般事項與規定說明圖：</a:t>
            </a:r>
            <a:r>
              <a:rPr b="1" lang="zh-TW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各層結構平面圖：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比例尺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/5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/10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/20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基礎配筋詳圖：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比例尺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5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3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柱配筋詳圖：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比例尺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5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3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0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梁配筋詳圖：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比例尺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5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3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0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版配筋詳圖：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比例尺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5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30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0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樓梯配筋詳圖：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╱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牆配筋詳圖：</a:t>
            </a:r>
            <a:r>
              <a:rPr b="1" lang="zh-TW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其他非結構體配筋詳圖：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╱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補強詳圖：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三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設備施工圖內容概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細分包括：電器設備施工圖、給排水設備施工圖、空調設備施工圖、消防設備施工圖、動力設備施工圖、以及弱電設備施工圖等等。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封面圖： </a:t>
            </a:r>
            <a:r>
              <a:rPr b="0" lang="zh-TW" sz="28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╱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目錄圖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一般事項與規定說明圖：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電器設備施工圖：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給排水設備施工圖：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空調設備施工圖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其他設備施工圖：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包括消防、電梯、廣播、視訊等特殊目的的設備施工圖，大多以平面圖方式表達，一般採用比例尺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1/100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繪製。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3:47Z</dcterms:created>
  <dc:creator>min</dc:creator>
  <dc:description/>
  <dc:language>en-US</dc:language>
  <cp:lastModifiedBy>706</cp:lastModifiedBy>
  <dcterms:modified xsi:type="dcterms:W3CDTF">2004-01-19T02:20:28Z</dcterms:modified>
  <cp:revision>45</cp:revision>
  <dc:subject/>
  <dc:title>施工圖01觀念</dc:title>
</cp:coreProperties>
</file>