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A89-67A2-49A9-AC4F-49074F54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706-1680-44F3-813C-DF18919B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E66-A376-43A2-8728-CA486C03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E1F-F371-4E39-AA4C-0703DF89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2ABF-CF85-4556-BAA7-A3D43CBD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66D7-5D08-497E-8FF2-D8A45116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B15D-F943-4131-A9B8-4611ED95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BB12-34A2-48AD-9147-20A0C1BA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9673-2EDC-4CCB-96A6-5E18461A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C350-B391-4116-895E-B37E6948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45CE-CC2B-403B-8C58-25432C5B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556-1084-4047-B847-E8C8C4F8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3D83-F813-4C73-B197-96436171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E5AA-9464-4E88-AAE1-8AC44901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F18C-5E6B-4885-A562-5AE0BBB4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ADA6-7D80-4562-8E97-010CE6D2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6A1A-F4B8-43F7-969C-BDC14FA9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C86-6BF2-4C95-A634-A4ADA82D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AA5-A66A-4FE3-BC34-551A7203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B8E-E388-4BAC-93C5-1DC03489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3F6-F98F-4168-8A2A-03D6E621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D99-637E-47E0-90B7-079F1DF6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64A-B3DF-4002-9BD2-5CBA305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B15-E5B1-495A-95C0-3A358122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3B1E-B684-49C9-BBBD-9D2A028C076A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358E-B582-45F6-857A-CE09DB1091B5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二</a:t>
            </a:r>
            <a:r>
              <a:rPr b="0" lang="zh-TW" sz="5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基礎結構平面圖的繪製</a:t>
            </a:r>
            <a:r>
              <a:rPr b="1" lang="zh-TW" sz="5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通則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基礎結構平面圖的意義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基礎結構平面圖的繪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基礎結構平面圖的標示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基礎結構平面圖的查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形狀的尺寸標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4520" y="838080"/>
          <a:ext cx="8994960" cy="593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20" y="838080"/>
                    <a:ext cx="8994960" cy="59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構件名稱的標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4520" y="838080"/>
          <a:ext cx="8994960" cy="593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20" y="838080"/>
                    <a:ext cx="8994960" cy="59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圖名與符號的標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981080"/>
          <a:ext cx="8904240" cy="15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81080"/>
                    <a:ext cx="890424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23920" y="4800600"/>
          <a:ext cx="8920080" cy="130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3920" y="4800600"/>
                    <a:ext cx="892008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基礎結構平面圖範例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2280" y="911160"/>
          <a:ext cx="8991720" cy="594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11160"/>
                    <a:ext cx="8991720" cy="59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五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基礎結構平面圖的查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圖面繪製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位置尺寸標示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形狀尺寸標示的查核</a:t>
            </a:r>
            <a:r>
              <a:rPr b="1" lang="zh-TW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材料標示的查核</a:t>
            </a:r>
            <a:r>
              <a:rPr b="1" lang="zh-TW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符號標示的查核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圖面繪製的查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依構件項目進行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「構架線」→「柱心線與輪廓線條」→「梁心線與輪廓線條」→「樓梯輪廓線條、樓版開口線條」→「牆心線與輪廓線條」→「基礎輪廓線條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00"/>
                </a:solidFill>
                <a:latin typeface="新細明體"/>
              </a:rPr>
              <a:t>依由左而右，由上而下順序進行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位置尺寸標示的查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1</a:t>
            </a:r>
            <a:r>
              <a:rPr b="1" lang="zh-TW" sz="32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、圖面外的尺寸系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圖面外側的尺寸標示至少應有四側，可依順時針方向，逐外牆側進行查核，每側的尺寸查核需配合建築平面圖來進行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2</a:t>
            </a:r>
            <a:r>
              <a:rPr b="1" lang="zh-TW" sz="32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、圖面內的尺寸查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內柱的位置尺寸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梁的位置尺寸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牆位的尺寸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版（含樓梯版）的位置尺寸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基礎版的尺寸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形狀尺寸標示的查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00"/>
                </a:solidFill>
                <a:latin typeface="新細明體"/>
                <a:ea typeface="Times New Roman"/>
              </a:rPr>
              <a:t>查核順序為柱→梁→牆→版→基礎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柱形狀尺寸查核：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梁形狀尺寸的查核：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牆形狀的查核：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版與基礎的形狀尺寸的查核：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一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通則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比例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/5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/10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/20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，一般採用比例尺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1/10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繪製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圖示內容與圖面數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基礎結構平圖的圖面數量只有一個，若地面有高差時，高差在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公尺內仍以同一圖面表示。高差若大於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公尺時，則每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公尺為一高程，各繪製一基礎結構平面圖，並以高程符號（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GL﹣30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GL﹣600…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）標示出各基礎結構平面圖的位置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圖名與圖號的標示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基礎結構平面圖若與一層結構平面圖合併表示時，其圖名為「基礎（一層）結構平面圖」，否則圖面名稱為「基礎結構平面圖」。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基礎結構平面圖的數量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1447920"/>
          <a:ext cx="838224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447920"/>
                    <a:ext cx="83822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新細明體"/>
              </a:rPr>
              <a:t>圖名與圖號</a:t>
            </a:r>
            <a:r>
              <a:rPr b="1" lang="zh-TW" sz="4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的意義</a:t>
            </a:r>
            <a:r>
              <a:rPr b="1" lang="zh-TW" sz="48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3657600"/>
          <a:ext cx="8904240" cy="15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657600"/>
                    <a:ext cx="890424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基礎結構平面圖的意義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5520" y="1752480"/>
          <a:ext cx="8988480" cy="464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20" y="1752480"/>
                    <a:ext cx="898848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基礎結構平面圖的繪製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4520" y="914400"/>
          <a:ext cx="8994960" cy="585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20" y="914400"/>
                    <a:ext cx="899496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Tahoma"/>
              </a:rPr>
              <a:t>繪製要領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971800"/>
            <a:ext cx="6933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5410080"/>
            <a:ext cx="6933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1981080"/>
            <a:ext cx="0" cy="4114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1981080"/>
            <a:ext cx="0" cy="4114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952880"/>
            <a:ext cx="914400" cy="91440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標楷體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2514600"/>
            <a:ext cx="914400" cy="91440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標楷體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1371600"/>
            <a:ext cx="914400" cy="91440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標楷體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1371600"/>
            <a:ext cx="914400" cy="91440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標楷體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274320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274320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8195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28195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274320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320040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518148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563868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274320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320040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18148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563868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362320" y="27432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666880" y="27432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248520" y="27432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553080" y="27432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62320" y="51814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666880" y="51814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553080" y="51814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2743200"/>
            <a:ext cx="358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3048120"/>
            <a:ext cx="358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5334120"/>
            <a:ext cx="358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5638680"/>
            <a:ext cx="358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4382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4290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4290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4382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2438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3048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27432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3048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56386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666880" y="3123720"/>
            <a:ext cx="3505320" cy="221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四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基礎結構平面圖的標示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位置的尺寸標示</a:t>
            </a:r>
            <a:r>
              <a:rPr b="1" lang="zh-TW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形狀的尺寸標示</a:t>
            </a:r>
            <a:r>
              <a:rPr b="1" lang="zh-TW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構件名稱的標示</a:t>
            </a:r>
            <a:r>
              <a:rPr b="1" lang="zh-TW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圖名與符號的標示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位置的尺寸標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4520" y="990720"/>
          <a:ext cx="8994960" cy="57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20" y="990720"/>
                    <a:ext cx="8994960" cy="57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17T06:42:15Z</dcterms:modified>
  <cp:revision>56</cp:revision>
  <dc:subject/>
  <dc:title>施工圖03結構</dc:title>
</cp:coreProperties>
</file>