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634-C9E0-45C9-AF4E-96988AB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12E-5610-4B35-BFEA-EF9493F9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73E-8B8C-49C9-BFE0-9250CEF8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A27-749A-4C92-96BE-9B2F89A2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8C2B-4085-4C0F-9FF1-B51FCD51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F974-07C2-4BC9-922B-A49E57A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6E1B-539F-4D56-8174-A4BF769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B720-3566-4999-87AB-208FED06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FAE-B13F-4762-B0D2-8395CC1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8422-FB63-4279-90B5-97AD45DD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10D-C783-4A31-8893-6D50B81C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B34-8182-4813-9A81-B496363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7A3-9DE8-4AB0-8EE8-4981653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59EE-AACD-4E62-B36C-742FEF2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D7A9-ADD3-4C1C-AECA-77B63B3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9A37-27A7-4CE8-81D8-BF6FA9F8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DE33-EB9B-41EC-ADF0-7150668E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0CB-26E6-4379-A7D8-C04FCB05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486-A90F-4E11-B102-F1395316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598-A7EC-4DE7-80A6-3F5C99E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AC-A306-426C-97A6-D9ACD0D1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5A0-C6EA-4FBF-862C-052E211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906-72A5-43BC-BDFA-BAEB16E8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6B2-B3BC-4ABA-BA8C-4D35089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E9B0-0B14-45FD-BA31-8C4CAE49E39E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5AB-2AF6-4591-9670-ABA681CA9B4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七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粉刷表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360" y="25905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粉刷表的意義與功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粉刷表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的繪製與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範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粉刷表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800" spc="-1" strike="noStrike">
                <a:solidFill>
                  <a:srgbClr val="e5ffff"/>
                </a:solidFill>
                <a:latin typeface="新細明體"/>
              </a:rPr>
              <a:t>粉刷表的意義與功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粉刷表的意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在一張表格中，用以顯示出建築物中各空間內部的全部飾面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粉刷與塗刷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狀況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粉刷表的格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以表格方式表現，通常是以總空間數或總材料種類數來考慮表格欄位內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粉刷表的比例尺與繪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粉刷表為無比例尺﹙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NIS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的表格，通常水平格線的間距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0.7~1.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公分，垂直格線的間距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0.6~0.8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公分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8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粉刷表的格式與內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76320"/>
          <a:ext cx="678204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76320"/>
                    <a:ext cx="67820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800" spc="-1" strike="noStrike">
                <a:solidFill>
                  <a:srgbClr val="e5ffff"/>
                </a:solidFill>
                <a:latin typeface="新細明體"/>
              </a:rPr>
              <a:t>粉刷表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的繪製與</a:t>
            </a:r>
            <a:r>
              <a:rPr b="1" lang="zh-TW" sz="4800" spc="-1" strike="noStrike">
                <a:solidFill>
                  <a:srgbClr val="e5ffff"/>
                </a:solidFill>
                <a:latin typeface="新細明體"/>
              </a:rPr>
              <a:t>範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繪製前的整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應彙整建築物中的所有空間名稱與編號、全部粉刷材料名稱與裝修構造名稱，以便決定表格大小及確定欄位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粉刷表與裝修材料的繪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根據空間名稱與編號、粉刷材料與裝修名稱數目來決定欄位的安排，一般是數目較多的欄位置於上方，數目較少的欄位置於左方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粉刷表範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17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粉刷表範例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0"/>
          <a:ext cx="6858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800" spc="-1" strike="noStrike">
                <a:solidFill>
                  <a:srgbClr val="e5ffff"/>
                </a:solidFill>
                <a:latin typeface="新細明體"/>
              </a:rPr>
              <a:t>粉刷表的查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表格繪製的查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採先水平線，後垂直線的方式進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欄位名稱的查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樓層別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空間名稱與編號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材料名稱 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圈選欄內的記號查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以空間欄為準，查核各空間內是否圈選了地面、踢腳或台度、牆面、平頂或天花板等四個圈號。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1T00:15:38Z</dcterms:modified>
  <cp:revision>74</cp:revision>
  <dc:subject/>
  <dc:title>施工圖02建築</dc:title>
</cp:coreProperties>
</file>