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6CD1-8BAD-4DB8-93C4-807C1C6BD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B53C-ACF4-4552-B7A4-6D6EB415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D195-BC93-4707-96CE-B3FFD51C2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9953-51D2-4C82-91AD-CB4090775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977D-9E84-41B9-93C5-DAD568EAF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91CD-1140-4E0A-854A-67EA9220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2A8D-88A8-4B0F-8183-327E16BB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870F-9F65-43E1-92F3-4DB88182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7AC7-68C0-4DC9-9C23-F8CBF537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4BAE-47DF-40DD-BEE3-DF5DBC8F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BE8F-BE4D-4A6A-8CC3-2FD0C153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9BFC-B347-44F2-97D7-2E29CCBA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A6BB-D1DE-48D3-A567-B1F27D7F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DB36-664B-439B-8074-BEC47448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C1D0-945F-4670-8410-F2731278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F481-A8D7-497B-8831-0A558F729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5018-3A53-4F44-A004-F98F4D6FE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236F-90DD-46A7-860B-25BAA364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583D-0BC4-4516-AA8E-1B111E22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25BF-5AF1-47A3-B816-BF054D33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F353-6E72-402A-9E30-701349F8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6F7B-3796-417E-9C48-BEE49533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DBBD-D126-4F38-AD27-E8EA8D79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815F-A87E-428E-94B3-E187BAA1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CFF3-93D7-451F-88D1-06B376A9AD3F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DCAE-D3CD-4513-8C87-9C911C5E42A0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00"/>
                </a:solidFill>
                <a:latin typeface="新細明體"/>
              </a:rPr>
              <a:t>二</a:t>
            </a:r>
            <a:r>
              <a:rPr b="0" lang="zh-TW" sz="5400" spc="-1" strike="noStrike">
                <a:solidFill>
                  <a:srgbClr val="ffff00"/>
                </a:solidFill>
                <a:latin typeface="Tahoma"/>
              </a:rPr>
              <a:t>、</a:t>
            </a:r>
            <a:r>
              <a:rPr b="1" lang="zh-TW" sz="5400" spc="-1" strike="noStrike">
                <a:solidFill>
                  <a:srgbClr val="ffff00"/>
                </a:solidFill>
                <a:latin typeface="新細明體"/>
              </a:rPr>
              <a:t>施工圖的基本原理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一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建築師業務中的施工圖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二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施工圖中所要表達的內容性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三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施工圖的表達原理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四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構件位置的說明原理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五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構件形狀的說明原理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六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構件材料的說明原理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直交排列線形構件的位置表示方法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1905120"/>
          <a:ext cx="9001080" cy="392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05120"/>
                    <a:ext cx="9001080" cy="39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619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非直交排列線形構件位置表示法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371600" y="990720"/>
          <a:ext cx="6629400" cy="569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990720"/>
                    <a:ext cx="6629400" cy="56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圓弧形牆的位置表示法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143000" y="1143000"/>
          <a:ext cx="6553080" cy="557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143000"/>
                    <a:ext cx="655308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自由形體位置表示法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752480" y="1147680"/>
          <a:ext cx="5715000" cy="571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147680"/>
                    <a:ext cx="5715000" cy="57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矩形面構件位置表示法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38080" y="1266840"/>
          <a:ext cx="7543800" cy="534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266840"/>
                    <a:ext cx="7543800" cy="53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非直交矩形面構件位置表示法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447920" y="1066680"/>
          <a:ext cx="6248160" cy="579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066680"/>
                    <a:ext cx="624816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非矩形面構件位置表示法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676520" y="1295280"/>
          <a:ext cx="5867280" cy="556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295280"/>
                    <a:ext cx="58672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圓形面構件位置表示法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676520" y="1143000"/>
          <a:ext cx="6172200" cy="556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143000"/>
                    <a:ext cx="61722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自由形面構件表示法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0" y="892080"/>
          <a:ext cx="8999640" cy="596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892080"/>
                    <a:ext cx="8999640" cy="596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位置標示的判準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762120" y="1523880"/>
          <a:ext cx="7562880" cy="496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523880"/>
                    <a:ext cx="7562880" cy="49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一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新細明體"/>
                <a:ea typeface="Times New Roman"/>
              </a:rPr>
              <a:t>建築師業務中的施工圖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0" y="1752480"/>
          <a:ext cx="8915400" cy="473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52480"/>
                    <a:ext cx="8915400" cy="47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五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新細明體"/>
                <a:ea typeface="Times New Roman"/>
              </a:rPr>
              <a:t>構件形狀的說明原理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1" lang="zh-TW" sz="3600" spc="-1" strike="noStrike">
                <a:solidFill>
                  <a:srgbClr val="ffff00"/>
                </a:solidFill>
                <a:latin typeface="Tahoma"/>
              </a:rPr>
              <a:t>A</a:t>
            </a:r>
            <a:r>
              <a:rPr b="0" lang="zh-TW" sz="3600" spc="-1" strike="noStrike">
                <a:solidFill>
                  <a:srgbClr val="ffff00"/>
                </a:solidFill>
                <a:latin typeface="Tahoma"/>
              </a:rPr>
              <a:t>)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點形構件的形狀表示原理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       ﹙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1﹚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長方形柱的形狀標示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       ﹙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2﹚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圓形柱的形狀標示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1" lang="zh-TW" sz="3600" spc="-1" strike="noStrike">
                <a:solidFill>
                  <a:srgbClr val="ffff00"/>
                </a:solidFill>
                <a:latin typeface="Tahoma"/>
              </a:rPr>
              <a:t>B</a:t>
            </a:r>
            <a:r>
              <a:rPr b="0" lang="zh-TW" sz="3600" spc="-1" strike="noStrike">
                <a:solidFill>
                  <a:srgbClr val="ffff00"/>
                </a:solidFill>
                <a:latin typeface="Tahoma"/>
              </a:rPr>
              <a:t>)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線形構件形狀的表示方法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1" lang="zh-TW" sz="36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0" lang="zh-TW" sz="3600" spc="-1" strike="noStrike">
                <a:solidFill>
                  <a:srgbClr val="ffff00"/>
                </a:solidFill>
                <a:latin typeface="Tahoma"/>
              </a:rPr>
              <a:t>)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面形構件的形狀標示方法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矩形柱的形狀標示方法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209680" y="1066680"/>
          <a:ext cx="5639040" cy="563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1066680"/>
                    <a:ext cx="563904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圓形柱形狀標示方法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143000" y="1282680"/>
          <a:ext cx="7010280" cy="546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282680"/>
                    <a:ext cx="7010280" cy="54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線形構件形狀表示方法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1143000"/>
          <a:ext cx="8991720" cy="543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43000"/>
                    <a:ext cx="8991720" cy="54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面形構件形狀表示方法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1295280"/>
          <a:ext cx="8991720" cy="522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95280"/>
                    <a:ext cx="8991720" cy="52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六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新細明體"/>
                <a:ea typeface="Times New Roman"/>
              </a:rPr>
              <a:t>構件材料的說明原理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1629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1" lang="zh-TW" sz="3600" spc="-1" strike="noStrike">
                <a:solidFill>
                  <a:srgbClr val="ffff00"/>
                </a:solidFill>
                <a:latin typeface="Tahoma"/>
              </a:rPr>
              <a:t>A</a:t>
            </a:r>
            <a:r>
              <a:rPr b="0" lang="zh-TW" sz="3600" spc="-1" strike="noStrike">
                <a:solidFill>
                  <a:srgbClr val="ffff00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結構體的材料表示法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1" lang="zh-TW" sz="3600" spc="-1" strike="noStrike">
                <a:solidFill>
                  <a:srgbClr val="ffff00"/>
                </a:solidFill>
                <a:latin typeface="Tahoma"/>
              </a:rPr>
              <a:t>B</a:t>
            </a:r>
            <a:r>
              <a:rPr b="0" lang="zh-TW" sz="3600" spc="-1" strike="noStrike">
                <a:solidFill>
                  <a:srgbClr val="ffff00"/>
                </a:solidFill>
                <a:latin typeface="Tahoma"/>
              </a:rPr>
              <a:t>)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填充體的材料表示法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1" lang="zh-TW" sz="36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0" lang="zh-TW" sz="3600" spc="-1" strike="noStrike">
                <a:solidFill>
                  <a:srgbClr val="ffff00"/>
                </a:solidFill>
                <a:latin typeface="Tahoma"/>
              </a:rPr>
              <a:t>)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裝修體的材料表示法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1" lang="zh-TW" sz="3600" spc="-1" strike="noStrike">
                <a:solidFill>
                  <a:srgbClr val="ffff00"/>
                </a:solidFill>
                <a:latin typeface="Tahoma"/>
              </a:rPr>
              <a:t>D</a:t>
            </a:r>
            <a:r>
              <a:rPr b="0" lang="zh-TW" sz="3600" spc="-1" strike="noStrike">
                <a:solidFill>
                  <a:srgbClr val="ffff00"/>
                </a:solidFill>
                <a:latin typeface="Tahoma"/>
              </a:rPr>
              <a:t>)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飾面體的材料表示法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結構體材料標示法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28600" y="1295280"/>
          <a:ext cx="8597880" cy="501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295280"/>
                    <a:ext cx="8597880" cy="50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填充體材料表示法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04920" y="1866960"/>
          <a:ext cx="8458200" cy="446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866960"/>
                    <a:ext cx="8458200" cy="44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裝修體材料表示法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1295280"/>
          <a:ext cx="8959680" cy="503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95280"/>
                    <a:ext cx="8959680" cy="50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粉刷體表示法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04920" y="1371600"/>
          <a:ext cx="8370720" cy="507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371600"/>
                    <a:ext cx="837072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ffff"/>
                </a:solidFill>
                <a:latin typeface="新細明體"/>
              </a:rPr>
              <a:t>施工圖在</a:t>
            </a:r>
            <a:r>
              <a:rPr b="1" lang="zh-TW" sz="4400" spc="-1" strike="noStrike">
                <a:solidFill>
                  <a:srgbClr val="e5ffff"/>
                </a:solidFill>
                <a:latin typeface="標楷體"/>
              </a:rPr>
              <a:t>課程中之系統定位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2057400"/>
            <a:ext cx="12956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66"/>
                </a:solidFill>
                <a:latin typeface="Times New Roman"/>
              </a:rPr>
              <a:t>規劃階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52680" y="2057400"/>
            <a:ext cx="388620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66"/>
                </a:solidFill>
                <a:latin typeface="Times New Roman"/>
              </a:rPr>
              <a:t>設計階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2666880"/>
            <a:ext cx="420840" cy="14511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66"/>
                </a:solidFill>
                <a:latin typeface="Times New Roman"/>
              </a:rPr>
              <a:t>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66"/>
                </a:solidFill>
                <a:latin typeface="Times New Roman"/>
              </a:rPr>
              <a:t>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66"/>
                </a:solidFill>
                <a:latin typeface="Times New Roman"/>
              </a:rPr>
              <a:t>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66"/>
                </a:solidFill>
                <a:latin typeface="Times New Roman"/>
              </a:rPr>
              <a:t>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2666880"/>
            <a:ext cx="420480" cy="14511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66"/>
                </a:solidFill>
                <a:latin typeface="Times New Roman"/>
              </a:rPr>
              <a:t>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66"/>
                </a:solidFill>
                <a:latin typeface="Times New Roman"/>
              </a:rPr>
              <a:t>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66"/>
                </a:solidFill>
                <a:latin typeface="Times New Roman"/>
              </a:rPr>
              <a:t>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66"/>
                </a:solidFill>
                <a:latin typeface="Times New Roman"/>
              </a:rPr>
              <a:t>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2666880"/>
            <a:ext cx="420840" cy="14511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66"/>
                </a:solidFill>
                <a:latin typeface="Times New Roman"/>
              </a:rPr>
              <a:t>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66"/>
                </a:solidFill>
                <a:latin typeface="Times New Roman"/>
              </a:rPr>
              <a:t>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66"/>
                </a:solidFill>
                <a:latin typeface="Times New Roman"/>
              </a:rPr>
              <a:t>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66"/>
                </a:solidFill>
                <a:latin typeface="Times New Roman"/>
              </a:rPr>
              <a:t>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2666880"/>
            <a:ext cx="420480" cy="14511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66"/>
                </a:solidFill>
                <a:latin typeface="Times New Roman"/>
              </a:rPr>
              <a:t>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66"/>
                </a:solidFill>
                <a:latin typeface="Times New Roman"/>
              </a:rPr>
              <a:t>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66"/>
                </a:solidFill>
                <a:latin typeface="Times New Roman"/>
              </a:rPr>
              <a:t>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66"/>
                </a:solidFill>
                <a:latin typeface="Times New Roman"/>
              </a:rPr>
              <a:t>畫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4724280"/>
            <a:ext cx="762120" cy="1451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67080" y="4724280"/>
            <a:ext cx="420840" cy="1451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ff00"/>
                </a:solidFill>
                <a:latin typeface="Times New Roman"/>
              </a:rPr>
              <a:t>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ff00"/>
                </a:solidFill>
                <a:latin typeface="Times New Roman"/>
              </a:rPr>
              <a:t>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ff00"/>
                </a:solidFill>
                <a:latin typeface="Times New Roman"/>
              </a:rPr>
              <a:t>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4724280"/>
            <a:ext cx="420480" cy="1451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4724280"/>
            <a:ext cx="420840" cy="1451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4724280"/>
            <a:ext cx="420840" cy="1451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62320" y="4724280"/>
            <a:ext cx="420480" cy="1451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畫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4724280"/>
            <a:ext cx="420840" cy="1451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畫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2666880"/>
            <a:ext cx="457200" cy="14511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66"/>
                </a:solidFill>
                <a:latin typeface="Times New Roman"/>
              </a:rPr>
              <a:t>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66"/>
                </a:solidFill>
                <a:latin typeface="Times New Roman"/>
              </a:rPr>
              <a:t>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66"/>
                </a:solidFill>
                <a:latin typeface="Times New Roman"/>
              </a:rPr>
              <a:t>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66"/>
                </a:solidFill>
                <a:latin typeface="Times New Roman"/>
              </a:rPr>
              <a:t>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2666880"/>
            <a:ext cx="914400" cy="3429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848720" y="2666880"/>
            <a:ext cx="914400" cy="35053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4343400"/>
            <a:ext cx="67057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142640" y="4572000"/>
            <a:ext cx="6705720" cy="0"/>
          </a:xfrm>
          <a:prstGeom prst="line">
            <a:avLst/>
          </a:prstGeom>
          <a:ln w="76320">
            <a:solidFill>
              <a:srgbClr val="cc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1371600"/>
            <a:ext cx="3048120" cy="45720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5ffff"/>
                </a:solidFill>
                <a:latin typeface="新細明體"/>
                <a:ea typeface="Times New Roman"/>
              </a:rPr>
              <a:t>(</a:t>
            </a:r>
            <a:r>
              <a:rPr b="0" lang="zh-TW" sz="2400" spc="-1" strike="noStrike">
                <a:solidFill>
                  <a:srgbClr val="e5ffff"/>
                </a:solidFill>
                <a:latin typeface="新細明體"/>
                <a:ea typeface="Times New Roman"/>
              </a:rPr>
              <a:t>建築師業務</a:t>
            </a:r>
            <a:r>
              <a:rPr b="0" lang="zh-TW" sz="2400" spc="-1" strike="noStrike">
                <a:solidFill>
                  <a:srgbClr val="e5ffff"/>
                </a:solidFill>
                <a:latin typeface="新細明體"/>
              </a:rPr>
              <a:t>流程取向</a:t>
            </a:r>
            <a:r>
              <a:rPr b="0" lang="zh-TW" sz="2400" spc="-1" strike="noStrike">
                <a:solidFill>
                  <a:srgbClr val="e5ffff"/>
                </a:solidFill>
                <a:latin typeface="新細明體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71800" y="6400800"/>
            <a:ext cx="3048120" cy="4572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5ffff"/>
                </a:solidFill>
                <a:latin typeface="新細明體"/>
                <a:ea typeface="Times New Roman"/>
              </a:rPr>
              <a:t>(</a:t>
            </a:r>
            <a:r>
              <a:rPr b="0" lang="zh-TW" sz="2400" spc="-1" strike="noStrike">
                <a:solidFill>
                  <a:srgbClr val="e5ffff"/>
                </a:solidFill>
                <a:latin typeface="新細明體"/>
                <a:ea typeface="Times New Roman"/>
              </a:rPr>
              <a:t>建築</a:t>
            </a:r>
            <a:r>
              <a:rPr b="0" lang="zh-TW" sz="2400" spc="-1" strike="noStrike">
                <a:solidFill>
                  <a:srgbClr val="e5ffff"/>
                </a:solidFill>
                <a:latin typeface="新細明體"/>
              </a:rPr>
              <a:t>課程之流程取向</a:t>
            </a:r>
            <a:r>
              <a:rPr b="0" lang="zh-TW" sz="2400" spc="-1" strike="noStrike">
                <a:solidFill>
                  <a:srgbClr val="e5ffff"/>
                </a:solidFill>
                <a:latin typeface="新細明體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ffff"/>
                </a:solidFill>
                <a:latin typeface="Tahoma"/>
              </a:rPr>
              <a:t>The End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二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新細明體"/>
                <a:ea typeface="Times New Roman"/>
              </a:rPr>
              <a:t>施工圖中所要表達的內容性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施工圖絕對不是一般繪圖工程師所誤解的「設計圖加上空間尺寸標示」的圖面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施工圖具有轉化抽象物為具體物的特性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施工圖所要表達的內容是整棟建築物中每一個構件的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位置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與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形狀尺寸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，以及所使用的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材料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。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010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三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新細明體"/>
                <a:ea typeface="Times New Roman"/>
              </a:rPr>
              <a:t>施工圖的表達原理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73152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清楚表達</a:t>
            </a:r>
            <a:r>
              <a:rPr b="1" lang="zh-TW" sz="4000" spc="-1" strike="noStrike">
                <a:solidFill>
                  <a:srgbClr val="ffcc00"/>
                </a:solidFill>
                <a:latin typeface="新細明體"/>
              </a:rPr>
              <a:t>每一構件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的</a:t>
            </a: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位置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、</a:t>
            </a: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形狀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與</a:t>
            </a: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材料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就是施工圖繪製的基本原理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Ex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：訂製一件服裝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四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新細明體"/>
                <a:ea typeface="Times New Roman"/>
              </a:rPr>
              <a:t>構件位置的說明原理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1" lang="zh-TW" sz="3200" spc="-1" strike="noStrike">
                <a:solidFill>
                  <a:srgbClr val="ffff00"/>
                </a:solidFill>
                <a:latin typeface="Tahoma"/>
              </a:rPr>
              <a:t>A</a:t>
            </a:r>
            <a:r>
              <a:rPr b="0" lang="zh-TW" sz="3200" spc="-1" strike="noStrike">
                <a:solidFill>
                  <a:srgbClr val="ffff00"/>
                </a:solidFill>
                <a:latin typeface="Tahoma"/>
              </a:rPr>
              <a:t>)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點形構件的位置表示法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1" lang="zh-TW" sz="3200" spc="-1" strike="noStrike">
                <a:solidFill>
                  <a:srgbClr val="ffff00"/>
                </a:solidFill>
                <a:latin typeface="Tahoma"/>
              </a:rPr>
              <a:t>B</a:t>
            </a:r>
            <a:r>
              <a:rPr b="0" lang="zh-TW" sz="3200" spc="-1" strike="noStrike">
                <a:solidFill>
                  <a:srgbClr val="ffff00"/>
                </a:solidFill>
                <a:latin typeface="Tahoma"/>
              </a:rPr>
              <a:t>)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線形構件的位置表示法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     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﹙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1﹚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直交牆的標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          ﹙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2﹚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非直交牆的標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          ﹙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3﹚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圓弧牆的標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          ﹙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4﹚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自由形曲牆的標示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1" lang="zh-TW" sz="32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0" lang="zh-TW" sz="3200" spc="-1" strike="noStrike">
                <a:solidFill>
                  <a:srgbClr val="ffff00"/>
                </a:solidFill>
                <a:latin typeface="Tahoma"/>
              </a:rPr>
              <a:t>)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面形構件的位置表示方法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       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﹙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1﹚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長方形直交構件的標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      ﹙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2﹚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長方形非直交構件的標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       ﹙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3﹚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複雜形狀構件的標示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1" lang="zh-TW" sz="3200" spc="-1" strike="noStrike">
                <a:solidFill>
                  <a:srgbClr val="ffff00"/>
                </a:solidFill>
                <a:latin typeface="Tahoma"/>
              </a:rPr>
              <a:t>D</a:t>
            </a:r>
            <a:r>
              <a:rPr b="0" lang="zh-TW" sz="3200" spc="-1" strike="noStrike">
                <a:solidFill>
                  <a:srgbClr val="ffff00"/>
                </a:solidFill>
                <a:latin typeface="Tahoma"/>
              </a:rPr>
              <a:t>)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位置標示注意事項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柱中心點的意義</a:t>
            </a:r>
            <a:r>
              <a:rPr b="1" lang="zh-TW" sz="4400" spc="-1" strike="noStrike">
                <a:solidFill>
                  <a:srgbClr val="e5ffff"/>
                </a:solidFill>
                <a:latin typeface="新細明體"/>
                <a:ea typeface="Times New Roman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0" y="1600200"/>
          <a:ext cx="8886960" cy="452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00200"/>
                    <a:ext cx="8886960" cy="45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5105520" y="2666880"/>
            <a:ext cx="2361960" cy="2438640"/>
          </a:xfrm>
          <a:prstGeom prst="ellipse">
            <a:avLst/>
          </a:prstGeom>
          <a:solidFill>
            <a:srgbClr val="2b5481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3200400"/>
            <a:ext cx="914400" cy="1447920"/>
          </a:xfrm>
          <a:prstGeom prst="rect">
            <a:avLst/>
          </a:prstGeom>
          <a:solidFill>
            <a:srgbClr val="2b5481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010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橫向與縱向距離表示法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841400" y="1143000"/>
          <a:ext cx="521676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41400" y="1143000"/>
                    <a:ext cx="52167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Times New Roman"/>
              </a:rPr>
              <a:t>直線距離與夾角表示法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676520" y="1236600"/>
          <a:ext cx="5790960" cy="562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236600"/>
                    <a:ext cx="5790960" cy="562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03:13:47Z</dcterms:created>
  <dc:creator>min</dc:creator>
  <dc:description/>
  <dc:language>en-US</dc:language>
  <cp:lastModifiedBy>706</cp:lastModifiedBy>
  <dcterms:modified xsi:type="dcterms:W3CDTF">2004-01-28T07:08:36Z</dcterms:modified>
  <cp:revision>53</cp:revision>
  <dc:subject/>
  <dc:title>施工圖01觀念</dc:title>
</cp:coreProperties>
</file>