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440-ED30-44D6-81E2-C91662C1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CBE-C74A-4869-9C4A-3DD7A2F3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74E-4C8F-4A53-8F6F-0AA96FD0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339-DB48-477D-9B41-BFBF4147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9130-45EC-477C-82A0-D988EA66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9BB7-532A-4B09-9B52-6168F4DC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BE44-E260-4630-B117-8873E302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F25B-8D83-42D8-82C0-6E8598AE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FB7D-9484-4E83-8C86-68268CB6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D3ED-8CA8-42D8-BD2F-CD565184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8D92-7706-46F7-B070-67AFFE1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44E-CAA5-4A85-BD79-A6F4CD50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63C2-52CC-4A8D-9F02-E8C834BB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9A66-C96B-4F07-B200-0AAC9006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F436-941A-4846-B683-F0217594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A129-D4B5-4712-A9D7-97B3106E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987F-9E2D-4549-B8CF-AD1B4DE8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557-8778-44D1-9EDC-C1B2477F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526-2537-4355-ACBB-B451552D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F5D-E90D-4B60-9763-3FE809BB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0F3-A197-4742-B2C6-61D9A1BC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C57-651F-4EA2-B950-0653A81D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16A-09C5-4BCE-9EEC-F2DA893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4F3-3582-4D0A-8260-7000AEC9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BCC1-02D5-407D-9705-058EF3E1B058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420C-F277-4028-BB1E-918B39C7B3EB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三、</a:t>
            </a: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建築立面圖的繪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一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通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二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建築立面圖的繪製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三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建築立面圖的尺寸標示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四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建築立面圖的材料標示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五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立面圖的圖名與符號標示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六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</a:rPr>
              <a:t>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建築立面圖的查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09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立面圖之尺寸標示位置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415800"/>
          <a:ext cx="7619760" cy="614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15800"/>
                    <a:ext cx="7619760" cy="61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09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立面圖左側尺寸標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76520" y="228600"/>
          <a:ext cx="662940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28600"/>
                    <a:ext cx="66294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09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各跨間內構件尺寸標示法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262080"/>
          <a:ext cx="7848720" cy="639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2080"/>
                    <a:ext cx="7848720" cy="63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09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構件的水平位置標示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442800"/>
          <a:ext cx="8001000" cy="64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42800"/>
                    <a:ext cx="800100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四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立面圖的材料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立面圖上的材料標示是以一個線框圍出的構面為單位來說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每一個構面均應標示出一種材料名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標示時以構面為單位，順序宜採由左而右，由上而上下進行以免遺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為使材料標示能夠清楚與美觀並具，材料名稱最好標示在構面內，並以說明引線註記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若構面太小而無法寫入時，得就近標示且以說明線引入註記之，引線註記可以在材料標示的右側，也可以在左側，但應不與其他說明線或尺寸線相直交為原則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533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立面圖材料標示法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271440"/>
          <a:ext cx="8001000" cy="650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71440"/>
                    <a:ext cx="8001000" cy="65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533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立面圖的範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00200" y="117360"/>
          <a:ext cx="6858000" cy="67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7360"/>
                    <a:ext cx="6858000" cy="67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五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立面圖的圖名與符號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在立面圖中的符號標示，除各高程基準線應標示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GL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1FL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2FL…RFL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等註記外，亦應在圖面上側標示出各構架線名稱，這些構架名稱可以用來加強與平面圖的對照性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在每一個立面圖的圖面正下方，應標示該圖的圖名號、圖名以及比例尺。 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六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立面圖的查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圖面數量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圖面繪製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尺寸標示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材料的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圖名與符號之查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一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　通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比例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立面圖的定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建築立面圖的意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立面圖數量的決定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立面圖上的線條粗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立面圖的圖名號、圖號與圖中符號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38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立面圖的定義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28800" y="304920"/>
          <a:ext cx="655308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04920"/>
                    <a:ext cx="65530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建築立面圖之意義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838080"/>
          <a:ext cx="68580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83808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建築立面圖之圖面數量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1343160"/>
          <a:ext cx="7086600" cy="52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343160"/>
                    <a:ext cx="708660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立面圖線條的粗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7920" y="152280"/>
          <a:ext cx="662940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52280"/>
                    <a:ext cx="66294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二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立面圖的繪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立面圖中表達的構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建築立面圖的繪圖程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面繪製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構件位置與形狀尺寸標示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外牆飾面材料標示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名與符號標示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立面圖查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1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面的繪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準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外牆輪廓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各樓層間之凸柱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凸樑、陽台、欄杆扶手等構造物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→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門窗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09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立面圖之繪圖順序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304920"/>
          <a:ext cx="7924680" cy="63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04920"/>
                    <a:ext cx="7924680" cy="63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三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立面圖的尺寸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立面圖中尺寸標示的原則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立面圖尺寸標示的方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1.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	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左外側尺寸標示區的標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2.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	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右外側尺寸的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3.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	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跨間內各區之尺寸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立面圖中的形狀標示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9T23:06:48Z</dcterms:modified>
  <cp:revision>54</cp:revision>
  <dc:subject/>
  <dc:title>施工圖02建築</dc:title>
</cp:coreProperties>
</file>