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762-8BD5-4840-AF0B-AD087142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F2D-3F37-46BA-925D-C2A5604E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494-580D-4A6B-A0C7-CB6DAFE5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A46-AE73-4CE7-AE94-13B18834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7BFB-D7B7-42CC-9C2B-6465AAC6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1AA-A109-4AC1-A1A9-69A588C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AC6B-75B9-4331-8619-B2959690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29F-3E63-4E3F-B263-63D113E9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A22C-5993-40C3-B2A1-A44B17C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7317-32E8-4255-BEA9-5125A943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7ED2-AD24-4D8D-82EA-BB36FC9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8ED-7244-4102-837C-0F80F0C9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270C-1133-4678-8781-ABC8F9C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0DD6-5BA5-4178-A03D-30FCED1B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7EDF-B856-4C4C-A9D3-A9083795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13C5-960F-4C38-9BF6-1ADB7038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C41F-B628-4977-B36A-1BEB9E5C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2AB-283A-4258-B6D4-1904141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B09-FE47-4795-8BDC-F283202E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11F-CF07-453A-901C-FAF3644B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9B9-0FE4-499F-93FF-8D722CC1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108-E2CD-414C-A9EC-9D3388E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351-AD8E-4A82-9505-C3C67053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578-D9D1-46A2-A3CE-C5A26095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89D-C6E9-43A8-B329-6288CC606984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6125-6248-4568-AF61-7B46E63EE55A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六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門窗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鋁門窗詳圖的繪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金屬門窗詳圖繪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木門窗詳圖的繪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門窗構造注意事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門窗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金屬門窗詳圖的形狀標示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981080"/>
          <a:ext cx="9144000" cy="43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1080"/>
                    <a:ext cx="914400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60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金屬門窗詳圖範例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0"/>
          <a:ext cx="8229600" cy="683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822960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木門窗詳圖的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繪製方法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現行木門窗均採工廠機製，或指定成品使用，其構造與施工細節均已製式化，且若採用的廠牌為獲正字標章的成品，其施工與構造品質均已被認可，因此並無繪製構造細節的需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繪製方法較類似金屬門窗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木門窗範例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8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木門窗詳圖範例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0"/>
          <a:ext cx="8534520" cy="675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0"/>
                    <a:ext cx="8534520" cy="67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門窗構造注意事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門窗開口上方的構造物應能承擔自重，採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RC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楣樑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RC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倒吊牆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推開式門窗扇應視重量配置鉸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外牆上的門窗，其上緣構體應有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滴水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設置，窗台或門檻應有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洩水坡度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或洩水槽設計，各材料接合處應有合宜的防水處理或阻水（塞水路）處理才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通常門下都不設置門檻，但是若有阻水需求時應設置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門檻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室內地面加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門窗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查核順序：圖面數量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面繪製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位置與形狀尺寸說明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名圖號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註記等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面數量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面繪製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尺寸標示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材料標示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名圖號註記之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一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　通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一般採用比例尺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1/30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內容與圖面數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）所表達的構造內容，應包括門窗框、門窗扇和結合的鉸鏈，以及一切需要附加的門窗五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）每一種編號均應繪製一個門、窗詳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）構造特別（立體門窗）時，應在立面詳圖上方加繪其對應的平面詳圖（比例尺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/3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），且其立面詳圖應為展開圖（實際長度的圖面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名、圖名號與註記的意義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鋁門窗詳圖的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鋁門窗詳圖的圖面繪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繪製順序為：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FL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基準線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外緣框線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框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扇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窗扣、五金，以及開啟方向符號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鋁門窗詳圖的尺寸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1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框料位置尺寸的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2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形狀尺寸的標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鋁門窗詳圖範例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鋁門窗立面詳圖的圖面繪製順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523880"/>
          <a:ext cx="8685360" cy="488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868536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鋁門窗的位置尺寸標示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066680"/>
          <a:ext cx="9144000" cy="55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17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鋁門窗詳圖範例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14400" y="0"/>
          <a:ext cx="8229600" cy="683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822960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752480" y="4572000"/>
            <a:ext cx="53352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</a:rPr>
              <a:t>鋁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572000"/>
            <a:ext cx="762120" cy="228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</a:rPr>
              <a:t>鋁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金屬門窗詳圖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面的繪製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繪製順序為：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FL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基準線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外緣框線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框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扇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窗扣、五金，以及開啟方向符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位置尺寸的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形狀尺寸與材料的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金屬門窗詳圖範例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金屬門詳圖的圖面繪製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504800"/>
          <a:ext cx="9144000" cy="514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04800"/>
                    <a:ext cx="9144000" cy="51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金屬門窗詳圖的位置標示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6680"/>
          <a:ext cx="9144000" cy="55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0T23:48:59Z</dcterms:modified>
  <cp:revision>72</cp:revision>
  <dc:subject/>
  <dc:title>施工圖02建築</dc:title>
</cp:coreProperties>
</file>