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A758-FF09-4EEE-A313-D32709C2A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C568-8969-43D7-AAC9-9F61ABB6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F7E8-E64E-453A-A4F1-6F586253F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5523-0DBF-4425-9975-8BBFFB83C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2E66-B206-47D0-81A8-356894CC3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2F0B-0AF1-45E2-A806-B0847C59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4E08-CEAF-4EC9-BE17-F367BE69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5A49-E712-4A6A-A77A-F231BC47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8D72-2D49-4FCB-A8B0-664E6906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30B8-05CB-45DF-84B4-1B375B9E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A6D5-5921-400E-A677-4188DA76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8EC5-819A-4763-9E09-4269AAA4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0956-1CD8-4E9B-BF4D-D227FFB5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60B0-F246-4B70-89D9-08D0042C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F8E9-DB5F-4EE3-BA0F-47665AE5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2729-BFA8-4C74-A325-9057B4802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4AEC-F3E3-49EB-B206-9E7AB8549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FF3E-6766-4919-8B6A-4985CA6D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12B4-B365-41BB-84A7-AA91CFAA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9448-2A49-4F2D-B361-9744E18E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8C56-F7E6-4DEF-8472-961D0D04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3A38-139C-4D10-BEFF-B292F18D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778D-9139-4248-8FB6-28B4D3E2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E600-2FEF-4F4C-9C20-95807020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2DB5-FEBC-40F5-9001-4C37FB2AA062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0B6A-4AEE-4FA6-861D-AFD639C5C6C0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00"/>
                </a:solidFill>
                <a:latin typeface="Tahoma"/>
              </a:rPr>
              <a:t>四</a:t>
            </a:r>
            <a:r>
              <a:rPr b="0" lang="zh-TW" sz="5400" spc="-1" strike="noStrike">
                <a:solidFill>
                  <a:srgbClr val="ffff00"/>
                </a:solidFill>
                <a:latin typeface="Tahoma"/>
              </a:rPr>
              <a:t>、</a:t>
            </a:r>
            <a:r>
              <a:rPr b="1" lang="zh-TW" sz="5400" spc="-1" strike="noStrike">
                <a:solidFill>
                  <a:srgbClr val="ffff00"/>
                </a:solidFill>
                <a:latin typeface="Tahoma"/>
              </a:rPr>
              <a:t>基礎配筋詳圖的繪製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一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　通則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二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　基礎配筋詳圖的圖面繪製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三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　基礎尺寸與材料的標示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四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　基礎構造注意事項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五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　基礎配筋詳圖的查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連續基腳鋼筋配筋詳圖（例）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62120" y="1319040"/>
          <a:ext cx="8076960" cy="553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319040"/>
                    <a:ext cx="8076960" cy="55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結構平面圖的範例</a:t>
            </a:r>
            <a:r>
              <a:rPr b="1" lang="zh-TW" sz="44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0" y="1143000"/>
          <a:ext cx="898848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43000"/>
                    <a:ext cx="89884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143000" y="0"/>
          <a:ext cx="716292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0"/>
                    <a:ext cx="71629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990720" y="0"/>
          <a:ext cx="7619760" cy="687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0"/>
                    <a:ext cx="7619760" cy="68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五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　基礎配筋詳圖的查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205704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圖面數量的查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圖面查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混凝土標示的查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鋼筋配置與規格的查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其他特殊材料的標示查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ffff"/>
                </a:solidFill>
                <a:latin typeface="Tahoma"/>
              </a:rPr>
              <a:t>The End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800" spc="-1" strike="noStrike">
                <a:solidFill>
                  <a:srgbClr val="e5ffff"/>
                </a:solidFill>
                <a:latin typeface="Tahoma"/>
              </a:rPr>
              <a:t>一</a:t>
            </a:r>
            <a:r>
              <a:rPr b="0" lang="zh-TW" sz="48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800" spc="-1" strike="noStrike">
                <a:solidFill>
                  <a:srgbClr val="e5ffff"/>
                </a:solidFill>
                <a:latin typeface="Tahoma"/>
              </a:rPr>
              <a:t>　通則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比例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基礎配筋詳圖的比例尺為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1/20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、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1/30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、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1/50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，通常以比例尺</a:t>
            </a:r>
            <a:r>
              <a:rPr b="1" lang="zh-TW" sz="2400" spc="-1" strike="noStrike">
                <a:solidFill>
                  <a:srgbClr val="ffcc00"/>
                </a:solidFill>
                <a:latin typeface="新細明體"/>
                <a:ea typeface="Times New Roman"/>
              </a:rPr>
              <a:t>1/30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繪製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圖面表現方式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獨立基腳或連續基腳配筋詳圖的繪製，一般均採用以一個平面詳圖配合一個對應的剖面詳圖的方式表達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圖面數量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的決定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每一種不同編號的基礎均應繪製一組配筋詳圖。若發現不同編號的基礎有共同的基礎形狀與配筋時，可共用同一組圖面，但圖名上應同時標示出各基礎編號 。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圖名與圖號的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意義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每組配筋詳圖正下方均應標示該圖的圖名號、圖名與比例尺，圖名之前應書明基礎的編號 。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新細明體"/>
              </a:rPr>
              <a:t>圖名與圖號</a:t>
            </a:r>
            <a:r>
              <a:rPr b="1" lang="zh-TW" sz="48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的意義</a:t>
            </a:r>
            <a:r>
              <a:rPr b="1" lang="zh-TW" sz="48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35000" y="2643120"/>
          <a:ext cx="8875800" cy="157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5000" y="2643120"/>
                    <a:ext cx="88758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二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　基礎配筋詳圖的圖面繪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057400" y="914400"/>
          <a:ext cx="5943600" cy="594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914400"/>
                    <a:ext cx="5943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三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　基礎尺寸與材料的標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838080"/>
          <a:ext cx="8988480" cy="601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38080"/>
                    <a:ext cx="89884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914400" y="58680"/>
          <a:ext cx="7315200" cy="674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58680"/>
                    <a:ext cx="7315200" cy="674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0" y="450720"/>
          <a:ext cx="9144000" cy="640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50720"/>
                    <a:ext cx="9144000" cy="640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5400" spc="-1" strike="noStrike">
                <a:solidFill>
                  <a:srgbClr val="e5ffff"/>
                </a:solidFill>
                <a:latin typeface="Tahoma"/>
              </a:rPr>
              <a:t>四</a:t>
            </a:r>
            <a:r>
              <a:rPr b="0" lang="zh-TW" sz="5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5400" spc="-1" strike="noStrike">
                <a:solidFill>
                  <a:srgbClr val="e5ffff"/>
                </a:solidFill>
                <a:latin typeface="Tahoma"/>
              </a:rPr>
              <a:t>　基礎構造注意事項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一般注意事項</a:t>
            </a: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鋼筋配置</a:t>
            </a: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基礎的永久性邊坡要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基礎深度要求</a:t>
            </a: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基土品質</a:t>
            </a: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繫梁的構造</a:t>
            </a: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連續基腳鋼筋配筋詳圖（例）</a:t>
            </a:r>
            <a:r>
              <a:rPr b="1" lang="zh-TW" sz="44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80880" y="1506600"/>
          <a:ext cx="8382240" cy="469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506600"/>
                    <a:ext cx="8382240" cy="46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03:13:47Z</dcterms:created>
  <dc:creator>min</dc:creator>
  <dc:description/>
  <dc:language>en-US</dc:language>
  <cp:lastModifiedBy>706</cp:lastModifiedBy>
  <dcterms:modified xsi:type="dcterms:W3CDTF">2004-01-21T12:24:25Z</dcterms:modified>
  <cp:revision>59</cp:revision>
  <dc:subject/>
  <dc:title>施工圖03結構</dc:title>
</cp:coreProperties>
</file>