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0DD-599D-4198-84DB-13DAE00E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954-841A-474C-9B9E-16FA006A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9EF-1FC7-4BD3-BCE7-677D052F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7D5-AB1E-4D04-88D1-1ED64AD8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2E98-3848-4B2A-B7F8-07B0686C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8E4C-7F15-4A70-BA0D-2B75128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708A-11F7-4496-9597-476A937F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EDB8-2189-4D8C-8975-D4B73EEE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356-A0E0-4AD2-830E-11EFEBC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58AF-C34E-49CE-AB45-D171FB3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DE54-F292-422B-93F8-EAF149C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87A-C1D2-4126-8D81-F59B30EB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CEAA-B0FA-426B-A4BE-329B586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672-3F81-49B2-89A8-5878B8F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6859-9E2A-4472-9D35-B58408AA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C489-68B7-401C-BF44-1AD2FC5E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73C7-CA58-4ADF-9167-52E911FD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C20-01BE-4E8D-BF39-C1D42FA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606-3772-4575-A7D4-A412F67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5F9-2051-4419-B4E9-C25187E0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B2F-AEE4-4957-A788-C3B2677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AAF-2DFE-4CE2-96EC-69DBB00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60E-EA7E-4929-A973-54C322F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48E-B7DB-41BD-B852-BDF240C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8143-18D2-4C84-B0E0-62B5A4932648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090A-2B2A-4136-94AA-207FAC20B85C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九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牆配筋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牆配筋詳圖的繪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牆配筋注意事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牆配筋圖面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比例尺與圖面表達方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牆配筋詳圖的比例尺通常為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/3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。圖面表達均以剖面標準詳圖方式表現，牆的剖體範圍最好是包括牆上下端相連接構造體（梁或版） 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的數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圖面數量的決定，是依據結構平面圖中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RC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牆的編號類別而定，每一種牆編號均應繪製一個標準配筋圖面，但若結構計算書中顯示的牆厚及配筋量相同時，可共用同一個圖面表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牆配筋詳圖的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533520"/>
            <a:ext cx="609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製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   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的標示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98840" y="914400"/>
          <a:ext cx="341316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8840" y="914400"/>
                    <a:ext cx="3413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牆配筋注意事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牆與梁接頭的鋼筋處理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牆與牆交接點的鋼筋處理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牆上開口補強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牆與牆接點的補強配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2362320"/>
          <a:ext cx="8991720" cy="30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9917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牆開口的補強配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1177920"/>
          <a:ext cx="853452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77920"/>
                    <a:ext cx="853452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牆開口的補強配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871560"/>
          <a:ext cx="762012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871560"/>
                    <a:ext cx="762012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牆配筋圖面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數量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線條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標示的查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名與圖名號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8T11:53:32Z</dcterms:modified>
  <cp:revision>74</cp:revision>
  <dc:subject/>
  <dc:title>施工圖03結構</dc:title>
</cp:coreProperties>
</file>