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0C4-720C-4703-9978-D1DA6F5C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692-4EDB-49BB-A94E-21E0221E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06E-68D5-463F-8A04-AED0CFD7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CF5-3E41-4D07-AB1D-178EF398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0262-E742-410A-8AF4-5302B69A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5ECC-CB8C-478B-BE60-35FD3836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8192-1E63-4226-9B0C-7E5BA475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2001-C5BC-454A-B27C-568972D6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C17F-23A0-41F0-9BCE-CDB850C9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596F-4B72-4F33-95DD-3F9763AC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DC7E-4937-4EBA-8E05-40B3B92D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B12-21AA-4B5B-BEA8-C7F7E8A6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94A4-BA99-4CAC-9656-958120A2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60CA-608B-4DB1-BBB7-AD2934F2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FACA-7028-45D4-BC8B-2CF71CCE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971A-7450-40BC-9193-0DCD94F7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BD72-D313-42BF-BEAD-77E0342A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A9E-D37D-4E6C-A0C7-BE5B703B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2BA-B690-42F7-BC32-B93346A2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973-8E04-461F-AC27-8A618B26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7A7-501F-4832-B370-51EF4993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5E6-8AF1-4914-83DB-75C82B12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D98-B1CA-4E56-94A5-C93E689B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5E8-BBA2-47D4-B015-B053CD54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19FA-76D4-4212-BFB2-C9DDF43F7A33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4B42-C982-499B-8781-E8BC766B45C2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二</a:t>
            </a:r>
            <a:r>
              <a:rPr b="0" lang="zh-TW" sz="5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5400" spc="-1" strike="noStrike">
                <a:solidFill>
                  <a:srgbClr val="ffff00"/>
                </a:solidFill>
                <a:latin typeface="Tahoma"/>
              </a:rPr>
              <a:t>建築平面圖的繪製</a:t>
            </a:r>
            <a:r>
              <a:rPr b="1" lang="zh-TW" sz="5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　通則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建築平面圖圖面的繪製方法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建築平面圖的尺寸標示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建築平面圖的材料標示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平面圖的圖名與圖名號標示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六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建築平面圖的查核作業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尺寸標示的通常方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1523880"/>
          <a:ext cx="7162920" cy="507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523880"/>
                    <a:ext cx="716292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04920" y="2819520"/>
            <a:ext cx="914400" cy="3045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黑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733920"/>
            <a:ext cx="838440" cy="3045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打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800600"/>
            <a:ext cx="838440" cy="3049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斜短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5791320"/>
            <a:ext cx="914400" cy="3045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箭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建築平面圖中尺寸的標示方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構件位置的標示方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  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外牆上構造物的位置尺寸標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  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外牆內部的構造物位置尺寸標示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構件形狀的尺寸標示方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A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柱子形狀的尺寸標示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B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牆形狀的尺寸標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外牆形狀的標示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內牆形狀的標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C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視構件的形狀尺寸標示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平面圖中位置尺寸的標示方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911160"/>
          <a:ext cx="8077320" cy="594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1160"/>
                    <a:ext cx="8077320" cy="59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閉合尺寸標示原則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133720"/>
          <a:ext cx="899172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33720"/>
                    <a:ext cx="899172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柱形狀標示的方法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371600"/>
          <a:ext cx="609588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371600"/>
                    <a:ext cx="6095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內牆形狀標示順序與方法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177920"/>
          <a:ext cx="9144000" cy="554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77920"/>
                    <a:ext cx="914400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平面圖中欄杆形狀的標示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752480"/>
          <a:ext cx="8991720" cy="39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99172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建築平面圖的材料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剖構件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的材料標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一般都是以圖面符號來表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以　　 表示混凝土材料而以表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   示砌紅磚牆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視構件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的材料標示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1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地面的粉刷材料，以空間名稱與編號表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2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欄杆或裝修體的材料，以說明線引出並寫上材料形狀與名稱表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2819520"/>
            <a:ext cx="6858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2819520"/>
            <a:ext cx="685800" cy="30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五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平面圖的圖名與圖名號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圖名與圖名號的繪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圖內名稱符號的標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構架的編號方法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2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門窗的編號方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3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外牆剖面詳圖的符號編法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4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空間名稱與符號的編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5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細部設計大樣詳圖的符號編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6)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其他符號的編製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構架基準線的編號方法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143000"/>
          <a:ext cx="8994600" cy="545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89946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一</a:t>
            </a:r>
            <a:r>
              <a:rPr b="0" lang="zh-TW" sz="4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800" spc="-1" strike="noStrike">
                <a:solidFill>
                  <a:srgbClr val="e5ffff"/>
                </a:solidFill>
                <a:latin typeface="Tahoma"/>
              </a:rPr>
              <a:t>　通則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建築平面圖的定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平面圖的意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建築平面圖的意義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比例尺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建築平面圖的圖面內容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圖面的線條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門窗的符號編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1143000"/>
          <a:ext cx="8994600" cy="545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89946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外牆剖示符號的編製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143000"/>
          <a:ext cx="8994600" cy="545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89946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詳細圖圖號的形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2209680"/>
          <a:ext cx="899172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09680"/>
                    <a:ext cx="89917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新細明體"/>
              </a:rPr>
              <a:t>空間名稱與其他符號的編法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49400" y="2133720"/>
          <a:ext cx="8994600" cy="38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2133720"/>
                    <a:ext cx="899460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平面圖的範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1295280"/>
          <a:ext cx="8989920" cy="50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98992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六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　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建築平面圖的查核作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圖面繪製的查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圖面中位置尺寸標示的查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（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）圖面中尺寸查核的系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（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2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）查核作業的方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形狀尺寸之查核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材料的查核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圖名、圖號查核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記錄與處理方式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圖面外尺寸系統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752480"/>
          <a:ext cx="9144000" cy="416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914400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A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平面圖的意義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838080" y="1290600"/>
          <a:ext cx="7543800" cy="556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90600"/>
                    <a:ext cx="75438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B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建築平面圖的意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1066680"/>
          <a:ext cx="5715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066680"/>
                    <a:ext cx="5715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平面圖的線條粗細與用途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7320" y="1066680"/>
          <a:ext cx="8986680" cy="551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320" y="1066680"/>
                    <a:ext cx="898668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建築平面圖圖面的繪製方法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其一是建築平面圖的圖面繪製作業，這部分屬於建築製圖的範疇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另一是針對圖中各構件的位置、形狀尺寸與材料名稱的標示，這部分屬於施工圖表達的範疇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圖形繪製→位置尺寸標示→形狀尺寸標示→材料名稱標示→圖名與相關符號標示→查核作業等步驟進行。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建築平面圖繪製步驟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139760"/>
          <a:ext cx="3689280" cy="571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139760"/>
                    <a:ext cx="368928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724280" y="1143000"/>
          <a:ext cx="3687840" cy="5715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143000"/>
                    <a:ext cx="3687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43000" y="2133720"/>
          <a:ext cx="2666880" cy="608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43000" y="2133720"/>
                    <a:ext cx="26668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410080" y="1916280"/>
          <a:ext cx="2362320" cy="10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10080" y="1916280"/>
                    <a:ext cx="236232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38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建築平面圖繪製步驟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573880" y="304920"/>
          <a:ext cx="3165480" cy="65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73880" y="304920"/>
                    <a:ext cx="31654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903320" y="990720"/>
          <a:ext cx="3195720" cy="495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3320" y="990720"/>
                    <a:ext cx="31957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438280" y="1905120"/>
          <a:ext cx="2210040" cy="747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38280" y="1905120"/>
                    <a:ext cx="221004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172200" y="1709640"/>
          <a:ext cx="1981080" cy="1109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72200" y="1709640"/>
                    <a:ext cx="198108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建築平面圖的尺寸標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尺寸標示的最主要意義是用來表示建築物中各構件的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位置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與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形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之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必須清楚又完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不會產生多餘的不適尺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標示結果不但要容易理解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能正確無誤地按圖施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19T15:01:56Z</dcterms:modified>
  <cp:revision>55</cp:revision>
  <dc:subject/>
  <dc:title>施工圖02建築</dc:title>
</cp:coreProperties>
</file>