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F24-2C03-4C7C-B90F-CD41C430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748-370C-40E2-BBF9-417DB2A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4AE-1B5C-4C3A-8C8E-6CA044A7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5CC-A0DC-4C21-9459-452B0135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938-5B3B-4068-AA5C-F952FC5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5CFB-A10B-4776-951E-ADC1B03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9ED-AB7A-463B-BCBC-58496340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EF87-A07A-41A8-A403-8C55035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5510-0AC9-4286-8C9A-173283F1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3EF-0035-4C2F-836A-D23A968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83FE-AA6C-42FE-9FD5-5EC799C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55C-A936-46DE-B097-9C2C787A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AFD-46DF-4B2D-B5FB-35E77122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FACF-F3E1-404B-BE87-8518A6DE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146A-8239-47A2-A9B3-743622F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7B86-94A7-4A8E-9454-C2165B79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FA3-4DE6-44C5-8CC7-5AD74F61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BEB-4B10-430E-A706-42F4384A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333-3589-4E49-A4A8-BCE408D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6A7-0753-463A-AF5F-94541753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5CD-ED1E-41D0-9654-D7418FA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45C-34CF-4027-AACE-B10155B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BBA-DCB7-4E88-88B6-595BCCB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394-9DF5-419F-8061-94C472B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86E4-D17B-47B8-AF0A-E2F7F6BD5A4A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335-CFC1-44A7-B575-328962E5B1B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六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梁配筋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梁配筋詳圖的圖面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梁配筋詳圖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梁配筋注意事項與規定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梁配筋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梁配筋注意事項與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鋼筋保護層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鋼筋之搭接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內鋼筋的起止配置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基礎梁的配筋注意事項（主應力側問題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轉摺處之配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斷面改變處的配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中穿孔的規定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架梁斷筋位置的決定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2057400"/>
          <a:ext cx="9144000" cy="37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914400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腹筋的配置規定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200" y="1873080"/>
          <a:ext cx="893304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" y="1873080"/>
                    <a:ext cx="89330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地梁主筋受力的位置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905120"/>
          <a:ext cx="89917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8991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摺梁處之配筋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523880"/>
          <a:ext cx="8610480" cy="504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104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28600" y="1219320"/>
            <a:ext cx="4038480" cy="16761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菱形框形成一個傳遞水平梁與斜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力矩的扭力構件，除結構分析結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另有規定外，一般是在四個角落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置四根比主筋直徑大</a:t>
            </a: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3mm</a:t>
            </a: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1#</a:t>
            </a: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）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新細明體"/>
              </a:rPr>
              <a:t>鋼筋加以補強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斷面變化處的配筋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2362320"/>
          <a:ext cx="8839080" cy="32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839080" cy="32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0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架梁配筋詳圖範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380880"/>
          <a:ext cx="7238880" cy="632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80880"/>
                    <a:ext cx="72388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梁配筋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配筋圖面數量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配筋詳圖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一）圖面繪製的查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二）圖面標示的查核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</a:t>
            </a:r>
            <a:r>
              <a:rPr b="1" lang="zh-TW" sz="2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鋼筋標示的查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主筋規格與數量標示查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主筋斷筋位置標示的查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箍筋規格與數量標示的查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</a:t>
            </a:r>
            <a:r>
              <a:rPr b="1" lang="zh-TW" sz="2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2. </a:t>
            </a:r>
            <a:r>
              <a:rPr b="1" lang="zh-TW" sz="2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混凝土標示的查核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符號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梁配筋詳圖的比例尺通常為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表達方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梁剖面詳圖是以全構架的梁縱剖面詳圖方式來表現，而且是將全構架的梁按排列順序一併繪出，並採逐層上下併排方式繪製。繪圖順序是由最底層往上繪製至最頂層，整體圖面形成一個完整的構架梁縱剖面詳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數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決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原則上每一個構架均應繪製梁配筋詳圖，繪製時先依水平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A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B…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構架之順序繪製，然後依垂直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2…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構架之順序繪製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架梁配筋詳圖的表達方式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1066680"/>
          <a:ext cx="838188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381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梁配筋詳圖的圖面繪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2209680"/>
          <a:ext cx="9144000" cy="31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914400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梁配筋詳圖的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混凝土的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鋼筋的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一）梁主筋的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       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1.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	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主筋直徑與數量的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            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2.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	</a:t>
            </a:r>
            <a:r>
              <a:rPr b="1" lang="zh-TW" sz="36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梁主筋位置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                   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）通筋位置標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                   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（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2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）斷筋位置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二）箍筋的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的混凝土尺寸標示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8760" y="2133720"/>
          <a:ext cx="898524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760" y="2133720"/>
                    <a:ext cx="89852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梁主筋用量的標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962000"/>
          <a:ext cx="9144000" cy="31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2000"/>
                    <a:ext cx="91440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34080" y="5334120"/>
          <a:ext cx="4309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4080" y="5334120"/>
                    <a:ext cx="4309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梁主筋位置的標示方法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438280"/>
          <a:ext cx="8989920" cy="309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89899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梁箍筋的標示方法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124080"/>
          <a:ext cx="898524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24080"/>
                    <a:ext cx="89852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3505320" y="281916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53080" y="281916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3640" y="3699000"/>
            <a:ext cx="1368360" cy="436320"/>
          </a:xfrm>
          <a:custGeom>
            <a:avLst/>
            <a:gdLst/>
            <a:ahLst/>
            <a:rect l="l" t="t" r="r" b="b"/>
            <a:pathLst>
              <a:path w="862" h="275">
                <a:moveTo>
                  <a:pt x="15" y="275"/>
                </a:moveTo>
                <a:cubicBezTo>
                  <a:pt x="11" y="262"/>
                  <a:pt x="0" y="250"/>
                  <a:pt x="2" y="236"/>
                </a:cubicBezTo>
                <a:cubicBezTo>
                  <a:pt x="12" y="148"/>
                  <a:pt x="41" y="156"/>
                  <a:pt x="94" y="105"/>
                </a:cubicBezTo>
                <a:cubicBezTo>
                  <a:pt x="204" y="127"/>
                  <a:pt x="185" y="132"/>
                  <a:pt x="316" y="118"/>
                </a:cubicBezTo>
                <a:cubicBezTo>
                  <a:pt x="329" y="109"/>
                  <a:pt x="341" y="99"/>
                  <a:pt x="355" y="92"/>
                </a:cubicBezTo>
                <a:cubicBezTo>
                  <a:pt x="368" y="86"/>
                  <a:pt x="387" y="90"/>
                  <a:pt x="395" y="79"/>
                </a:cubicBezTo>
                <a:cubicBezTo>
                  <a:pt x="411" y="56"/>
                  <a:pt x="421" y="0"/>
                  <a:pt x="421" y="0"/>
                </a:cubicBezTo>
                <a:cubicBezTo>
                  <a:pt x="454" y="100"/>
                  <a:pt x="540" y="92"/>
                  <a:pt x="630" y="105"/>
                </a:cubicBezTo>
                <a:cubicBezTo>
                  <a:pt x="722" y="135"/>
                  <a:pt x="683" y="122"/>
                  <a:pt x="748" y="144"/>
                </a:cubicBezTo>
                <a:cubicBezTo>
                  <a:pt x="761" y="148"/>
                  <a:pt x="787" y="157"/>
                  <a:pt x="787" y="157"/>
                </a:cubicBezTo>
                <a:cubicBezTo>
                  <a:pt x="796" y="166"/>
                  <a:pt x="808" y="172"/>
                  <a:pt x="814" y="183"/>
                </a:cubicBezTo>
                <a:cubicBezTo>
                  <a:pt x="862" y="262"/>
                  <a:pt x="803" y="199"/>
                  <a:pt x="840" y="2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7080" y="3575160"/>
            <a:ext cx="2825640" cy="642960"/>
          </a:xfrm>
          <a:custGeom>
            <a:avLst/>
            <a:gdLst/>
            <a:ahLst/>
            <a:rect l="l" t="t" r="r" b="b"/>
            <a:pathLst>
              <a:path w="1780" h="405">
                <a:moveTo>
                  <a:pt x="0" y="405"/>
                </a:moveTo>
                <a:cubicBezTo>
                  <a:pt x="21" y="342"/>
                  <a:pt x="31" y="249"/>
                  <a:pt x="92" y="209"/>
                </a:cubicBezTo>
                <a:cubicBezTo>
                  <a:pt x="103" y="201"/>
                  <a:pt x="176" y="185"/>
                  <a:pt x="183" y="183"/>
                </a:cubicBezTo>
                <a:cubicBezTo>
                  <a:pt x="272" y="213"/>
                  <a:pt x="162" y="183"/>
                  <a:pt x="288" y="183"/>
                </a:cubicBezTo>
                <a:cubicBezTo>
                  <a:pt x="302" y="183"/>
                  <a:pt x="314" y="193"/>
                  <a:pt x="327" y="196"/>
                </a:cubicBezTo>
                <a:cubicBezTo>
                  <a:pt x="353" y="202"/>
                  <a:pt x="380" y="205"/>
                  <a:pt x="406" y="209"/>
                </a:cubicBezTo>
                <a:cubicBezTo>
                  <a:pt x="501" y="201"/>
                  <a:pt x="580" y="199"/>
                  <a:pt x="668" y="170"/>
                </a:cubicBezTo>
                <a:cubicBezTo>
                  <a:pt x="705" y="145"/>
                  <a:pt x="740" y="121"/>
                  <a:pt x="759" y="78"/>
                </a:cubicBezTo>
                <a:cubicBezTo>
                  <a:pt x="770" y="53"/>
                  <a:pt x="785" y="0"/>
                  <a:pt x="785" y="0"/>
                </a:cubicBezTo>
                <a:cubicBezTo>
                  <a:pt x="802" y="68"/>
                  <a:pt x="813" y="63"/>
                  <a:pt x="864" y="104"/>
                </a:cubicBezTo>
                <a:cubicBezTo>
                  <a:pt x="957" y="180"/>
                  <a:pt x="1026" y="161"/>
                  <a:pt x="1152" y="170"/>
                </a:cubicBezTo>
                <a:cubicBezTo>
                  <a:pt x="1269" y="199"/>
                  <a:pt x="1125" y="170"/>
                  <a:pt x="1309" y="170"/>
                </a:cubicBezTo>
                <a:cubicBezTo>
                  <a:pt x="1323" y="170"/>
                  <a:pt x="1334" y="182"/>
                  <a:pt x="1348" y="183"/>
                </a:cubicBezTo>
                <a:cubicBezTo>
                  <a:pt x="1435" y="191"/>
                  <a:pt x="1523" y="192"/>
                  <a:pt x="1610" y="196"/>
                </a:cubicBezTo>
                <a:cubicBezTo>
                  <a:pt x="1654" y="211"/>
                  <a:pt x="1676" y="235"/>
                  <a:pt x="1715" y="261"/>
                </a:cubicBezTo>
                <a:cubicBezTo>
                  <a:pt x="1729" y="305"/>
                  <a:pt x="1747" y="333"/>
                  <a:pt x="1780" y="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49920" y="3782880"/>
            <a:ext cx="1351080" cy="540000"/>
          </a:xfrm>
          <a:custGeom>
            <a:avLst/>
            <a:gdLst/>
            <a:ahLst/>
            <a:rect l="l" t="t" r="r" b="b"/>
            <a:pathLst>
              <a:path w="851" h="340">
                <a:moveTo>
                  <a:pt x="0" y="340"/>
                </a:moveTo>
                <a:cubicBezTo>
                  <a:pt x="22" y="273"/>
                  <a:pt x="30" y="157"/>
                  <a:pt x="118" y="144"/>
                </a:cubicBezTo>
                <a:cubicBezTo>
                  <a:pt x="166" y="137"/>
                  <a:pt x="214" y="136"/>
                  <a:pt x="262" y="130"/>
                </a:cubicBezTo>
                <a:cubicBezTo>
                  <a:pt x="288" y="127"/>
                  <a:pt x="314" y="121"/>
                  <a:pt x="340" y="117"/>
                </a:cubicBezTo>
                <a:cubicBezTo>
                  <a:pt x="377" y="81"/>
                  <a:pt x="380" y="50"/>
                  <a:pt x="393" y="0"/>
                </a:cubicBezTo>
                <a:cubicBezTo>
                  <a:pt x="412" y="56"/>
                  <a:pt x="413" y="72"/>
                  <a:pt x="471" y="91"/>
                </a:cubicBezTo>
                <a:cubicBezTo>
                  <a:pt x="605" y="220"/>
                  <a:pt x="380" y="10"/>
                  <a:pt x="537" y="130"/>
                </a:cubicBezTo>
                <a:cubicBezTo>
                  <a:pt x="693" y="249"/>
                  <a:pt x="476" y="188"/>
                  <a:pt x="812" y="209"/>
                </a:cubicBezTo>
                <a:cubicBezTo>
                  <a:pt x="821" y="222"/>
                  <a:pt x="831" y="234"/>
                  <a:pt x="838" y="248"/>
                </a:cubicBezTo>
                <a:cubicBezTo>
                  <a:pt x="844" y="261"/>
                  <a:pt x="851" y="288"/>
                  <a:pt x="851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819520"/>
            <a:ext cx="1447560" cy="838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L/4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範圍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最小間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819520"/>
            <a:ext cx="1295640" cy="838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L/4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範圍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最小間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743200"/>
            <a:ext cx="1600200" cy="7621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L/2</a:t>
            </a: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範圍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最大間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800600"/>
            <a:ext cx="121932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標楷體"/>
              </a:rPr>
              <a:t>D10@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800600"/>
            <a:ext cx="114300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標楷體"/>
              </a:rPr>
              <a:t>D10@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800600"/>
            <a:ext cx="121896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標楷體"/>
              </a:rPr>
              <a:t>D10@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7T15:13:18Z</dcterms:modified>
  <cp:revision>64</cp:revision>
  <dc:subject/>
  <dc:title>施工圖03結構</dc:title>
</cp:coreProperties>
</file>