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E6B-F6CB-4631-BCF4-B1E10361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74-2D47-4B96-8257-3BC3E15D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97D-A159-4A9C-8995-FB9F6926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E79-C21E-4131-ACE5-3B5D9A28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7D9-4B00-4DAF-9DAD-8AD6C69B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456-52EC-473A-9091-A9DF294F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CC7-FB81-423C-B688-469CB413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F58F-8AF5-4919-9A40-F252D391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6D46-6E67-40C4-90B1-DDDF68C8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7576-8E6D-4810-AFAC-BB43C03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B455-A17E-48A7-92EC-F0EFDB6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23C-F5EC-438E-B139-AA4FFCD9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3284-58BD-4D76-9AD6-93E64E3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9B46-D6B7-403C-8563-CD93427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8C7E-E39C-4D07-BDA2-EA886CC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800-7924-4295-A433-7690D28A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D11-417E-4D53-83FF-2C239FA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465-3DD6-4FB1-B98A-6DE4A89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5F1-3B9E-4C52-B777-21DC3873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CE6-48FB-4703-90E7-40B75EB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383-2E4E-42B1-B34D-3F0AB3B4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06C-1FF9-4838-A201-01B17B3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AC1-CDB7-4438-B427-C2FF255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F4E-BE13-4402-9378-83D2FBD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FB8-973E-458F-B95E-CEF7A672CF2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3BC9-0718-4412-9FFB-5EA55D4FCA1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七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版配筋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版配筋詳圖的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版配筋詳圖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版配筋注意事項與規定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版配筋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主鋼筋基本伸展長度折減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7391520" y="60199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4038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1523880"/>
            <a:ext cx="8686440" cy="5028840"/>
            <a:chOff x="228600" y="1523880"/>
            <a:chExt cx="8686440" cy="5028840"/>
          </a:xfrm>
        </p:grpSpPr>
        <p:grpSp>
          <p:nvGrpSpPr>
            <p:cNvPr id="279" name=""/>
            <p:cNvGrpSpPr/>
            <p:nvPr/>
          </p:nvGrpSpPr>
          <p:grpSpPr>
            <a:xfrm>
              <a:off x="236520" y="1530000"/>
              <a:ext cx="8668440" cy="5015520"/>
              <a:chOff x="236520" y="1530000"/>
              <a:chExt cx="8668440" cy="501552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36520" y="1530000"/>
                <a:ext cx="1611720" cy="1027800"/>
                <a:chOff x="236520" y="1530000"/>
                <a:chExt cx="1611720" cy="10278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36520" y="1530000"/>
                  <a:ext cx="161172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鋼筋受力類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36520" y="1530000"/>
                  <a:ext cx="16117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848600" y="1530000"/>
                <a:ext cx="5115600" cy="1027800"/>
                <a:chOff x="1848600" y="1530000"/>
                <a:chExt cx="5115600" cy="1027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848600" y="1530000"/>
                  <a:ext cx="511560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說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明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848600" y="1530000"/>
                  <a:ext cx="511560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964560" y="1530000"/>
                <a:ext cx="1940400" cy="1027800"/>
                <a:chOff x="6964560" y="1530000"/>
                <a:chExt cx="1940400" cy="10278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964560" y="1530000"/>
                  <a:ext cx="194040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折減係數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964560" y="1530000"/>
                  <a:ext cx="194040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36520" y="2558160"/>
                <a:ext cx="1611720" cy="2918520"/>
                <a:chOff x="236520" y="2558160"/>
                <a:chExt cx="1611720" cy="29185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36520" y="2558160"/>
                  <a:ext cx="1611720" cy="291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用於張力側鋼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6520" y="2558160"/>
                  <a:ext cx="1611720" cy="291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1848600" y="2558160"/>
                <a:ext cx="5115600" cy="1027080"/>
                <a:chOff x="1848600" y="2558160"/>
                <a:chExt cx="5115600" cy="10270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848600" y="2558160"/>
                  <a:ext cx="51156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鋼筋橫向間距最小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公分以及鋼筋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伸展置混凝土淨距至少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.5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公分時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48600" y="2558160"/>
                  <a:ext cx="51156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964560" y="2558160"/>
                <a:ext cx="1940400" cy="1027080"/>
                <a:chOff x="6964560" y="2558160"/>
                <a:chExt cx="1940400" cy="1027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964560" y="2558160"/>
                  <a:ext cx="19404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0.8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964560" y="2558160"/>
                  <a:ext cx="19404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848600" y="3585600"/>
                <a:ext cx="5115600" cy="862560"/>
                <a:chOff x="1848600" y="3585600"/>
                <a:chExt cx="5115600" cy="862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848600" y="3585600"/>
                  <a:ext cx="5115600" cy="8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實際使用鋼筋量超過設計需求量時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848600" y="3585600"/>
                  <a:ext cx="5115600" cy="86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964560" y="3585600"/>
                <a:ext cx="1940400" cy="862560"/>
                <a:chOff x="6964560" y="3585600"/>
                <a:chExt cx="1940400" cy="862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964560" y="3585600"/>
                  <a:ext cx="1940400" cy="8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 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使用鋼筋量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 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設計鋼筋量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964560" y="3585600"/>
                  <a:ext cx="1940400" cy="86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848600" y="4448880"/>
                <a:ext cx="5115600" cy="1027800"/>
                <a:chOff x="1848600" y="4448880"/>
                <a:chExt cx="5115600" cy="1027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848600" y="4448880"/>
                  <a:ext cx="511560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包括箍筋均為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10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以上者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,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且箍筋間距不足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公分者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848600" y="4448880"/>
                  <a:ext cx="511560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964560" y="4448880"/>
                <a:ext cx="1940400" cy="1027800"/>
                <a:chOff x="6964560" y="4448880"/>
                <a:chExt cx="1940400" cy="10278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964560" y="4448880"/>
                  <a:ext cx="194040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0.7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64560" y="4448880"/>
                  <a:ext cx="194040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36520" y="5477040"/>
                <a:ext cx="1611720" cy="1068480"/>
                <a:chOff x="236520" y="5477040"/>
                <a:chExt cx="1611720" cy="1068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36520" y="5477040"/>
                  <a:ext cx="161172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用於壓力側鋼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36520" y="5477040"/>
                  <a:ext cx="1611720" cy="106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848600" y="5477040"/>
                <a:ext cx="5115600" cy="1068480"/>
                <a:chOff x="1848600" y="5477040"/>
                <a:chExt cx="5115600" cy="1068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848600" y="5477040"/>
                  <a:ext cx="51156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新細明體"/>
                    </a:rPr>
                    <a:t>使用鋼筋量超過設計需求量時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848600" y="5477040"/>
                  <a:ext cx="5115600" cy="106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964560" y="5477040"/>
                <a:ext cx="1940400" cy="1068480"/>
                <a:chOff x="6964560" y="5477040"/>
                <a:chExt cx="1940400" cy="1068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964560" y="5477040"/>
                  <a:ext cx="19404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使用鋼筋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設計鋼筋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64560" y="5477040"/>
                  <a:ext cx="1940400" cy="106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228600" y="1523880"/>
              <a:ext cx="8686440" cy="5028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斷筋與埋入長度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0360" y="1603440"/>
          <a:ext cx="8964720" cy="364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360" y="1603440"/>
                    <a:ext cx="89647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800600" y="4419720"/>
            <a:ext cx="160020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允許搭接位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2971800"/>
            <a:ext cx="160020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允許搭接位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筏基版的鋼筋配置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1982880"/>
          <a:ext cx="9144000" cy="33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28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轉折處之配筋規定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80880" y="1828800"/>
          <a:ext cx="85345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8534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開口處的配筋規定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3920" y="1736640"/>
          <a:ext cx="8697960" cy="46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920" y="1736640"/>
                    <a:ext cx="86979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版角隅的配筋規定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09480" y="1206360"/>
          <a:ext cx="7848720" cy="544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06360"/>
                    <a:ext cx="7848720" cy="544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版角隅的配筋規定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914400" y="968400"/>
          <a:ext cx="7467480" cy="58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68400"/>
                    <a:ext cx="746748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0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配筋詳圖範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828800" y="76320"/>
          <a:ext cx="678168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320"/>
                    <a:ext cx="67816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版配筋詳圖的查核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繪製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一）圖面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線條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的查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二）圖面標示的查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三）圖面符號的查核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版配筋詳圖的比例尺通常為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表達方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通常版配筋詳圖均採用一組長、短向剖面詳圖的方式來表達 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數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決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名號、圖名的編製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版配筋詳圖由長、短向剖面圖來表示，二個圖面通常是上下或左右併置，因此在兩個圖面正下方應分別書名長向或短向，繪圖工程師並應於整組圖的正下方標明這組圖的圖名號、圖名與比例尺 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版配筋詳圖的繪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508040"/>
          <a:ext cx="891540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08040"/>
                    <a:ext cx="8915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版配筋詳圖的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混凝土與彎筋位置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鋼筋用量的標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採單一跨度表現，且採用長短向二個圖面為一組圖來表達，因此不論是在長向或短向圖面中，均應分別詳細說明版的配筋狀況。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斷面與彎距位置的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266840"/>
          <a:ext cx="8915400" cy="55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6840"/>
                    <a:ext cx="89154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配筋的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371600"/>
          <a:ext cx="89154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37160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版配筋注意事項與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鋼筋保護層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鋼筋搭接之規定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鋼筋的配置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筏基版配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版轉折處的配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樓版開口補強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角隅補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新細明體"/>
              </a:rPr>
              <a:t>　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版鋼筋保護層規定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1828800"/>
            <a:ext cx="8533800" cy="4190760"/>
            <a:chOff x="304920" y="1828800"/>
            <a:chExt cx="8533800" cy="4190760"/>
          </a:xfrm>
        </p:grpSpPr>
        <p:grpSp>
          <p:nvGrpSpPr>
            <p:cNvPr id="101" name=""/>
            <p:cNvGrpSpPr/>
            <p:nvPr/>
          </p:nvGrpSpPr>
          <p:grpSpPr>
            <a:xfrm>
              <a:off x="312120" y="1836360"/>
              <a:ext cx="8517960" cy="4173120"/>
              <a:chOff x="312120" y="1836360"/>
              <a:chExt cx="8517960" cy="417312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312120" y="1836360"/>
                <a:ext cx="2127600" cy="2061000"/>
                <a:chOff x="312120" y="1836360"/>
                <a:chExt cx="2127600" cy="2061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20480" y="1836360"/>
                  <a:ext cx="1911240" cy="20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版鋼筋別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12120" y="1836360"/>
                  <a:ext cx="2127600" cy="206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440080" y="1836360"/>
                <a:ext cx="6390000" cy="1030680"/>
                <a:chOff x="2440080" y="1836360"/>
                <a:chExt cx="6390000" cy="1030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548440" y="1836360"/>
                  <a:ext cx="6172920" cy="10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保護層位置條件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40080" y="1836360"/>
                  <a:ext cx="6390000" cy="103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440080" y="2867400"/>
                <a:ext cx="2500560" cy="1029960"/>
                <a:chOff x="2440080" y="2867400"/>
                <a:chExt cx="2500560" cy="1029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548440" y="2867400"/>
                  <a:ext cx="22834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直接設置於地下外側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40080" y="2867400"/>
                  <a:ext cx="25005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941360" y="2867400"/>
                <a:ext cx="1943640" cy="1029960"/>
                <a:chOff x="4941360" y="2867400"/>
                <a:chExt cx="1943640" cy="10299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049720" y="2867400"/>
                  <a:ext cx="17272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室外側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41360" y="2867400"/>
                  <a:ext cx="194364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885720" y="2867400"/>
                <a:ext cx="1944360" cy="1029960"/>
                <a:chOff x="6885720" y="2867400"/>
                <a:chExt cx="1944360" cy="1029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994080" y="2867400"/>
                  <a:ext cx="17272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室內側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885720" y="2867400"/>
                  <a:ext cx="19443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12120" y="3897720"/>
                <a:ext cx="2127600" cy="1081080"/>
                <a:chOff x="312120" y="3897720"/>
                <a:chExt cx="2127600" cy="10810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20480" y="3897720"/>
                  <a:ext cx="1911240" cy="10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D19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#6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）以上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2120" y="3897720"/>
                  <a:ext cx="2127600" cy="108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440080" y="3897720"/>
                <a:ext cx="2500560" cy="1081080"/>
                <a:chOff x="2440080" y="3897720"/>
                <a:chExt cx="2500560" cy="10810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48440" y="3897720"/>
                  <a:ext cx="2283480" cy="10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7.5 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440080" y="3897720"/>
                  <a:ext cx="2500560" cy="108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941360" y="3897720"/>
                <a:ext cx="1943640" cy="1081080"/>
                <a:chOff x="4941360" y="3897720"/>
                <a:chExt cx="1943640" cy="1081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049720" y="3897720"/>
                  <a:ext cx="1727280" cy="10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 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41360" y="3897720"/>
                  <a:ext cx="1943640" cy="108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885720" y="3897720"/>
                <a:ext cx="1944360" cy="1081080"/>
                <a:chOff x="6885720" y="3897720"/>
                <a:chExt cx="1944360" cy="1081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994080" y="3897720"/>
                  <a:ext cx="1727280" cy="10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 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885720" y="3897720"/>
                  <a:ext cx="1944360" cy="108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12120" y="4979520"/>
                <a:ext cx="2127600" cy="1029960"/>
                <a:chOff x="312120" y="4979520"/>
                <a:chExt cx="2127600" cy="1029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20480" y="4979520"/>
                  <a:ext cx="191124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D16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#4</a:t>
                  </a: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）以上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2120" y="4979520"/>
                  <a:ext cx="212760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440080" y="4979520"/>
                <a:ext cx="2500560" cy="1029960"/>
                <a:chOff x="2440080" y="4979520"/>
                <a:chExt cx="2500560" cy="1029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548440" y="4979520"/>
                  <a:ext cx="22834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7.5 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40080" y="4979520"/>
                  <a:ext cx="25005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941360" y="4979520"/>
                <a:ext cx="1943640" cy="1029960"/>
                <a:chOff x="4941360" y="4979520"/>
                <a:chExt cx="1943640" cy="1029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049720" y="4979520"/>
                  <a:ext cx="17272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4.0 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41360" y="4979520"/>
                  <a:ext cx="194364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885720" y="4979520"/>
                <a:ext cx="1944360" cy="1029960"/>
                <a:chOff x="6885720" y="4979520"/>
                <a:chExt cx="1944360" cy="1029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994080" y="4979520"/>
                  <a:ext cx="1727280" cy="10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2793680"/>
                      <a:tab algn="l" pos="103719240"/>
                    </a:tabLst>
                  </a:pPr>
                  <a:r>
                    <a:rPr b="0" lang="zh-TW" sz="2800" spc="-1" strike="noStrike">
                      <a:solidFill>
                        <a:srgbClr val="ffffff"/>
                      </a:solidFill>
                      <a:latin typeface="新細明體"/>
                    </a:rPr>
                    <a:t>1.5 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885720" y="4979520"/>
                  <a:ext cx="1944360" cy="10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304920" y="1828800"/>
              <a:ext cx="8533800" cy="4190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主鋼筋基本伸展長度表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066680"/>
            <a:ext cx="8381520" cy="5791320"/>
            <a:chOff x="457200" y="1066680"/>
            <a:chExt cx="8381520" cy="5791320"/>
          </a:xfrm>
        </p:grpSpPr>
        <p:grpSp>
          <p:nvGrpSpPr>
            <p:cNvPr id="144" name=""/>
            <p:cNvGrpSpPr/>
            <p:nvPr/>
          </p:nvGrpSpPr>
          <p:grpSpPr>
            <a:xfrm>
              <a:off x="464400" y="1070280"/>
              <a:ext cx="8365320" cy="5783400"/>
              <a:chOff x="464400" y="1070280"/>
              <a:chExt cx="8365320" cy="5783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464400" y="1070280"/>
                <a:ext cx="1310760" cy="944280"/>
                <a:chOff x="464400" y="1070280"/>
                <a:chExt cx="1310760" cy="944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64400" y="1070280"/>
                  <a:ext cx="1310760" cy="9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鋼筋尺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64400" y="1070280"/>
                  <a:ext cx="1310760" cy="94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775520" y="1070280"/>
                <a:ext cx="2867400" cy="471960"/>
                <a:chOff x="1775520" y="1070280"/>
                <a:chExt cx="2867400" cy="4719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775520" y="1070280"/>
                  <a:ext cx="286740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張力筋伸展長度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75520" y="1070280"/>
                  <a:ext cx="28674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43640" y="1070280"/>
                <a:ext cx="2170800" cy="944280"/>
                <a:chOff x="4643640" y="1070280"/>
                <a:chExt cx="2170800" cy="944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643640" y="1070280"/>
                  <a:ext cx="2170800" cy="9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壓力鋼筋伸展長度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43640" y="1070280"/>
                  <a:ext cx="2170800" cy="94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814800" y="1070280"/>
                <a:ext cx="2014920" cy="944280"/>
                <a:chOff x="6814800" y="1070280"/>
                <a:chExt cx="2014920" cy="944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814800" y="1070280"/>
                  <a:ext cx="2014920" cy="9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備註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814800" y="1070280"/>
                  <a:ext cx="2014920" cy="94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775520" y="1542240"/>
                <a:ext cx="1274760" cy="472320"/>
                <a:chOff x="1775520" y="1542240"/>
                <a:chExt cx="1274760" cy="472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775520" y="1542240"/>
                  <a:ext cx="12747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上側鋼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775520" y="1542240"/>
                  <a:ext cx="127476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050640" y="1542240"/>
                <a:ext cx="1592280" cy="472320"/>
                <a:chOff x="3050640" y="1542240"/>
                <a:chExt cx="1592280" cy="472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050640" y="1542240"/>
                  <a:ext cx="159228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其他側鋼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50640" y="1542240"/>
                  <a:ext cx="159228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64400" y="2014560"/>
                <a:ext cx="1310760" cy="471960"/>
                <a:chOff x="464400" y="2014560"/>
                <a:chExt cx="1310760" cy="4719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64400" y="2014560"/>
                  <a:ext cx="1310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10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64400" y="2014560"/>
                  <a:ext cx="1310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775520" y="2014560"/>
                <a:ext cx="1274760" cy="471960"/>
                <a:chOff x="1775520" y="2014560"/>
                <a:chExt cx="1274760" cy="471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775520" y="2014560"/>
                  <a:ext cx="1274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5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9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775520" y="2014560"/>
                  <a:ext cx="1274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050640" y="2014560"/>
                <a:ext cx="1592280" cy="471960"/>
                <a:chOff x="3050640" y="2014560"/>
                <a:chExt cx="1592280" cy="471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50640" y="2014560"/>
                  <a:ext cx="1592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9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50640" y="2014560"/>
                  <a:ext cx="159228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643640" y="2014560"/>
                <a:ext cx="2170800" cy="471960"/>
                <a:chOff x="4643640" y="2014560"/>
                <a:chExt cx="2170800" cy="471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43640" y="2014560"/>
                  <a:ext cx="217080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9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43640" y="2014560"/>
                  <a:ext cx="21708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814800" y="2014560"/>
                <a:ext cx="2014920" cy="4839120"/>
                <a:chOff x="6814800" y="2014560"/>
                <a:chExt cx="2014920" cy="483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814800" y="2014560"/>
                  <a:ext cx="2014920" cy="48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、 折減因素：本表格係以束制條件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0.67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來分析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、所得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350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尺寸是依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fc’=210kdf/cm</a:t>
                  </a:r>
                  <a:r>
                    <a:rPr b="0" lang="zh-TW" sz="2000" spc="-1" strike="noStrike" baseline="30000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，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fy=28000 kdf/cm</a:t>
                  </a:r>
                  <a:r>
                    <a:rPr b="0" lang="zh-TW" sz="2000" spc="-1" strike="noStrike" baseline="30000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記算而得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（ ）中之尺寸是依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fc’=280kdf/cm</a:t>
                  </a:r>
                  <a:r>
                    <a:rPr b="0" lang="zh-TW" sz="2000" spc="-1" strike="noStrike" baseline="30000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，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fy=42000 kdf/cm</a:t>
                  </a:r>
                  <a:r>
                    <a:rPr b="0" lang="zh-TW" sz="2000" spc="-1" strike="noStrike" baseline="30000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  <a:ea typeface="Arial Unicode MS"/>
                    </a:rPr>
                    <a:t>記算而得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14800" y="2014560"/>
                  <a:ext cx="2014920" cy="483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64400" y="2486520"/>
                <a:ext cx="1310760" cy="471960"/>
                <a:chOff x="464400" y="2486520"/>
                <a:chExt cx="1310760" cy="471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64400" y="2486520"/>
                  <a:ext cx="1310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1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4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64400" y="2486520"/>
                  <a:ext cx="1310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775520" y="2486520"/>
                <a:ext cx="1274760" cy="471960"/>
                <a:chOff x="1775520" y="2486520"/>
                <a:chExt cx="1274760" cy="471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775520" y="2486520"/>
                  <a:ext cx="1274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66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5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775520" y="2486520"/>
                  <a:ext cx="1274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050640" y="2486520"/>
                <a:ext cx="1592280" cy="471960"/>
                <a:chOff x="3050640" y="2486520"/>
                <a:chExt cx="1592280" cy="471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050640" y="2486520"/>
                  <a:ext cx="1592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5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9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50640" y="2486520"/>
                  <a:ext cx="159228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643640" y="2486520"/>
                <a:ext cx="2170800" cy="471960"/>
                <a:chOff x="4643640" y="2486520"/>
                <a:chExt cx="2170800" cy="471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643640" y="2486520"/>
                  <a:ext cx="217080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25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9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43640" y="2486520"/>
                  <a:ext cx="21708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64400" y="2958480"/>
                <a:ext cx="1310760" cy="472320"/>
                <a:chOff x="464400" y="2958480"/>
                <a:chExt cx="1310760" cy="4723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64400" y="2958480"/>
                  <a:ext cx="13107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16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5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4400" y="2958480"/>
                  <a:ext cx="131076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775520" y="2958480"/>
                <a:ext cx="1274760" cy="472320"/>
                <a:chOff x="1775520" y="2958480"/>
                <a:chExt cx="1274760" cy="4723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75520" y="2958480"/>
                  <a:ext cx="12747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8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6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75520" y="2958480"/>
                  <a:ext cx="127476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050640" y="2958480"/>
                <a:ext cx="1592280" cy="472320"/>
                <a:chOff x="3050640" y="2958480"/>
                <a:chExt cx="1592280" cy="4723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50640" y="2958480"/>
                  <a:ext cx="159228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6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50640" y="2958480"/>
                  <a:ext cx="159228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43640" y="2958480"/>
                <a:ext cx="2170800" cy="472320"/>
                <a:chOff x="4643640" y="2958480"/>
                <a:chExt cx="2170800" cy="4723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643640" y="2958480"/>
                  <a:ext cx="2170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2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43640" y="2958480"/>
                  <a:ext cx="2170800" cy="47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64400" y="3431160"/>
                <a:ext cx="1310760" cy="471960"/>
                <a:chOff x="464400" y="3431160"/>
                <a:chExt cx="1310760" cy="47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4400" y="3431160"/>
                  <a:ext cx="1310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19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6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4400" y="3431160"/>
                  <a:ext cx="1310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775520" y="3431160"/>
                <a:ext cx="1274760" cy="471960"/>
                <a:chOff x="1775520" y="3431160"/>
                <a:chExt cx="1274760" cy="4719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775520" y="3431160"/>
                  <a:ext cx="12747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96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7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5520" y="3431160"/>
                  <a:ext cx="127476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050640" y="3431160"/>
                <a:ext cx="1592280" cy="471960"/>
                <a:chOff x="3050640" y="3431160"/>
                <a:chExt cx="1592280" cy="4719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050640" y="3431160"/>
                  <a:ext cx="1592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74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50640" y="3431160"/>
                  <a:ext cx="159228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643640" y="3431160"/>
                <a:ext cx="2170800" cy="471960"/>
                <a:chOff x="4643640" y="3431160"/>
                <a:chExt cx="2170800" cy="4719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643640" y="3431160"/>
                  <a:ext cx="217080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6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2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43640" y="3431160"/>
                  <a:ext cx="21708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64400" y="3903120"/>
                <a:ext cx="1310760" cy="590040"/>
                <a:chOff x="464400" y="3903120"/>
                <a:chExt cx="1310760" cy="5900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64400" y="3903120"/>
                  <a:ext cx="1310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2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7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4400" y="3903120"/>
                  <a:ext cx="1310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775520" y="3903120"/>
                <a:ext cx="1274760" cy="590040"/>
                <a:chOff x="1775520" y="3903120"/>
                <a:chExt cx="1274760" cy="590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775520" y="3903120"/>
                  <a:ext cx="1274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35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0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75520" y="3903120"/>
                  <a:ext cx="1274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050640" y="3903120"/>
                <a:ext cx="1592280" cy="590040"/>
                <a:chOff x="3050640" y="3903120"/>
                <a:chExt cx="1592280" cy="590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050640" y="3903120"/>
                  <a:ext cx="159228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04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8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50640" y="3903120"/>
                  <a:ext cx="159228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643640" y="3903120"/>
                <a:ext cx="2170800" cy="590040"/>
                <a:chOff x="4643640" y="3903120"/>
                <a:chExt cx="2170800" cy="5900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643640" y="3903120"/>
                  <a:ext cx="217080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2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43640" y="3903120"/>
                  <a:ext cx="217080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64400" y="4493160"/>
                <a:ext cx="1310760" cy="589680"/>
                <a:chOff x="464400" y="4493160"/>
                <a:chExt cx="1310760" cy="5896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64400" y="4493160"/>
                  <a:ext cx="131076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25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8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4400" y="4493160"/>
                  <a:ext cx="13107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775520" y="4493160"/>
                <a:ext cx="1274760" cy="589680"/>
                <a:chOff x="1775520" y="4493160"/>
                <a:chExt cx="1274760" cy="5896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775520" y="4493160"/>
                  <a:ext cx="127476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54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1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75520" y="4493160"/>
                  <a:ext cx="12747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050640" y="4493160"/>
                <a:ext cx="1592280" cy="589680"/>
                <a:chOff x="3050640" y="4493160"/>
                <a:chExt cx="1592280" cy="589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050640" y="4493160"/>
                  <a:ext cx="159228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18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9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050640" y="4493160"/>
                  <a:ext cx="159228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643640" y="4493160"/>
                <a:ext cx="2170800" cy="589680"/>
                <a:chOff x="4643640" y="4493160"/>
                <a:chExt cx="2170800" cy="5896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43640" y="4493160"/>
                  <a:ext cx="21708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8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3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43640" y="4493160"/>
                  <a:ext cx="21708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64400" y="5083200"/>
                <a:ext cx="1310760" cy="590040"/>
                <a:chOff x="464400" y="5083200"/>
                <a:chExt cx="1310760" cy="5900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64400" y="5083200"/>
                  <a:ext cx="1310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29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9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4400" y="5083200"/>
                  <a:ext cx="1310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775520" y="5083200"/>
                <a:ext cx="1274760" cy="590040"/>
                <a:chOff x="1775520" y="5083200"/>
                <a:chExt cx="1274760" cy="5900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775520" y="5083200"/>
                  <a:ext cx="1274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78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3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75520" y="5083200"/>
                  <a:ext cx="1274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50640" y="5083200"/>
                <a:ext cx="1592280" cy="590040"/>
                <a:chOff x="3050640" y="5083200"/>
                <a:chExt cx="1592280" cy="5900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50640" y="5083200"/>
                  <a:ext cx="159228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37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0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50640" y="5083200"/>
                  <a:ext cx="159228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643640" y="5083200"/>
                <a:ext cx="2170800" cy="590040"/>
                <a:chOff x="4643640" y="5083200"/>
                <a:chExt cx="2170800" cy="590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643640" y="5083200"/>
                  <a:ext cx="217080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55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43640" y="5083200"/>
                  <a:ext cx="217080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64400" y="5673600"/>
                <a:ext cx="1310760" cy="590040"/>
                <a:chOff x="464400" y="5673600"/>
                <a:chExt cx="1310760" cy="590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64400" y="5673600"/>
                  <a:ext cx="1310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3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10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64400" y="5673600"/>
                  <a:ext cx="1310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775520" y="5673600"/>
                <a:ext cx="1274760" cy="590040"/>
                <a:chOff x="1775520" y="5673600"/>
                <a:chExt cx="1274760" cy="590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775520" y="5673600"/>
                  <a:ext cx="127476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96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5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775520" y="5673600"/>
                  <a:ext cx="127476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050640" y="5673600"/>
                <a:ext cx="1592280" cy="590040"/>
                <a:chOff x="3050640" y="5673600"/>
                <a:chExt cx="1592280" cy="5900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050640" y="5673600"/>
                  <a:ext cx="159228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5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1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050640" y="5673600"/>
                  <a:ext cx="159228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643640" y="5673600"/>
                <a:ext cx="2170800" cy="590040"/>
                <a:chOff x="4643640" y="5673600"/>
                <a:chExt cx="2170800" cy="5900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3640" y="5673600"/>
                  <a:ext cx="2170800" cy="5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6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643640" y="5673600"/>
                  <a:ext cx="2170800" cy="5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64400" y="6264000"/>
                <a:ext cx="1310760" cy="589680"/>
                <a:chOff x="464400" y="6264000"/>
                <a:chExt cx="1310760" cy="5896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64400" y="6264000"/>
                  <a:ext cx="131076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D36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新細明體"/>
                    </a:rPr>
                    <a:t>#1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400" y="6264000"/>
                  <a:ext cx="13107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775520" y="6264000"/>
                <a:ext cx="1274760" cy="589680"/>
                <a:chOff x="1775520" y="6264000"/>
                <a:chExt cx="1274760" cy="5896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775520" y="6264000"/>
                  <a:ext cx="127476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221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7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775520" y="6264000"/>
                  <a:ext cx="12747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050640" y="6264000"/>
                <a:ext cx="1592280" cy="589680"/>
                <a:chOff x="3050640" y="6264000"/>
                <a:chExt cx="1592280" cy="5896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050640" y="6264000"/>
                  <a:ext cx="159228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70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13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50640" y="6264000"/>
                  <a:ext cx="159228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643640" y="6264000"/>
                <a:ext cx="2170800" cy="589680"/>
                <a:chOff x="4643640" y="6264000"/>
                <a:chExt cx="2170800" cy="5896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43640" y="6264000"/>
                  <a:ext cx="21708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719240"/>
                    </a:tabLst>
                  </a:pP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（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68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）</a:t>
                  </a:r>
                  <a:r>
                    <a:rPr b="0" lang="zh-TW" sz="2000" spc="-1" strike="noStrike">
                      <a:solidFill>
                        <a:srgbClr val="ffffff"/>
                      </a:solidFill>
                      <a:latin typeface="新細明體"/>
                    </a:rPr>
                    <a:t>5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43640" y="6264000"/>
                  <a:ext cx="21708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457200" y="1066680"/>
              <a:ext cx="8381520" cy="5791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8T00:53:17Z</dcterms:modified>
  <cp:revision>72</cp:revision>
  <dc:subject/>
  <dc:title>施工圖03結構</dc:title>
</cp:coreProperties>
</file>