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5E6-8DB6-4F7A-BEDB-13811515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3CBC-9B1F-4219-9273-F389635C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A48A-1D5C-428D-9A03-649DFCA0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1F1-EA11-419D-B5C0-B9933AB8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8293-FEAC-4011-AAA7-837D09F1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8D2A-03E3-4F5D-9705-F572D0E0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552D-1554-486A-B8C3-DF83741C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ABA3-B6BB-479B-8705-0EA3C1A8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04A9-E9EE-463E-85F3-87D8C36E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BE41-19E2-4EE4-B170-6D34D704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27B3-219D-44A7-BEFE-5394A22B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E74-FCDA-443A-83FB-3CF24AF3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01FE-3EAA-49CB-9E71-7E631766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279F-1185-40C5-905D-493A0545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2935-FF01-4058-B5F6-589A1782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A90B-91ED-494F-8D35-8D50D337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77A3-15B4-462B-BE5C-7E2A1199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51E-44D8-4872-B875-A4BF1235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719-9E52-4A04-8A9B-346F1F4A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9A5-0A99-49CB-BA85-400EA796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E0C-302E-4F28-BD77-33684437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C38-C58E-4B42-803B-80D7E4F6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004-60DD-4A94-96AC-1FE12F8F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8CAB-46A9-47B9-828C-E96117D7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6836-DD23-412D-AC44-77069263D78F}" type="slidenum"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6903-2591-4551-9104-D0ED45CC7378}" type="slidenum"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9ac"/>
                </a:solidFill>
                <a:latin typeface="Arial"/>
              </a:rPr>
              <a:t>裝修塗裝工程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4000" y="270828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壹、能了解金屬、木作、泥作表面塗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裝作業材料、品質、施工步驟及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工法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貳、能督導技術人員做好合乎施工圖說之規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66ff"/>
                </a:solidFill>
                <a:latin typeface="Arial"/>
              </a:rPr>
              <a:t>             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建築工程的塗裝具有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物體的保存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保護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物體的美化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色彩的調節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82600" y="691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凡須油漆之底材受漆表面，應予以適當之處理並充分乾燥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在油漆塗裝之前，須將所有雜物如油脂、鐵屑、鱗片及污物徹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底清除。若有銹蝕應以噴砂處理除銹後，以砂紙研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有關塗料之調和、用量、塗膜厚度、稀釋及受漆面之處理等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應依製造廠商之技術資料之規定辦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依據下列規定或製造廠商建議之方法塗刷塗料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應待下層漆膜徹底乾透後，以砂紙研磨平滑再塗上層漆膜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所有新完成之油漆面應作適當之保護至油漆層完全乾燥為止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經油漆之物件於油漆層未完全乾燥前不得搬動或於物件上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作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雨天、潮濕天氣或水氣凝結之表面不合於油漆作業時，不得施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D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油漆得採用熟練工人以刷塗、滾塗或噴塗方法施工，務使油漆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塗佈成一均勻薄膜，表面色澤勻稱，不露任何刷痕、流痕、皺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紋、起皮、脫殼等瑕疵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187280" y="5490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2000" spc="-1" strike="noStrike">
                <a:solidFill>
                  <a:srgbClr val="800000"/>
                </a:solidFill>
                <a:latin typeface="Arial"/>
              </a:rPr>
              <a:t>二</a:t>
            </a:r>
            <a:r>
              <a:rPr b="0" lang="zh-TW" sz="20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2000" spc="-1" strike="noStrike">
                <a:solidFill>
                  <a:srgbClr val="800000"/>
                </a:solidFill>
                <a:latin typeface="Arial"/>
              </a:rPr>
              <a:t>金屬防蝕塗料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材料品質管制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材料品質須符合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CNS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之規定，並須提送試驗證明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依據本章相關準則之規定，提送原製造廠商出具之出廠證明文件及保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證書正本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塗料產品不得超過其有效期限，如無註明者以出廠日期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</a:rPr>
              <a:t>年內為準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如無特殊規定時，在整個工程中，用於任何同一表面或設備之材料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應為同一製造廠商之產品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塗料應以製造廠之原包裝運達工地，容器上應附有標籤，載明規格、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材料、廠牌、產品編號及生產、有效期限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搬運時應防止容器碰撞、破損，運送至現場的產品應完好無缺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運至工地之塗料應貯存於清潔、乾燥、通風良好之場所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防蝕塗料及其相關製品儲放場所應有防止火災發生之完善措施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9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相對溼度高於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</a:rPr>
              <a:t>85%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</a:rPr>
              <a:t>以上時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，不得施工，施工環境不可有塵土飛楊情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形，以免污染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10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氣溫低於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</a:rPr>
              <a:t>10℃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時，不得於室外塗佈，溫度低於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</a:rPr>
              <a:t>7℃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時不得於室內塗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佈，但塗料製造廠商另有建議，且經工程司同意者不在此限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11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鋼構件表面溫度超過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</a:rPr>
              <a:t>40℃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</a:rPr>
              <a:t>或低於結露點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時不得塗裝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87280" y="18864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施工材料品質標準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底漆應能配合被塗物之各種表面狀況選用，且應與面漆搭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稀釋劑：依塗料製造廠商之建議與施工說明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伐銹底漆：依塗料製造廠商之建議與施工說明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主要成分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本作業採用之塗料，其加熱殘份（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%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）即固態物含量、樹脂、顏料等主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要成分，均應符合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CNS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之規定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兩液型塗料之配比依各製造廠商之技術資料規定辦理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防蝕塗料之其他工作項目，其材料得依原製造廠商建議使用之塗料為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準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針對塗料之特性、樹脂系統、顏料、使用地區及耐用年限，所製成之塗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料產品，其品質應符合油漆塗料之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CNS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國家標準。並應同時考慮環境影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響評估，選取適當之塗裝系統符合下列各項功能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接著性：底漆、中塗層、面漆等之接著性均應符合各該項之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CNS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標準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耐蝕性：塗裝面之耐蝕性均應符合各該項塗料之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CNS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標準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塗膜均勻性：每道漆必須連續、平滑、厚度均勻不得突顯底層漆色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D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顏色均勻性：同一種色系要求一致，不應有肉眼辨識出二種顏色之差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異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E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塗膜厚度：塗裝設計圖說所規定之厚度，可依每道測試一次，完工塗裝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厚度總和不得低於設計規定之厚度，此厚度為乾膜厚度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</a:rPr>
              <a:t>為單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</a:rPr>
              <a:t>位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F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塗膜之完整性：塗裝完成不得有垂流、砂皮、剝離、起泡、皺紋、不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乾、龜裂、生銹等塗裝缺陷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11600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施工步驟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凡須塗裝之底材受漆面，應予以適當之處理並充分乾燥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金屬材或鋼材之受漆面應在塗裝之前，將所有雜物如油脂、鐵屑、鱗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片及污物徹底清除。若有銹蝕應以噴砂處理除銹後，以砂紙研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以刷、掃、真空吸塵或高壓空氣噴吹除去表面灰塵及鬆動之雜物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在塗裝前已完成之五金電器裝備及其他建築裝修材料表面等，應加強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保護，以免塗裝時受污染，必要時經設計單位同意得予以拆除暫存，並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於塗裝工作完成後再重新按裝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除另有規定外，應依據下列規定辦理或製造廠商之建議方法塗刷塗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料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應待下層塗膜徹底乾透後，以砂紙研磨平滑再塗上層塗膜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所有新完成之塗裝面應作適當之保護至塗膜層完全乾燥為止，經塗裝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之物件於塗膜層未完全乾燥前不得搬動或於物件上工作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塗料應僱用具有技術士證照之人員刷塗、滾塗或噴塗方法等施工，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使塗佈成一均勻薄膜，表面色澤勻稱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82600" y="6202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施工要求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有關塗料之調和、用量、塗膜厚度、稀釋及受漆面之處理等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應依製造廠商技術資料及施工計劃書內之規定辦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被塗物之隙縫、陰角、稜角必須先依規定以手工方式塗裝，其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修補亦應按照程序逐層施作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每層防蝕塗料完成後應通知設計單位，必要時得予以抽查，並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俟其核可後，方得塗佈上層塗料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室內及室外鋼件、鐵金屬表面之底塗、面塗乾膜厚度為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底漆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60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～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80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微米（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）。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(0.06~0.08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公釐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面漆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75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～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125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微米（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）。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(0.075~0.125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公釐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室內及室外鍍鋅鋼件、鋁及其他非鐵金屬表面之底塗、面塗乾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膜厚度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底漆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100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～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150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微米（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）。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(0.1~0.15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公釐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面漆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75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～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125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微米（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）。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(0.075~0.125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公釐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施工中之檢驗塗料應在原包裝啟封狀況下使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完工後之目視檢驗塗膜均勻性、顏色均勻性及塗膜之完整性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82600" y="549000"/>
            <a:ext cx="777240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三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金屬防火塗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材料品質管制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遵照本章相關準則之規定，提送供料或製造廠商之出廠證明文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件及保證書正本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防火塗料應提出符合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CNS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標準之防火時效證明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提送內政部營建署新技術、新工法、新設備、新材料審核認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提送所採用材料及產品材質、強度符合規定之試驗證明文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運送至現場的產品應完好無缺。搬運時應防止碰撞及刮傷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產品儲存時應保持乾燥；並與地面、土壤隔離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施工材料品質標準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防火塗料分成下列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3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種類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第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種：發泡性者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第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種：具發泡性者，分成下塗用及上塗用，並用兩者方有效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果者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第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種：需厚塗者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82600" y="620280"/>
            <a:ext cx="381024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本產品之品質須符合下表之規定：詳右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標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防火性係依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CNS 6532 A3113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（建築物室內裝修材料之耐  燃性檢驗法）所規定之下列級別表示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[A.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耐燃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級。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[B.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耐燃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級。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防火塗料之容器外面上須標示製造廠商或其代號，製造年月，產品名稱，種類及對難燃級別之塗膜厚度或塗佈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859280" y="836640"/>
            <a:ext cx="4095720" cy="5295960"/>
            <a:chOff x="4859280" y="836640"/>
            <a:chExt cx="4095720" cy="529596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4859280" y="836640"/>
              <a:ext cx="4095720" cy="529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 txBox="1"/>
            <p:nvPr/>
          </p:nvSpPr>
          <p:spPr>
            <a:xfrm>
              <a:off x="4859280" y="836640"/>
              <a:ext cx="4095720" cy="529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cc3300"/>
                </a:buClr>
                <a:buSzPct val="85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基本材料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產品成份：芳香烴溶液中的合成樹脂，乙基苯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- 10%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，二甲苯 –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10%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，石化烴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- 25%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，有機、無機的活性同質異構物成份約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- 55%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鋼材專用熱膨脹絕緣環氧塗料，兩液觸媒型熱膨脹絕緣半光防火塗料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先將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劑拌均勻後，將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劑加入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劑，再攪拌均勻（不可使用金屬攪拌設 備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物理特性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固態比：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65%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儲存溫度：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5℃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以上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耐火時效：依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BS 476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第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21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條規範耐火時效達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小時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D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乾燥時間：依施工厚度、施工方法及天候而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E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再次噴塗：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小時以後即可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F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面漆：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～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天後即可塗面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G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顏色：白色平光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H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比重：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1.22 at 20℃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26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施工前注意事項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施工前須確實檢查噴塗部分之表面狀況、結構表面之灰塵、污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垢、銹蝕鬆動之表層及有妨礙噴塗之各種雜質均應予以清除乾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施工前須確定採傳統之塗刷、滾刷或噴塗方式完成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風管、水管管線須待防火漆完工後再施作，以免影響工程品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質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防火漆之噴塗量應依鋼構實際之尺度計算後，依所須之防火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效對照原廠所提供之塗佈量實際施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所有附著於鋼構之各種五金如套管、夾具、管線支架、掛鉤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等，應於噴塗前先完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施工現場之門、牆、開關箱、設備、管、線盒等事先應掩蓋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免噴到，本產品為油基性，所以不會損及金屬、不銹鋼或其他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鐵類製品之腐蝕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如因碰撞、刮傷，可先用砂紙將表面研磨，再以鋼構防火塗料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塗上適當厚度，等乾燥之後再上面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如因高熱或火燒後，以刮刀完全除之，至鋼構層以砂紙磨平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再上防銹漆及防火塗料，乾燥後再上面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9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防銹底漆應選擇可相容的防銹底漆如快乾的環氧樹脂類，鋅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磷化類樹脂等等，而紅丹、瀝青或氯化橡膠則不適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549000"/>
            <a:ext cx="777240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施工要求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防火塗料之塗裝方式有可滾、刷、噴、塗等。被塗物表面需清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潔、無塵埃；為求最佳防火效果，應確定其完全乾燥方可噴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塗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原塗料白色，用色料可調製任何顏色及光澤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表面耐水性，採罩面油性防火漆，被塗物在不浸水下，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保證防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火時效達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使用前充分攪拌均勻</a:t>
            </a:r>
            <a:r>
              <a:rPr b="0" i="1" lang="zh-TW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i="1" lang="zh-TW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i="1" lang="zh-TW" sz="2000" spc="-1" strike="noStrike">
                <a:solidFill>
                  <a:srgbClr val="ff0000"/>
                </a:solidFill>
                <a:latin typeface="Arial"/>
              </a:rPr>
              <a:t>～</a:t>
            </a:r>
            <a:r>
              <a:rPr b="0" i="1" lang="zh-TW" sz="2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i="1" lang="zh-TW" sz="2000" spc="-1" strike="noStrike">
                <a:solidFill>
                  <a:srgbClr val="ff0000"/>
                </a:solidFill>
                <a:latin typeface="Arial"/>
              </a:rPr>
              <a:t>分鐘）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，使用後蓋緊桶蓋。確保品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質，應存放於常溫下，通風良好或不受陽光照射處。貯存期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塗佈面積：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每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加侖可噴刷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～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坪（約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16m2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），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表面厚膜達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1mm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，但仍需視塗刷表面性質、防火條件要求及施工方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完工後使用儀器量其濕膜厚度，待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天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完全乾固後，再以儀器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其乾膜厚度即可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防火層經完全乾固後（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約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天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）以膜厚儀丈量乾膜厚度（上、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中、下部位之平均值）達原廠規定厚度，始可上面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ff"/>
                </a:solidFill>
                <a:latin typeface="Arial"/>
              </a:rPr>
              <a:t>壹</a:t>
            </a:r>
            <a:r>
              <a:rPr b="0" lang="zh-TW" sz="4400" spc="-1" strike="noStrike">
                <a:solidFill>
                  <a:srgbClr val="0066ff"/>
                </a:solidFill>
                <a:latin typeface="Arial"/>
              </a:rPr>
              <a:t>、裝修塗裝</a:t>
            </a:r>
            <a:r>
              <a:rPr b="0" lang="zh-TW" sz="4800" spc="-1" strike="noStrike">
                <a:solidFill>
                  <a:srgbClr val="0066ff"/>
                </a:solidFill>
                <a:latin typeface="Arial"/>
              </a:rPr>
              <a:t>作業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3120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"/>
              </a:rPr>
              <a:t>一、金屬表面塗裝施工作業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一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金屬油漆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二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金屬防蝕塗料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三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金屬防火塗料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zh-TW" sz="2200" spc="-1" strike="noStrike">
                <a:solidFill>
                  <a:srgbClr val="000066"/>
                </a:solidFill>
                <a:latin typeface="Arial"/>
              </a:rPr>
              <a:t>二、木作表面塗裝作作業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zh-TW" sz="2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2200" spc="-1" strike="noStrike">
                <a:solidFill>
                  <a:srgbClr val="800000"/>
                </a:solidFill>
                <a:latin typeface="Arial"/>
              </a:rPr>
              <a:t>一</a:t>
            </a:r>
            <a:r>
              <a:rPr b="0" lang="zh-TW" sz="2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2200" spc="-1" strike="noStrike">
                <a:solidFill>
                  <a:srgbClr val="800000"/>
                </a:solidFill>
                <a:latin typeface="Arial"/>
              </a:rPr>
              <a:t>木作油漆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材料品質管制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200" spc="-1" strike="noStrike">
                <a:solidFill>
                  <a:srgbClr val="336699"/>
                </a:solidFill>
                <a:latin typeface="Arial"/>
              </a:rPr>
              <a:t>詳金屬油漆材料品質管制。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施工作業品質標準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200" spc="-1" strike="noStrike">
                <a:solidFill>
                  <a:srgbClr val="336699"/>
                </a:solidFill>
                <a:latin typeface="Arial"/>
              </a:rPr>
              <a:t>詳金屬油漆施工作業品質管制。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施工步驟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2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200" spc="-1" strike="noStrike">
                <a:solidFill>
                  <a:srgbClr val="336699"/>
                </a:solidFill>
                <a:latin typeface="Arial"/>
              </a:rPr>
              <a:t>室內露面木作（透明）：除圖上另有規定，否則凡木料上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200" spc="-1" strike="noStrike">
                <a:solidFill>
                  <a:srgbClr val="336699"/>
                </a:solidFill>
                <a:latin typeface="Arial"/>
              </a:rPr>
              <a:t>材，或貼木皮之露面木作均採本法。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木器用頭度底漆一道。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木器用二度底漆二道。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透明噴漆二道。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zh-TW" sz="22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200" spc="-1" strike="noStrike">
                <a:solidFill>
                  <a:srgbClr val="336699"/>
                </a:solidFill>
                <a:latin typeface="Arial"/>
              </a:rPr>
              <a:t>室內露面木作經註明為</a:t>
            </a:r>
            <a:r>
              <a:rPr b="0" lang="zh-TW" sz="2200" spc="-1" strike="noStrike">
                <a:solidFill>
                  <a:srgbClr val="336699"/>
                </a:solidFill>
                <a:latin typeface="Arial"/>
              </a:rPr>
              <a:t>PU</a:t>
            </a:r>
            <a:r>
              <a:rPr b="0" lang="zh-TW" sz="2200" spc="-1" strike="noStrike">
                <a:solidFill>
                  <a:srgbClr val="336699"/>
                </a:solidFill>
                <a:latin typeface="Arial"/>
              </a:rPr>
              <a:t>漆者，依下列規定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木器用聚胺脂頭度底漆一道。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木器用聚胺脂二度底漆二道。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木器用聚胺脂面漆二道。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2600" y="6202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室內露面木作（有色）：用於露面木料中材，合板或圖示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註明為有色者，均依下列規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補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噴漆二道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室外露面木作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酸酐樹脂底漆一道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顏色調和漆二道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各項施工作業及檢驗程序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門框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a.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表面清潔及附著物清除。</a:t>
            </a:r>
            <a:endParaRPr b="0" lang="en-US" sz="21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             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b.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釘孔、接縫補土。</a:t>
            </a:r>
            <a:endParaRPr b="0" lang="en-US" sz="21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             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c.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研磨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(120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號以上之砂紙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。</a:t>
            </a:r>
            <a:endParaRPr b="0" lang="en-US" sz="21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             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d.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全面批土、補平木料之毛細孔。</a:t>
            </a:r>
            <a:endParaRPr b="0" lang="en-US" sz="21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             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e.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研磨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(160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號以上之砂紙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。</a:t>
            </a:r>
            <a:endParaRPr b="0" lang="en-US" sz="21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             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f.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噴第一度面漆。</a:t>
            </a:r>
            <a:endParaRPr b="0" lang="en-US" sz="21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             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g.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檢查及整修。</a:t>
            </a:r>
            <a:endParaRPr b="0" lang="en-US" sz="21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             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h.</a:t>
            </a:r>
            <a:r>
              <a:rPr b="0" lang="zh-TW" sz="2100" spc="-1" strike="noStrike">
                <a:solidFill>
                  <a:srgbClr val="009900"/>
                </a:solidFill>
                <a:latin typeface="Arial"/>
              </a:rPr>
              <a:t>噴第二度面漆。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2600" y="6202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門扇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a.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批土補平木板毛細孔及線挑板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b.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研磨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(160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號以上之砂紙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c.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底部封邊噴二度面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d.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噴第一度面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e.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檢查及整修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f.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吊裝完成進行清潔、修補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g.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噴第二度面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木扶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99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a.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研磨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(160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號以上之砂紙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b.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打色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c.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塗刷頭度底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d.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研磨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(160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號以上之砂紙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e.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塗刷第二度底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f.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塗刷第一度凡立水。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以兔毛排筆塗刷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g.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檢查及整修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h.</a:t>
            </a:r>
            <a:r>
              <a:rPr b="0" lang="zh-TW" sz="2400" spc="-1" strike="noStrike">
                <a:solidFill>
                  <a:srgbClr val="009900"/>
                </a:solidFill>
                <a:latin typeface="Arial"/>
              </a:rPr>
              <a:t>塗刷第二度凡立水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2600" y="549000"/>
            <a:ext cx="777240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D.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線板、踢腳板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批土補平木料上之毛細孔、釘孔及接縫補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谅乾後研磨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(120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號以上之砂紙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，除去木料上之木質纖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毛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c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打底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d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噴第一度面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e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研磨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(160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號以上之砂紙研磨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，使木料表面平滑細緻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f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塗刷第一道油性面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g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塗刷第二道油性面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E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夾板平頂天花油漆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鐵釘處點紅丹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夾板及夾板之接縫及夾板與其他材料交接處貼紗布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c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全面批土並須添加樹脂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d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研磨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(160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號以上之砂紙研磨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)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e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塗刷第一度面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f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檢查及整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g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塗刷第二度面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8260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施工前注意事項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受漆面須完全乾燥，用含水率測濕計偵測，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含水率應在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10%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受漆面如有油漬、灰塵污物、模板屑等雜物，須先行去除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受漆面如有浮屑、蜂窩等不平整現象，應先修補平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受漆面如發現有龜裂痕跡，須通知設計單位查驗，經認可後方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得施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油漆施工前之表面處理凡須油漆之底材受漆表面，應予以適當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之處理並充分乾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木作之表面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須用砂紙磨光，將所有粗糙毛邊除去，然後將粉屑削去，油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或污物須用合格之清除劑除去，節疤、裂痕、釘眼、接頭、榫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頭需以合格之嵌補材料嵌補之，俟乾硬後用砂紙磨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以刷、掃、真空吸塵或高壓空氣吹除之方式除去表面灰塵及鬆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動之雜物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在油漆前已完成之五金電器設備及其他建築裝修表面等，應要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加強保護，以免油漆時污染，必要時經設計單位同意予以拆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除，使油漆工作完成後再重新按裝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60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zh-TW" sz="29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zh-TW" sz="2900" spc="-1" strike="noStrike">
                <a:solidFill>
                  <a:srgbClr val="cc3300"/>
                </a:solidFill>
                <a:latin typeface="Arial"/>
              </a:rPr>
              <a:t>施工要求：</a:t>
            </a:r>
            <a:endParaRPr b="0" lang="en-US" sz="29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應待下層漆膜徹底乾透後，以砂紙研磨平滑再塗上層漆膜。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所有新完成之油漆面應作適當之保護至油漆層完全乾燥為止，經油漆之物件於油漆層未完全乾燥前不得搬動或於物件上工作。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雨天、潮濕天氣或水氣凝結之表面不合於油漆作業時，不得施工。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油漆得採用熟練具技術士證照人員刷塗、滾塗或噴塗方法施工，務使油漆塗佈成一均勻薄膜，表面色澤勻稱，不露任何刷痕、流痕、皺紋、起皮、脫殼等瑕疵。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在同一空間內，任何配合作業未完成前，不得進行末度面漆。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乾膜厚度 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每道漆</a:t>
            </a: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25</a:t>
            </a: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～</a:t>
            </a: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40</a:t>
            </a: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微米（</a:t>
            </a: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m</a:t>
            </a: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）。</a:t>
            </a:r>
            <a:r>
              <a:rPr b="0" lang="zh-TW" sz="25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zh-TW" sz="2500" spc="-1" strike="noStrike">
                <a:solidFill>
                  <a:srgbClr val="ff0000"/>
                </a:solidFill>
                <a:latin typeface="Arial"/>
              </a:rPr>
              <a:t>(0.025~0.04</a:t>
            </a:r>
            <a:r>
              <a:rPr b="0" lang="zh-TW" sz="2500" spc="-1" strike="noStrike">
                <a:solidFill>
                  <a:srgbClr val="ff0000"/>
                </a:solidFill>
                <a:latin typeface="Arial"/>
              </a:rPr>
              <a:t>公釐</a:t>
            </a:r>
            <a:r>
              <a:rPr b="0" lang="zh-TW" sz="25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2600" y="549000"/>
            <a:ext cx="777240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2000" spc="-1" strike="noStrike">
                <a:solidFill>
                  <a:srgbClr val="800000"/>
                </a:solidFill>
                <a:latin typeface="Arial"/>
              </a:rPr>
              <a:t>二</a:t>
            </a:r>
            <a:r>
              <a:rPr b="0" lang="zh-TW" sz="20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2000" spc="-1" strike="noStrike">
                <a:solidFill>
                  <a:srgbClr val="800000"/>
                </a:solidFill>
                <a:latin typeface="Arial"/>
              </a:rPr>
              <a:t>木作防火塗料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材料品質管制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遵照本章相關準則之規定，提送供料或製造廠商之出廠證明文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件及保證書正本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防火塗料應提出符合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CNS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標準之防火時效證明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提送內政部營建署新技術、新工法、新設備、新材料審核認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提送所採用材料及產品材質、強度符合規定之試驗證明文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運送至現場的產品應完好無缺。搬運時應防止碰撞及刮傷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產品儲存時應保持乾燥；並與地面、土壤隔離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施工材料品質標準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防火塗料分成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聚磷酸銨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32%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，熱膨脹體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24%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，乳膠樹脂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17%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，鈦白粉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15%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其他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12%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，揮發成份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35%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（水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82%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、乙二醇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9%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、其他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9%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物理特性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固態比：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65%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儲存溫度：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5℃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以上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160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耐火時效：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1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小時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乾燥時間：依施工厚度、施工方法及天候而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再次噴塗：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2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小時以後即可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面漆：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2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～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5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天後即可塗面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顏色：白色平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比重：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1.22at 20℃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。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施工前注意事項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施工前須確實檢查噴塗部分之表面狀況、結構表面之灰塵、污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垢、銹蝕鬆動之表層及有妨礙噴塗之各種雜質均應予以清除乾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施工前須確定採傳統之塗刷、滾刷或噴塗方式完成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風管、水管管線須待防火漆完工後再施作，以免影響工程品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質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防火漆之噴塗量應依鋼構實際之尺度計算後，依所須之防火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效對照原廠所提供之塗佈量實際施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施工現場之門、牆、開關箱、設備、管、線盒等事先應掩蓋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免噴到，本產品為油基性，所以不會損及金屬、不銹鋼或其他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鐵類製品之腐蝕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2600" y="549000"/>
            <a:ext cx="777240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施工要求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防火塗料之塗裝方式有可滾、刷、噴、塗等。被塗物表面需清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潔、無塵埃；為求最佳防火效果，應確定其完全乾燥方可噴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塗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原塗料白色，用色料可調製任何顏色及光澤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表面耐水性，採罩面油性防火漆，被塗物在不浸水下，保證防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火時效達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5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使用前充分攪拌均勻（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5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～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10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分鐘），使用後蓋緊桶蓋。確保品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質，應存放於常溫下，通風良好或不受陽光照射處。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貯存期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塗佈面積：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每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加侖可噴刷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～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坪（約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16m2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），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表面厚膜達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1mm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，但仍需視塗刷表面性質、防火條件要求及施工方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完工後使用儀器量其濕膜厚度，待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天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完全乾固後，再以儀器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其乾膜厚度即可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防火層經完全乾固後（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約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天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）以膜厚儀丈量乾膜厚度（上、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中、下部位之平均值）達原廠規定厚度，始可上面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16000" y="40428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66"/>
                </a:solidFill>
                <a:latin typeface="Arial"/>
              </a:rPr>
              <a:t>三、泥作表面塗裝作施工作業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一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泥作油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材料品質管制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塗料之品質須符合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CNS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或各該生產國之國家標準，並取得經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濟部商品檢驗局之材料試驗合格證明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提送所採用材料之品質及產品之功能、強度均符合圖說規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之試驗證明文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提送原製造廠商出具之出廠證明文件及保證書正本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承包商應採用同一家供料廠商之系統材料，並由具有原廠之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施工授權證明之分包商責任施工，以確保品質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在整個工作中，用於任何同一表面或設備之材料，應為同一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製造廠商之產品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使用之塗料產品不得超過儲存年限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產品於裝卸時應避免容器破損，傷及產品，並儲存於清潔、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通風良好且無日曬之場所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漆料應以製造廠商之原包裝運至工作地點，容器上應附有標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籤，載明引用規範編碼及種類、規格、材料、廠牌、產品編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號以利分類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182600" y="6202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"/>
              </a:rPr>
              <a:t>二、木作表面塗裝作作業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一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木作油漆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二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木作防火塗料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Arial"/>
              </a:rPr>
              <a:t>三、泥作表面塗裝作施工作業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一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水泥漆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二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環氧樹脂漆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三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800000"/>
                </a:solidFill>
                <a:latin typeface="Arial"/>
              </a:rPr>
              <a:t>仿石質複層塗料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6202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9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漆料產品應以原包裝儲存於通風良好且乾燥之遮蔽空間，並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以防水布覆蓋保護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0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漆料產品及其相關製品儲放場所應有防止火災發生之完善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措施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施工作業品質標準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須符合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CNS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之規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規格：依各廠包裝之適用規格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材質：壓克力樹脂類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耐火性：須符合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CNS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之規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塗裝後之膜厚：濕膜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200 μ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，乾膜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100μ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以上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容器內狀態：易於調勻，且無結塊現象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施工前注意事項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面漆層之表面於施作前應予清潔，所有油漬、污物、鬆散物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及其他雜物均須除去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凡對施工有影響之場地情況，均應先勘察，並須在場地情況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合乎施工條件下，經設計單位核准後，方可開始塗裝工作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82600" y="692280"/>
            <a:ext cx="77724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施工步驟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平頂水泥漆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土屑剷平、機械磨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平頂第一次批土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水泥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+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海蔡粉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C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平頂第二次批土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塗料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+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樹脂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D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研磨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(160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號以上之砂紙研磨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，使木料表面平滑細緻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E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塗刷第一度面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F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檢查若有不平、色澤不均之處，則必須重行批土、研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磨、補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G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塗刷第二度面漆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H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檢查及整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內牆水泥漆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牆面清潔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批土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塗料加樹脂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C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研磨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(120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號以上之砂紙研磨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D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塗刷第一度面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E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檢查及整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F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塗刷第二度面漆。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82600" y="404280"/>
            <a:ext cx="7772400" cy="57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施工要求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應待下層漆膜徹底乾透後，以砂紙研磨平滑再塗上層漆膜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所有新完成之油漆面應作適當之保護至油漆層完全乾燥為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止，經油漆之物件於油漆層未完全乾燥前不得搬動或於物件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上工作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承包商須對水泥漆之塗料材質，屬原廠之原封包裝，施工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不得摻雜其它材料礦物填縫料等，稀釋量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不得大於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20%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，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免影響塗裝材料之品質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以滾筒施工須以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道施作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，且須達到規範膜厚之標準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塗裝面應均勻平滑，無氣泡、流痕及高低不平等現象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新施工完成之表面，在尚未完全乾燥時，應予以警示及維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護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2600" y="549000"/>
            <a:ext cx="777240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二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環氧樹脂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材料品質管制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材料生產或供應廠商資料及技術文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施工用機具及器材等技術資料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所使用塗料，應註明製造廠商、品牌以及產品編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塗料之儲存、運送、表面處理、攪拌、稀釋、塗裝、修補及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檢驗等詳細技術文件應送設計單位核可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環氧樹脂漆之品質須符合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CNS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之國家標準，並取得經濟部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商品檢驗局之材料試驗合格證明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提送所採用材料之品質及產品之功能、強度均符合本章規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之試驗證明文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依據本章相關準則之規定，提送原製造廠商出具之出廠證明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文件及保證書正本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承包商應採用同一家供料廠商之系統材料，並由具有原廠之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施工授權證明之分包商責任施工，以確保品質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9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在整個工作中，用於任何同一表面或設備之材料，應為同一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製造廠商之產品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0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使用之塗料產品不得超過儲存年限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82600" y="69228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施工作業品質標準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施工環境不可有塵土飛揚情形，以免污染未乾塗料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潮濕天候時，相對濕度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高於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10%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時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，不得將油漆塗布於無遮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蔽之表面，亦不得塗於有水或潮濕之表面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氣溫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低於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10℃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時，不得塗佈室外漆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，溫度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低於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7℃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時不得塗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佈室內漆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，但環氧樹脂漆製造廠商另有建議者除外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鋼料之表面溫度低於露點且天候下雨、刮風、有霧或濕氣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或其表面溫度超過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40℃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時，不得塗佈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工作完成後，應由承包商出具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年以上保固期限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之保證書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保固期間如有非人為之剝落及變色現象，應完全負無償修復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之責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應能配合各種表面之用，且應與面漆相容搭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稀釋劑：得依塗料製造廠商之建議與施工說明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防銹底漆：得依塗料製造廠商之建議與施工說明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透明環氧樹脂底漆：應符合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CNS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規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D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環氧樹脂厚塗底漆：應符合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CNS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規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920" y="404640"/>
            <a:ext cx="77724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二液型環氧樹脂漆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水性環氧樹脂漆：應符合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CNS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之規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水性壓克力環氧樹脂漆：應符合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CNS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之規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9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其規格詳如下述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材質：水性環氧樹脂及硬化劑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耐燃性：應符合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CNS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規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抗酸鹼性：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10%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之酸鹼度以下，表面面漆不受影響且材質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未變化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D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硬度：應符合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4H-5H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以上為標準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E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膜厚：濕膜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200 μ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，乾膜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64 μ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0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環氧樹脂主劑與硬化劑之配比依各原製造廠之技術資料為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準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使用之塗料若為原裝容器運抵工地者，應於現場開封方得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使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若使用之塗料係由現場混合後加工製成者，則須依據原製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造廠商所規定之配方調製，並由承包商具結保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環氧樹脂漆顏色依據設計圖說規定或由設計單位選定，承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包商應製作顏色樣板提供作為選色之參考，選定之樣本作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施工驗收之比對憑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8260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施工前注意事項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受漆面須完全乾燥，含水率應在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10%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以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受漆面如有油漬、灰塵污物、模板屑等雜物，須先行去除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受漆面如有浮屑、蜂窩等不平整現象，應先修補平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受漆面如發現有龜裂痕跡，須通知工程司查驗，經認可後方得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施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凡須環氧樹脂漆之底材受漆表面，應予以適當之處理並充分乾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刮除隆起及其他突出物，以合格嵌補材料補平凹洞及裂痕，使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其與表面紋理相吻合，俟乾硬後以砂紙磨平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以刷、掃、真空吸塵或高壓空氣吹除之方式除去表面灰塵及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鬆動之雜物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在塗佈前已完成之五金電器設備及其他建築裝修表面等，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要加強保護，以免油漆時污染，必要時經設計單位同意予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拆除，使環氧樹脂漆工作完成後再重新按裝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2600" y="6202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施工步驟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各種漆面，除設計圖或施工製造圖另有註明或另有專章規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者外，應依下列原則辦理，每一表面上各層塗料應為同一製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造廠商之產品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室外露面之混凝土面，經註明為環氧樹脂漆者，依下列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定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透明環氧樹脂底漆一道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環氧樹脂厚塗底漆一道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環氧樹脂中塗漆二道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D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環氧樹脂面漆二道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其他使用於辦公室、廠房、屋頂面、停車場、車道、展示空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間等之地坪處理，經註明為環氧樹脂漆者，依下列規定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透明環氧樹脂底漆一道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環氧樹脂厚塗底漆一道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環氧樹脂中塗漆二道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D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環氧樹脂地坪厚塗面漆二道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82600" y="475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5.</a:t>
            </a: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施工要求：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zh-TW" sz="17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1700" spc="-1" strike="noStrike">
                <a:solidFill>
                  <a:srgbClr val="336699"/>
                </a:solidFill>
                <a:latin typeface="Arial"/>
              </a:rPr>
              <a:t>有關塗料之調和、用量、塗膜厚度、稀釋及受漆面之處理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1700" spc="-1" strike="noStrike">
                <a:solidFill>
                  <a:srgbClr val="336699"/>
                </a:solidFill>
                <a:latin typeface="Arial"/>
              </a:rPr>
              <a:t>等，應依製造廠商之技術資料之規定辦理。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17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1700" spc="-1" strike="noStrike">
                <a:solidFill>
                  <a:srgbClr val="336699"/>
                </a:solidFill>
                <a:latin typeface="Arial"/>
              </a:rPr>
              <a:t>依據下列規定採用無氣噴塗機噴塗、滾筒塗佈、毛刷刷塗等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1700" spc="-1" strike="noStrike">
                <a:solidFill>
                  <a:srgbClr val="336699"/>
                </a:solidFill>
                <a:latin typeface="Arial"/>
              </a:rPr>
              <a:t>方式或製造廠商建議之方法塗刷塗料，其步驟如下：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應待下層漆膜徹底乾透後，以砂紙研磨平滑再塗上層漆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              </a:t>
            </a: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膜。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所有新完成之塗料表面應作適當之保護至塗料層完全乾燥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              </a:t>
            </a: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為止，經塗佈之物件於塗料層未完全乾燥前不得搬動或於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              </a:t>
            </a: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物件上工作。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雨天、潮濕天氣或水氣凝結之表面不合於塗佈作業時，不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              </a:t>
            </a: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得施工。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D.</a:t>
            </a: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環氧樹脂漆得採用熟練工人以刷塗、滾塗或噴塗方法施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              </a:t>
            </a: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工，務使塗料塗佈成一均勻薄膜，表面色澤勻稱，不露任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              </a:t>
            </a: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何刷痕、流痕、皺紋、起皮、脫殼等瑕疵。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E.</a:t>
            </a:r>
            <a:r>
              <a:rPr b="0" lang="zh-TW" sz="1700" spc="-1" strike="noStrike">
                <a:solidFill>
                  <a:srgbClr val="cc3300"/>
                </a:solidFill>
                <a:latin typeface="Arial"/>
              </a:rPr>
              <a:t>同一空間內，在配合作業未完成前，不得進行末度面漆。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" spc="-1" strike="noStrike">
                <a:solidFill>
                  <a:srgbClr val="080808"/>
                </a:solidFill>
                <a:latin typeface="Arial"/>
              </a:rPr>
              <a:t>           </a:t>
            </a:r>
            <a:endParaRPr b="0" lang="en-US" sz="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80808"/>
                </a:solidFill>
                <a:latin typeface="Arial"/>
              </a:rPr>
              <a:t>             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F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乾膜厚度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室內混凝土及水泥粉刷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每道漆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50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～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60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微米（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室外混凝土及水泥粉刷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     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每道漆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50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～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75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微米（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註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TW" sz="1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木作之表面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        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須用砂紙磨光，將所有粗糙毛邊除去，然後將粉屑削去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    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油脂或污物須用合格之清除劑除去，節疤、裂痕、釘眼、接頭、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    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榫頭需   以合格之嵌補材料嵌補之，俟乾硬後用砂紙磨光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 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金屬物之光面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        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在塗佈之前，須將所有雜物如油脂、鐵屑、鱗片及污物徹底清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    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除。若有銹蝕應以噴砂處理除銹後，以砂紙研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 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乾膜厚度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       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室內及室外鋼件、鐵金屬表面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底漆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60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～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80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微米（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面漆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75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～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125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微米（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m)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室內及室外鍍鋅鋼件、鋁及其他非鐵金屬之表面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底漆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100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～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150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微米（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面漆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75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～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125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微米（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80808"/>
                </a:solidFill>
                <a:latin typeface="Arial"/>
              </a:rPr>
              <a:t>               </a:t>
            </a:r>
            <a:r>
              <a:rPr b="0" lang="zh-TW" sz="16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1600" spc="-1" strike="noStrike">
                <a:solidFill>
                  <a:srgbClr val="cc3300"/>
                </a:solidFill>
                <a:latin typeface="Arial"/>
              </a:rPr>
              <a:t>木作表面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cc3300"/>
                </a:solidFill>
                <a:latin typeface="Arial"/>
              </a:rPr>
              <a:t>                   </a:t>
            </a:r>
            <a:r>
              <a:rPr b="0" lang="zh-TW" sz="1600" spc="-1" strike="noStrike">
                <a:solidFill>
                  <a:srgbClr val="cc3300"/>
                </a:solidFill>
                <a:latin typeface="Arial"/>
              </a:rPr>
              <a:t>每道漆</a:t>
            </a:r>
            <a:r>
              <a:rPr b="0" lang="zh-TW" sz="1600" spc="-1" strike="noStrike">
                <a:solidFill>
                  <a:srgbClr val="cc3300"/>
                </a:solidFill>
                <a:latin typeface="Arial"/>
              </a:rPr>
              <a:t>25</a:t>
            </a:r>
            <a:r>
              <a:rPr b="0" lang="zh-TW" sz="1600" spc="-1" strike="noStrike">
                <a:solidFill>
                  <a:srgbClr val="cc3300"/>
                </a:solidFill>
                <a:latin typeface="Arial"/>
              </a:rPr>
              <a:t>～</a:t>
            </a:r>
            <a:r>
              <a:rPr b="0" lang="zh-TW" sz="1600" spc="-1" strike="noStrike">
                <a:solidFill>
                  <a:srgbClr val="cc3300"/>
                </a:solidFill>
                <a:latin typeface="Arial"/>
              </a:rPr>
              <a:t>40</a:t>
            </a:r>
            <a:r>
              <a:rPr b="0" lang="zh-TW" sz="1600" spc="-1" strike="noStrike">
                <a:solidFill>
                  <a:srgbClr val="cc3300"/>
                </a:solidFill>
                <a:latin typeface="Arial"/>
              </a:rPr>
              <a:t>微米（</a:t>
            </a:r>
            <a:r>
              <a:rPr b="0" lang="zh-TW" sz="1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0" lang="zh-TW" sz="1600" spc="-1" strike="noStrike">
                <a:solidFill>
                  <a:srgbClr val="cc3300"/>
                </a:solidFill>
                <a:latin typeface="Arial"/>
              </a:rPr>
              <a:t>）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</a:rPr>
              <a:t>油漆工程監工要點</a:t>
            </a:r>
            <a:r>
              <a:rPr b="0" lang="zh-TW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0" lang="zh-TW" sz="2000" spc="-1" strike="noStrike">
                <a:solidFill>
                  <a:srgbClr val="0066ff"/>
                </a:solidFill>
                <a:latin typeface="Arial"/>
              </a:rPr>
              <a:t>材料檢驗</a:t>
            </a:r>
            <a:r>
              <a:rPr b="0" lang="zh-TW" sz="20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a.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全部油漆之品質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廠牌必須依照施工說明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或經設計單位認可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b.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漆料送入工地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未經許可不得開箱加淡或滲入他物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c.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必要時可要求附出廠證明及數量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0" lang="zh-TW" sz="2000" spc="-1" strike="noStrike">
                <a:solidFill>
                  <a:srgbClr val="0066ff"/>
                </a:solidFill>
                <a:latin typeface="Arial"/>
              </a:rPr>
              <a:t>金屬</a:t>
            </a:r>
            <a:r>
              <a:rPr b="0" lang="zh-TW" sz="20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a.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一切鐵器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須先將浮鏽用鋼絲刷  刷淨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b.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用紅丹打底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再做顏色油漆二度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0" lang="zh-TW" sz="2000" spc="-1" strike="noStrike">
                <a:solidFill>
                  <a:srgbClr val="0066ff"/>
                </a:solidFill>
                <a:latin typeface="Arial"/>
              </a:rPr>
              <a:t>木作</a:t>
            </a:r>
            <a:r>
              <a:rPr b="0" lang="zh-TW" sz="20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a.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施工前須將灰漿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水泥及污斑等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一概剔除淨盡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用細砂紙磨光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b.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如有裂縫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釘眼可用白鉛油所浸之麻絨填平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c.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再做油漆或臘克二度</a:t>
            </a: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66ff"/>
                </a:solidFill>
                <a:latin typeface="Arial"/>
              </a:rPr>
              <a:t>4.</a:t>
            </a:r>
            <a:r>
              <a:rPr b="0" lang="zh-TW" sz="2000" spc="-1" strike="noStrike">
                <a:solidFill>
                  <a:srgbClr val="0066ff"/>
                </a:solidFill>
                <a:latin typeface="Arial"/>
              </a:rPr>
              <a:t>門窗</a:t>
            </a:r>
            <a:r>
              <a:rPr b="0" lang="zh-TW" sz="20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一般門窗之木料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除受雨打日曬之一面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塗刷油漆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其餘做臘光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凡立水或油漆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16000" y="54900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2000" spc="-1" strike="noStrike">
                <a:solidFill>
                  <a:srgbClr val="800000"/>
                </a:solidFill>
                <a:latin typeface="Arial"/>
              </a:rPr>
              <a:t>三</a:t>
            </a:r>
            <a:r>
              <a:rPr b="0" lang="zh-TW" sz="20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2000" spc="-1" strike="noStrike">
                <a:solidFill>
                  <a:srgbClr val="800000"/>
                </a:solidFill>
                <a:latin typeface="Arial"/>
              </a:rPr>
              <a:t>仿石質複層塗料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材料品質管制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仿石質複層塗料之材料及品質須符合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CNS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之國家標準，並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取得經濟部商品檢驗局之材料試驗合格證明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依據本章相關準則之規定，提送原製造廠商出具之出廠證明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文件及保證書正本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仿石質複層塗料應以製造廠之原包裝運達工地，並附製造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商之出廠證明、容器上應附有標籤，載明規格、材料、廠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牌、產品編號及生產、使用期限，如有超過儲存年限者均不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得使用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承包商應採用同一家供料廠商之系統材料，並由具有原廠之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施工授權證明之分包商責任施工，以確保品質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搬運時應防止容器破損，並儲存於清潔、通風良好且無日曬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之場所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仿石質複層塗料及其相關製品儲放場所應有防止火災發生之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完善措施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施工環境不可有塵土飛揚情形，以免污染未乾塗料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應由承包商出具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</a:rPr>
              <a:t>年以上保固期限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之保證書由工程司交使用單位收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存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9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保固期間如有非人為之剝落及變色現象，應完全負無償修復之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2600" y="69228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施工材料品質標準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仿石質複層塗料主要原料為水泥、合成樹脂等結合材料、粒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料、無機質系粉粒及纖維材料。其品質應符合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CNS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之規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其主劑之固體粒料含量：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[70±2%]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其試驗之方式及種類應符合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CNS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規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使用之漆料若為原裝容器運抵工地者，應於現場開封方得使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若使用之漆料係由現場混合後加工製成者，則須依據原製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廠商所規定之配方調製，並由承包商具結保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施工前注意事項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受漆面須完全乾燥，用含水率測濕計偵測，含水率應在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以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受漆面如有油漬、灰塵污物、模板屑等雜物，須先行去除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受漆面如有浮屑、蜂窩等不平整現象，應先修補平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受漆面如發現有龜裂痕跡，須通知設計單位查驗，經認可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方得施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82600" y="549000"/>
            <a:ext cx="777240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施工步驟及要求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底漆噴塗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底漆須噴塗二遍以上，使能均勻遮蔽完全看不到受漆面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色為準，並有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小時以上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之乾燥時間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底漆用量為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0.3kg/m2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以上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貼溝縫膠帶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溝縫位置、寬度須依施工製造圖之位置精確放樣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為使受漆面有防水效果，在底塗施工後，方可貼溝縫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溝縫膠帶應採用不脫黏結底膠者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D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中層漆噴塗後，溝縫膠帶須立即撕除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中層漆噴塗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中層漆噴塗須一次完成，其用量為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4.5kg/m2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以上，厚度至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少為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1.5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～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2.5mm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，以使紋路一致、色彩均勻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82600" y="549000"/>
            <a:ext cx="777240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同一施作面須由同一人或噴塗技術相同之同一組人員操作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並使用相同之噴槍及相關設備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噴塗時不得中途停止，須連續噴塗以免重疊增厚，造成銜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處不均勻現象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D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對噴塗不均勻之部份，須在噴塗時修補，表面如有浮出之尖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銳顆粒，亦須去除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E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噴塗後須乾燥硬化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小時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以上，方可施作面漆噴塗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面漆噴塗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面漆施工前，中層漆塗裝面若曾受淋雨，則須待其完全乾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方得施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面漆須採用噴塗方式，其用量須在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0.3kg/m2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以上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，且不得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添加任何稀釋劑，所有表面須均勻噴塗兩遍，以使完全覆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漆膜厚度：乾膜厚至少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2.0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～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3.0mm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，濕膜厚至少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2.5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～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3mm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ff"/>
                </a:solidFill>
                <a:latin typeface="Arial"/>
              </a:rPr>
              <a:t>塗裝工程課程結束</a:t>
            </a:r>
            <a:br>
              <a:rPr sz="4000"/>
            </a:br>
            <a:br>
              <a:rPr sz="2000"/>
            </a:b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版權為   中華民國災害預防協會  林明成</a:t>
            </a:r>
            <a:br>
              <a:rPr sz="4000"/>
            </a:br>
            <a:r>
              <a:rPr b="0" lang="zh-TW" sz="4000" spc="-1" strike="noStrike">
                <a:solidFill>
                  <a:srgbClr val="ff0000"/>
                </a:solidFill>
                <a:latin typeface="Arial"/>
              </a:rPr>
              <a:t>翻印必究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</a:rPr>
              <a:t>油漆工程監工要點</a:t>
            </a:r>
            <a:r>
              <a:rPr b="0" lang="zh-TW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5.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圬工油漆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凡混凝土牆面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必須乾透後方可施工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過分光滑牆面須先用砂紙打磨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以增加油漆黏著力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故油漆大致與募才所用者相同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較粗造的牆面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油漆時可酌加亮光油漆或松節油等稀釋劑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易於施工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6.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刷白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刷白部份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均須塗刷滲有膠質之太白粉漿二度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色澤應清淨潔白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7.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養護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所有已完成之工作及其表面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勿使污染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驗收前如有污染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必須重做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042920" y="25992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Arial"/>
              </a:rPr>
              <a:t>一、金屬表面塗裝施工作業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一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800000"/>
                </a:solidFill>
                <a:latin typeface="Arial"/>
              </a:rPr>
              <a:t>金屬油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800000"/>
                </a:solidFill>
                <a:latin typeface="Arial"/>
              </a:rPr>
              <a:t>油漆是以長油性醇酸樹脂及耐後性顏料製成，為不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800000"/>
                </a:solidFill>
                <a:latin typeface="Arial"/>
              </a:rPr>
              <a:t>透明性液狀體，色澤艷麗，耐久不易褪色，具防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800000"/>
                </a:solidFill>
                <a:latin typeface="Arial"/>
              </a:rPr>
              <a:t>功用，對物件有很好保護作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材料品質管制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油漆材料須符合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CNS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規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提送所採用材料之品質及產品之功能、強度均符合圖說規定之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試驗證明文件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承包商應採用同一家供料廠商之系統材料，並由具有原廠之施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工授權證明之分包商責任施工，以確保品質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在整個工作中，用於任何同一表面或設備之材料，應為同一製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造廠商之產品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施工前須將廠牌提送設計單位或業主同意後使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使用之塗料產品不得超過儲存年限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油漆顏色，施作前須送樣本經設計單位或業主選定同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油漆應以製造廠原裝運至工地，容器上應附製造廠之標籤載明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規格，並附原廠出廠證明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16000" y="549000"/>
            <a:ext cx="7772400" cy="58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施工作業品質標準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油漆材料須符合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CNS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規定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施工前須將廠牌提送設計單位或業主同意後使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油漆顏色，施作前須送樣本經設計單位或業主選定同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油漆應以製造廠原裝運至工地，容器上應附製造廠之標籤載明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規格，並附原廠出廠證明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產品於裝卸時應避免容器破損，傷及產品，並儲存於清潔、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風良好且無日曬之場所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6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油漆應以製造廠商之原包裝運至工作地點，容器上應附有標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籤，載明引用規範編碼及種類、規格、材料、廠牌、產品編號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利分類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7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油漆產品應以原包裝儲存於通風良好且乾燥之遮蔽空間，並以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防水布覆蓋保護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8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油漆產品及其相關製品儲放場所應有防止火災發生之完善措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施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9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施工環境不可有塵土飛揚情形，以免污染未乾塗料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0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鋼料之表面溫度低於露點且天候下雨、刮風、有霧或濕氣時或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其表面溫度超過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40℃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時，不得塗佈油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182600" y="549000"/>
            <a:ext cx="777240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施工步驟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露面之裝修及門窗鋼鐵構件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鋅鉻黃防銹底漆二道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醇酸樹脂瓷漆二道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露面之鍍鋅鐵件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防銹底漆一道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醇酸樹脂瓷漆二道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露面之鋁及輕金屬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防銹底漆一道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1800" spc="-1" strike="noStrike">
                <a:solidFill>
                  <a:srgbClr val="cc3300"/>
                </a:solidFill>
                <a:latin typeface="Arial"/>
              </a:rPr>
              <a:t>醇酸樹脂瓷漆二道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乾膜厚度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微米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=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百萬分之一米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=0.001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公釐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=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千分之一公厘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室內及室外鋼件、鐵金屬表面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底漆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60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～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80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微米（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）。</a:t>
            </a:r>
            <a:r>
              <a:rPr b="0" lang="zh-TW" sz="1800" spc="-1" strike="noStrike">
                <a:solidFill>
                  <a:srgbClr val="009900"/>
                </a:solidFill>
                <a:latin typeface="Arial"/>
              </a:rPr>
              <a:t>(0.06~0.08</a:t>
            </a:r>
            <a:r>
              <a:rPr b="0" lang="zh-TW" sz="1800" spc="-1" strike="noStrike">
                <a:solidFill>
                  <a:srgbClr val="009900"/>
                </a:solidFill>
                <a:latin typeface="Arial"/>
              </a:rPr>
              <a:t>公釐</a:t>
            </a:r>
            <a:r>
              <a:rPr b="0" lang="zh-TW" sz="1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面漆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75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～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125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微米（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）。</a:t>
            </a:r>
            <a:r>
              <a:rPr b="0" lang="zh-TW" sz="1800" spc="-1" strike="noStrike">
                <a:solidFill>
                  <a:srgbClr val="009900"/>
                </a:solidFill>
                <a:latin typeface="Arial"/>
              </a:rPr>
              <a:t>(0.075~0.125</a:t>
            </a:r>
            <a:r>
              <a:rPr b="0" lang="zh-TW" sz="1800" spc="-1" strike="noStrike">
                <a:solidFill>
                  <a:srgbClr val="009900"/>
                </a:solidFill>
                <a:latin typeface="Arial"/>
              </a:rPr>
              <a:t>公釐</a:t>
            </a:r>
            <a:r>
              <a:rPr b="0" lang="zh-TW" sz="1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室內及室外鍍鋅鋼件、鋁及其他非鐵金屬之表面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底漆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100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～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150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微米（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）。</a:t>
            </a:r>
            <a:r>
              <a:rPr b="0" lang="zh-TW" sz="1800" spc="-1" strike="noStrike">
                <a:solidFill>
                  <a:srgbClr val="009900"/>
                </a:solidFill>
                <a:latin typeface="Arial"/>
              </a:rPr>
              <a:t>(0.1~0.15</a:t>
            </a:r>
            <a:r>
              <a:rPr b="0" lang="zh-TW" sz="1800" spc="-1" strike="noStrike">
                <a:solidFill>
                  <a:srgbClr val="009900"/>
                </a:solidFill>
                <a:latin typeface="Arial"/>
              </a:rPr>
              <a:t>公釐</a:t>
            </a:r>
            <a:r>
              <a:rPr b="0" lang="zh-TW" sz="1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面漆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75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～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125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微米（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）。</a:t>
            </a:r>
            <a:r>
              <a:rPr b="0" lang="zh-TW" sz="1800" spc="-1" strike="noStrike">
                <a:solidFill>
                  <a:srgbClr val="009900"/>
                </a:solidFill>
                <a:latin typeface="Arial"/>
              </a:rPr>
              <a:t>(0.075~0.125</a:t>
            </a:r>
            <a:r>
              <a:rPr b="0" lang="zh-TW" sz="1800" spc="-1" strike="noStrike">
                <a:solidFill>
                  <a:srgbClr val="009900"/>
                </a:solidFill>
                <a:latin typeface="Arial"/>
              </a:rPr>
              <a:t>公釐</a:t>
            </a:r>
            <a:r>
              <a:rPr b="0" lang="zh-TW" sz="1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2600" y="549000"/>
            <a:ext cx="777240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鐵件油漆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A.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標的物表面清潔、浮銹、銹屑、灰、油污、附著物等應全部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清除乾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B.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焊濺物，毛口或其他不規則表面修補或去除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C.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安裝之後在油漆以前應再清潔一次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D.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紅丹漆脫落，損傷處應再補漆紅丹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E.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塗刷第一次面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F.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檢查及整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G.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塗刷第二次面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zh-TW" sz="2200" spc="-1" strike="noStrike">
                <a:solidFill>
                  <a:srgbClr val="cc3300"/>
                </a:solidFill>
                <a:latin typeface="Arial"/>
              </a:rPr>
              <a:t>施工要求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受漆面須完全乾燥，用含水率測濕計偵測，含水率應在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以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受漆面如有油漬、灰塵污物、模板屑等雜物，須先行去除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受漆面如有浮屑、蜂窩等不平整現象，應先修補平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受漆面如發現有龜裂痕跡，須通知設計單位查驗，經認可後方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336699"/>
                </a:solidFill>
                <a:latin typeface="Arial"/>
              </a:rPr>
              <a:t>得施工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2:05:52Z</dcterms:created>
  <dc:creator>dpa</dc:creator>
  <dc:description/>
  <dc:language>en-US</dc:language>
  <cp:lastModifiedBy>kl</cp:lastModifiedBy>
  <dcterms:modified xsi:type="dcterms:W3CDTF">2006-02-10T14:46:16Z</dcterms:modified>
  <cp:revision>315</cp:revision>
  <dc:subject/>
  <dc:title>塗裝工程</dc:title>
</cp:coreProperties>
</file>