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0BE4-8FE0-4A8B-AEC9-C77AA4850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1D74-0B2E-4009-B134-4E3FB045D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6F8E-11F4-4F43-8117-585898FFB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C85C-D2C0-46CF-9E8B-3C3E281CC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131FB-EA06-490F-B23E-CD43D49B7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E9A2C-6B38-414D-87D2-CE51E7719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747B1-5639-4614-957B-0DAAF3A61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8A8C7-3564-4EB4-855B-A6A8EFECD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334FB-46BB-4B8D-B761-458E2C4D4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86D9B-78EB-4843-ABED-B5CC09C97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8636E-692A-4EB6-AC01-000E6CFB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4416-308B-4114-A362-F02225BF1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93043-12A8-4163-BEA9-DE101C81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4DB8E-BC37-45F8-B760-68F41B2E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80304-6769-437B-90E3-212A1896F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424F1-2ABC-4890-BBAD-4210655B8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B9B80-F141-4ADE-AE56-EF9D92563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39D4-208A-4D51-A319-14F212448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BE72-D5D3-417D-9C9C-3F1C11C87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6D49-4CB0-4FD4-BA75-75ED3D418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929D-6119-4DB8-ACBB-699472818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438E-09A9-4E01-BEAB-DC7F6E75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8C52-6700-43D8-8852-976525A7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0A85-8115-477C-838C-4E1F28F1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8248E-C590-4EEB-A557-D3E4B391688C}" type="slidenum">
              <a:rPr b="0" lang="zh-TW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E269D-9B91-40A7-82F7-D7E3E44D1421}" type="slidenum">
              <a:rPr b="0" lang="zh-TW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66ff"/>
                </a:solidFill>
                <a:latin typeface="Arial"/>
              </a:rPr>
              <a:t>玻璃及壓克力安裝作業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4360" y="3860640"/>
            <a:ext cx="7920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zh-TW" sz="3200" spc="-1" strike="noStrike">
                <a:solidFill>
                  <a:srgbClr val="0066ff"/>
                </a:solidFill>
                <a:latin typeface="Arial"/>
              </a:rPr>
              <a:t>壹</a:t>
            </a:r>
            <a:r>
              <a:rPr b="0" lang="zh-TW" sz="3200" spc="-1" strike="noStrike">
                <a:solidFill>
                  <a:srgbClr val="0066ff"/>
                </a:solidFill>
                <a:latin typeface="Arial"/>
              </a:rPr>
              <a:t>.</a:t>
            </a:r>
            <a:r>
              <a:rPr b="0" lang="zh-TW" sz="3200" spc="-1" strike="noStrike">
                <a:solidFill>
                  <a:srgbClr val="0066ff"/>
                </a:solidFill>
                <a:latin typeface="Arial"/>
              </a:rPr>
              <a:t>能了解玻璃及壓克力作業材料、品質、施工步驟及工法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zh-TW" sz="3200" spc="-1" strike="noStrike">
                <a:solidFill>
                  <a:srgbClr val="0066ff"/>
                </a:solidFill>
                <a:latin typeface="Arial"/>
              </a:rPr>
              <a:t>貳</a:t>
            </a:r>
            <a:r>
              <a:rPr b="0" lang="zh-TW" sz="3200" spc="-1" strike="noStrike">
                <a:solidFill>
                  <a:srgbClr val="0066ff"/>
                </a:solidFill>
                <a:latin typeface="Arial"/>
              </a:rPr>
              <a:t>.</a:t>
            </a:r>
            <a:r>
              <a:rPr b="0" lang="zh-TW" sz="3200" spc="-1" strike="noStrike">
                <a:solidFill>
                  <a:srgbClr val="0066ff"/>
                </a:solidFill>
                <a:latin typeface="Arial"/>
              </a:rPr>
              <a:t>能督導技術人員做好合乎施工圖說之規定。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182600" y="404280"/>
            <a:ext cx="77724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100" spc="-1" strike="noStrike">
                <a:solidFill>
                  <a:srgbClr val="800000"/>
                </a:solidFill>
                <a:latin typeface="Arial"/>
              </a:rPr>
              <a:t>    </a:t>
            </a:r>
            <a:r>
              <a:rPr b="0" lang="zh-TW" sz="2800" spc="-1" strike="noStrike">
                <a:solidFill>
                  <a:srgbClr val="800000"/>
                </a:solidFill>
                <a:latin typeface="Arial"/>
              </a:rPr>
              <a:t>2.</a:t>
            </a:r>
            <a:r>
              <a:rPr b="0" lang="zh-TW" sz="2800" spc="-1" strike="noStrike">
                <a:solidFill>
                  <a:srgbClr val="800000"/>
                </a:solidFill>
                <a:latin typeface="Arial"/>
              </a:rPr>
              <a:t>材料品質管制：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1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平板玻璃產品、鑲嵌材料及其配件品質應符合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圖說之規定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2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承包廠商提送原製造廠商出具之出廠證明文件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及保證書正本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3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所有平板玻璃成品出廠應貼黏製造、檢驗標籤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4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施作時，建築內、外裝應已實質完工，並完成初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步清理工作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5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安裝玻璃之門窗框應為平直及無尖銳突出物，並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確認無後續之粉刷泥水工作，方得進行玻璃鑲嵌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之工作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182600" y="620280"/>
            <a:ext cx="7772400" cy="55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6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平板玻璃製作完成經出廠檢驗後，需用瓦楞紙、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泡棉等材料妥善包裝，並在其外部採用木框、塑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膠框等框架予以保護之，以防運輸時碰傷並防水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泥漿或其他材料沾污材料表面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7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所有材料在搬運時，均應輕取輕放，用力均勻，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不得任意拖拉，致使材料變形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8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置放時均須在適當墊料上垂直放置，不得平放，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堆疊或負重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9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一般功能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80808"/>
                </a:solidFill>
                <a:latin typeface="Arial"/>
              </a:rPr>
              <a:t>         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A.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透光功能：例如清玻璃、毛玻璃、霧面玻璃等，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                            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其透光率各有不同。對熱之性質為比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                            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熱大，熱傳導率大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182600" y="333360"/>
            <a:ext cx="77724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cc3300"/>
                </a:solidFill>
                <a:latin typeface="Arial"/>
              </a:rPr>
              <a:t>        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B.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防風雨功能：所有玻璃鑲嵌完成後，均應有防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                                    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風雨、天候之功能。抗撓強度為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                                    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受風壓之抵抗強度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           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C.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濾光功能：例如抗紫外線功能、抗熱功能之色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                                 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板等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           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D.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安全功能：例如安全膠合玻璃等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80808"/>
                </a:solidFill>
                <a:latin typeface="Arial"/>
              </a:rPr>
              <a:t>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10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特殊功能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80808"/>
                </a:solidFill>
                <a:latin typeface="Arial"/>
              </a:rPr>
              <a:t>           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A.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裝飾功能：例如色板玻璃、雕花玻璃、蝕花玻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                                 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璃等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           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B.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防彈功能：例如防彈膠合玻璃等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80808"/>
                </a:solidFill>
                <a:latin typeface="Arial"/>
              </a:rPr>
              <a:t>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11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鑲嵌配件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80808"/>
                </a:solidFill>
                <a:latin typeface="Arial"/>
              </a:rPr>
              <a:t>           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A.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應符合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CNS 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之規定，包含但不限於墊塊、墊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              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圈、墊片、膠帶等富彈性的材料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182600" y="765000"/>
            <a:ext cx="7772400" cy="536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           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B.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填縫料：應符合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CNS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規範之相關規定。鋁門窗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                             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裝配玻璃時，一般在活動部份採耐老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                             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化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PVC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，固定部份採填縫料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           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C.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加勁條：玻璃加勁條是用以取代金屬框柱，而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                             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使開口呈現完全之玻璃面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80808"/>
                </a:solidFill>
                <a:latin typeface="Arial"/>
              </a:rPr>
              <a:t>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12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加工製作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80808"/>
                </a:solidFill>
                <a:latin typeface="Arial"/>
              </a:rPr>
              <a:t>  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磨光處理、膠合處理、熱處理、強化處理、彎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曲處理、鏡面處理、複層加工處理、網板印刷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處理、被覆層加工處理、壓</a:t>
            </a:r>
            <a:r>
              <a:rPr b="0" lang="zh-TW" sz="2400" spc="-1" strike="noStrike">
                <a:solidFill>
                  <a:srgbClr val="336699"/>
                </a:solidFill>
                <a:latin typeface="新細明體"/>
              </a:rPr>
              <a:t>╱花處理、鑲嵌╱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新細明體"/>
              </a:rPr>
              <a:t>                </a:t>
            </a:r>
            <a:r>
              <a:rPr b="0" lang="zh-TW" sz="2400" spc="-1" strike="noStrike">
                <a:solidFill>
                  <a:srgbClr val="336699"/>
                </a:solidFill>
                <a:latin typeface="新細明體"/>
              </a:rPr>
              <a:t>繪處理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新細明體"/>
              </a:rPr>
              <a:t>         </a:t>
            </a:r>
            <a:r>
              <a:rPr b="0" lang="zh-TW" sz="2400" spc="-1" strike="noStrike">
                <a:solidFill>
                  <a:srgbClr val="336699"/>
                </a:solidFill>
                <a:latin typeface="新細明體"/>
              </a:rPr>
              <a:t>(13)</a:t>
            </a:r>
            <a:r>
              <a:rPr b="0" lang="zh-TW" sz="2400" spc="-1" strike="noStrike">
                <a:solidFill>
                  <a:srgbClr val="336699"/>
                </a:solidFill>
                <a:latin typeface="新細明體"/>
              </a:rPr>
              <a:t>一般玻璃嵌入鋁框深度為</a:t>
            </a:r>
            <a:r>
              <a:rPr b="0" lang="zh-TW" sz="2400" spc="-1" strike="noStrike">
                <a:solidFill>
                  <a:srgbClr val="ff0000"/>
                </a:solidFill>
                <a:latin typeface="新細明體"/>
              </a:rPr>
              <a:t>7mm</a:t>
            </a:r>
            <a:r>
              <a:rPr b="0" lang="zh-TW" sz="2400" spc="-1" strike="noStrike">
                <a:solidFill>
                  <a:srgbClr val="336699"/>
                </a:solidFill>
                <a:latin typeface="新細明體"/>
              </a:rPr>
              <a:t>。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182600" y="765000"/>
            <a:ext cx="77724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3.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施工作業品質標準：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80808"/>
                </a:solidFill>
                <a:latin typeface="Arial"/>
              </a:rPr>
              <a:t>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1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所有門窗玻璃之安裝均須單孔為一整塊玻璃，不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得拼接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2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依據施工製造圖或現場玻璃安裝處之開孔尺度，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裁切玻璃使嵌合及空隙均符合要求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3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窗扇上槽的深度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吃深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不得小於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6mm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4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裝配方法之確定應依據施工圖施作，一般可分早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期為嵌油灰、釘壓條、嵌塑墊條，近年皆採嵌環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氧樹脂為多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5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各種玻璃長、寬均較玻璃槽外邊淨實尺寸小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 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2~3mm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6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一般普通玻璃其裁切應用寬小於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50cm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及面積小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於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0.5m2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者為佳。</a:t>
            </a: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116000" y="549360"/>
            <a:ext cx="77724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      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(7)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玻璃若有輕微弧面仍可使用，其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凸面應朝外安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裝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(8)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玻璃表面須保持清潔。安裝表面不得有灰塵、腐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           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蝕物及殘渣等 雜物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800000"/>
                </a:solidFill>
                <a:latin typeface="Arial"/>
              </a:rPr>
              <a:t>     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4.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施工注意事項：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80808"/>
                </a:solidFill>
                <a:latin typeface="Arial"/>
              </a:rPr>
              <a:t>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1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現場玻璃應依據設計圖說所規定之位置安裝，並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與核准之樣品相符合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2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承包商應督導分包人安裝，並確認每片玻璃皆為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所指定之型式及等級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3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玻璃安裝宜在內部安裝大致完成後再於裝配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4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面積較大的玻璃，本身自重較重，應以塑膠壓條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直接壓入槽內再施打環氧樹脂填縫料固結並可防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滲水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5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安裝用膠帶其長度應與玻璃完全相同，安裝至窗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框後，其縫隙應密不透水。不得拉長或使膠帶變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形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182600" y="549360"/>
            <a:ext cx="77724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zh-TW" sz="32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6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面積較大的玻璃也可採行，將聚氯丁合成橡膠墊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塊置於玻璃片底部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1/4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長度位置。墊塊應使玻璃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與框架距離至少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1.5mm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以上，並固定於玻璃之開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孔位置上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7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安裝並固定玻璃，以填縫料填滿玻璃與押條之間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所有的空隙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8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凡發霉、變色、斑點、扭曲、波紋之玻璃不得使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用；雖已裝配一經發現仍須全面更換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9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安裝須在氣溫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高於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5℃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以上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，且預測前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24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小時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內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不下雨之天候下完成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8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182600" y="765000"/>
            <a:ext cx="7772400" cy="536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      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4.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施工後注意事項：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80808"/>
                </a:solidFill>
                <a:latin typeface="Arial"/>
              </a:rPr>
              <a:t>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1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驗收前須徹底清除所裝玻璃上之污漬、油漆、粉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刷或其他有礙觀瞻之物，並擦拭潔淨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2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安裝時不慎沾上水泥、灰漿等應在未乾前以清水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沖洗或濕布拭除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3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油酯類污物則以中性皂水或清潔劑洗除，並擦拭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乾淨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4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使用與填縫料相容之溶劑，清除多餘或污染之填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料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182600" y="549360"/>
            <a:ext cx="77724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0" lang="zh-TW" sz="3600" spc="-1" strike="noStrike">
                <a:solidFill>
                  <a:srgbClr val="800000"/>
                </a:solidFill>
                <a:latin typeface="Arial"/>
              </a:rPr>
              <a:t>(</a:t>
            </a:r>
            <a:r>
              <a:rPr b="0" lang="zh-TW" sz="3600" spc="-1" strike="noStrike">
                <a:solidFill>
                  <a:srgbClr val="800000"/>
                </a:solidFill>
                <a:latin typeface="Arial"/>
              </a:rPr>
              <a:t>二</a:t>
            </a:r>
            <a:r>
              <a:rPr b="0" lang="zh-TW" sz="3600" spc="-1" strike="noStrike">
                <a:solidFill>
                  <a:srgbClr val="800000"/>
                </a:solidFill>
                <a:latin typeface="Arial"/>
              </a:rPr>
              <a:t>)</a:t>
            </a:r>
            <a:r>
              <a:rPr b="0" lang="zh-TW" sz="3600" spc="-1" strike="noStrike">
                <a:solidFill>
                  <a:srgbClr val="800000"/>
                </a:solidFill>
                <a:latin typeface="Arial"/>
              </a:rPr>
              <a:t>金屬網入玻璃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80808"/>
                </a:solidFill>
                <a:latin typeface="Arial"/>
              </a:rPr>
              <a:t>       </a:t>
            </a:r>
            <a:r>
              <a:rPr b="0" lang="zh-TW" sz="3200" spc="-1" strike="noStrike">
                <a:solidFill>
                  <a:srgbClr val="cc3300"/>
                </a:solidFill>
                <a:latin typeface="Arial"/>
              </a:rPr>
              <a:t>1.</a:t>
            </a:r>
            <a:r>
              <a:rPr b="0" lang="zh-TW" sz="3200" spc="-1" strike="noStrike">
                <a:solidFill>
                  <a:srgbClr val="cc3300"/>
                </a:solidFill>
                <a:latin typeface="Arial"/>
              </a:rPr>
              <a:t>材質說明：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cc3300"/>
                </a:solidFill>
                <a:latin typeface="Arial"/>
              </a:rPr>
              <a:t>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1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建築物使用之帷幕牆、門、窗或隔間、欄杆、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扶手等經指定為金屬網入玻璃時，其相關之週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邊零料、配件、必要之鑲嵌材料、固定件、填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縫料及安裝等均屬之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2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金屬網玻璃本體中鑲有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0.4mmø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以上之鐵絲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網，應遇火龜裂而不散開，故為乙種防火門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窗。其鑲嵌材料、壓條、防雨條、墊塊、固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件、填縫料等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3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一般功能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80808"/>
                </a:solidFill>
                <a:latin typeface="Arial"/>
              </a:rPr>
              <a:t>              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A.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透光功能：例如清玻璃、毛玻璃、霧面玻璃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                                 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等，其透光率各有不同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182600" y="765000"/>
            <a:ext cx="7772400" cy="536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             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B.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防風雨功能：所有玻璃鑲嵌完成後，均應有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                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防風雨、天候之功能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             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C.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安全功能：例如金屬網入玻璃等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80808"/>
                </a:solidFill>
                <a:latin typeface="Arial"/>
              </a:rPr>
              <a:t>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4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特殊功能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防火功能：例如防火玻璃。為乙種防火門窗所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用之玻璃。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         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2.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材料品質管制：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80808"/>
                </a:solidFill>
                <a:latin typeface="Arial"/>
              </a:rPr>
              <a:t>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1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金屬網玻璃之玻璃材料應符合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CNS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之規定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2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鑲嵌配件應符合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CNS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之規定，包含墊塊、墊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圈、墊片、膠帶等富彈性的材料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3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填縫料應依據圖說規定，並符合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CNS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規範之相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關規定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66ff"/>
                </a:solidFill>
                <a:latin typeface="Arial"/>
              </a:rPr>
              <a:t>壹</a:t>
            </a:r>
            <a:r>
              <a:rPr b="0" lang="zh-TW" sz="4400" spc="-1" strike="noStrike">
                <a:solidFill>
                  <a:srgbClr val="0066ff"/>
                </a:solidFill>
                <a:latin typeface="Arial"/>
              </a:rPr>
              <a:t>、玻璃及壓克力安裝作業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6920" y="1484280"/>
            <a:ext cx="756612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66"/>
                </a:solidFill>
                <a:latin typeface="Arial"/>
              </a:rPr>
              <a:t>一、</a:t>
            </a:r>
            <a:r>
              <a:rPr b="0" lang="zh-TW" sz="3200" spc="-1" strike="noStrike">
                <a:solidFill>
                  <a:srgbClr val="0039ac"/>
                </a:solidFill>
                <a:latin typeface="Arial"/>
              </a:rPr>
              <a:t>玻璃安裝</a:t>
            </a:r>
            <a:r>
              <a:rPr b="0" lang="zh-TW" sz="3200" spc="-1" strike="noStrike">
                <a:solidFill>
                  <a:srgbClr val="000066"/>
                </a:solidFill>
                <a:latin typeface="Arial"/>
              </a:rPr>
              <a:t>作業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8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800000"/>
                </a:solidFill>
                <a:latin typeface="Arial"/>
              </a:rPr>
              <a:t>一</a:t>
            </a:r>
            <a:r>
              <a:rPr b="0" lang="zh-TW" sz="3200" spc="-1" strike="noStrike">
                <a:solidFill>
                  <a:srgbClr val="8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800000"/>
                </a:solidFill>
                <a:latin typeface="Arial"/>
              </a:rPr>
              <a:t>玻璃及玻璃鑲嵌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8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800000"/>
                </a:solidFill>
                <a:latin typeface="Arial"/>
              </a:rPr>
              <a:t>二</a:t>
            </a:r>
            <a:r>
              <a:rPr b="0" lang="zh-TW" sz="3200" spc="-1" strike="noStrike">
                <a:solidFill>
                  <a:srgbClr val="8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800000"/>
                </a:solidFill>
                <a:latin typeface="Arial"/>
              </a:rPr>
              <a:t>金屬網入玻璃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8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800000"/>
                </a:solidFill>
                <a:latin typeface="Arial"/>
              </a:rPr>
              <a:t>三</a:t>
            </a:r>
            <a:r>
              <a:rPr b="0" lang="zh-TW" sz="3200" spc="-1" strike="noStrike">
                <a:solidFill>
                  <a:srgbClr val="8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800000"/>
                </a:solidFill>
                <a:latin typeface="Arial"/>
              </a:rPr>
              <a:t>不銹鋼玻璃窗口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8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800000"/>
                </a:solidFill>
                <a:latin typeface="Arial"/>
              </a:rPr>
              <a:t>四</a:t>
            </a:r>
            <a:r>
              <a:rPr b="0" lang="zh-TW" sz="3200" spc="-1" strike="noStrike">
                <a:solidFill>
                  <a:srgbClr val="8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800000"/>
                </a:solidFill>
                <a:latin typeface="Arial"/>
              </a:rPr>
              <a:t>浮式玻璃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66"/>
                </a:solidFill>
                <a:latin typeface="Arial"/>
              </a:rPr>
              <a:t>二、</a:t>
            </a:r>
            <a:r>
              <a:rPr b="0" lang="zh-TW" sz="3200" spc="-1" strike="noStrike">
                <a:solidFill>
                  <a:srgbClr val="0039ac"/>
                </a:solidFill>
                <a:latin typeface="Arial"/>
              </a:rPr>
              <a:t>壓克力安裝作業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800000"/>
                </a:solidFill>
                <a:latin typeface="Arial"/>
              </a:rPr>
              <a:t>     </a:t>
            </a:r>
            <a:r>
              <a:rPr b="0" lang="zh-TW" sz="3200" spc="-1" strike="noStrike">
                <a:solidFill>
                  <a:srgbClr val="800000"/>
                </a:solidFill>
                <a:latin typeface="Arial"/>
              </a:rPr>
              <a:t>壓克力或塑膠板鑲嵌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116000" y="105228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4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加工製作應符合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CNS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之相關規定，可分為複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層加工處理、網板加工處理、被覆層加工處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理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           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3. 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施工作業品質標準：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80808"/>
                </a:solidFill>
                <a:latin typeface="Arial"/>
              </a:rPr>
              <a:t> 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1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門窗玻璃之安裝均須單孔為一整塊玻璃，不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得拼接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2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依據施工製造圖或現場玻璃安裝處之開孔尺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寸，裁切玻璃使嵌合及空隙均符合要求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3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玻璃表面須保持清潔。安裝表面不得有灰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塵、腐蝕物及殘渣等雜物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187280" y="549000"/>
            <a:ext cx="77724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800000"/>
                </a:solidFill>
                <a:latin typeface="Arial"/>
              </a:rPr>
              <a:t>    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4.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施工注意事項：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1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現場玻璃應依據設計圖示所規定之位置安裝，並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與核准之樣品相符合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2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承包商應督導分包人安裝，並確認每片玻璃皆為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所指定之型式及等級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3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安裝用膠帶其長度應與玻璃完全相同，安裝至窗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框後，其縫隙應密不透水。不得拉長或使膠帶變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形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4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將聚氯丁合成橡膠墊塊置於玻璃片底部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1/4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長度位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置。墊塊應使玻璃與框架距離至少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1.5mm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以上，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並固定於玻璃之開孔位置上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5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安裝並固定玻璃，以填縫料填滿玻璃與押條之間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所有的空隙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6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凡發霉、變色、斑點、扭曲、波紋之玻璃不得使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用；雖已裝配一經發現仍須全面更換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182600" y="692280"/>
            <a:ext cx="77724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6699"/>
                </a:solidFill>
                <a:latin typeface="Arial"/>
              </a:rPr>
              <a:t>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7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安裝須在氣溫高於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5℃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以上，且預測前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24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小時內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不下雨之天候下完成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8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應依據設計圖示及填縫料之規定施打填縫料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5.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清理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80808"/>
                </a:solidFill>
                <a:latin typeface="Arial"/>
              </a:rPr>
              <a:t>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1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驗收前須徹底清除所裝玻璃上之污漬、油漆、粉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刷或其他有礙觀瞻之物，並擦拭潔淨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2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安裝時不慎沾上水泥、灰漿等應在未乾前以清水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沖洗或濕布拭除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3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油酯類污物則以中性皂水或清潔劑洗除，並擦拭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乾淨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4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使用與填縫料相容之溶劑，清除多餘或污染之填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縫料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187280" y="692280"/>
            <a:ext cx="7772400" cy="54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8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800000"/>
                </a:solidFill>
                <a:latin typeface="Arial"/>
              </a:rPr>
              <a:t>三</a:t>
            </a:r>
            <a:r>
              <a:rPr b="0" lang="zh-TW" sz="3200" spc="-1" strike="noStrike">
                <a:solidFill>
                  <a:srgbClr val="8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800000"/>
                </a:solidFill>
                <a:latin typeface="Arial"/>
              </a:rPr>
              <a:t>不銹鋼玻璃窗口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800000"/>
                </a:solidFill>
                <a:latin typeface="Arial"/>
              </a:rPr>
              <a:t>　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1. 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材質說明：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（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1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依據契約及設計圖示之規定，凡屬於不銹鋼玻璃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窗口之製作、安裝、施工等均屬之，並配合機電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廠商施作預埋件及開孔作業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2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如無特殊規定時，工作內容應包括附屬於不銹鋼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玻璃窗口之玻 璃、玻璃安裝材料、花崗石、繫結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鐵件、小五金及完成後之填縫料等。      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3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鋼料包括鋼板、型鋼及不銹鋼鋼板，並應符合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CNS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之規定。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116000" y="620640"/>
            <a:ext cx="77724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zh-TW" sz="32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4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玻璃及玻璃安裝材料包括如下所述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80808"/>
                </a:solidFill>
                <a:latin typeface="Arial"/>
              </a:rPr>
              <a:t>          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Ａ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.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玻璃應符合圖說規範「玻璃」之規定。玻璃之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              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種類、厚度、等級、顏色應依契約設計圖所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              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示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          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Ｂ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.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玻璃安裝材料應符合圖說規範「窗五金」之規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              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定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80808"/>
                </a:solidFill>
                <a:latin typeface="Arial"/>
              </a:rPr>
              <a:t>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5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螺栓包括碳鋼螺栓、螺帽、墊片、不銹鋼製螺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栓、螺帽及墊片應符合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CNS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之規定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6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銲條為工作製造上使用之銲條，應依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CNS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規定選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擇適合母材金屬之種類使用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7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週邊材料如花崗石應為色澤花紋大致相等，無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痕、破損及缺角，並應依照契約設計圖所示之顏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色、樣式及表面處理提供花崗石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115640" y="404640"/>
            <a:ext cx="776772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" spc="-1" strike="noStrike">
                <a:solidFill>
                  <a:srgbClr val="080808"/>
                </a:solidFill>
                <a:latin typeface="Arial"/>
              </a:rPr>
              <a:t>     </a:t>
            </a:r>
            <a:r>
              <a:rPr b="0" lang="zh-TW" sz="800" spc="-1" strike="noStrike">
                <a:solidFill>
                  <a:srgbClr val="080808"/>
                </a:solidFill>
                <a:latin typeface="Arial"/>
              </a:rPr>
              <a:t>　　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8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環氧樹脂黏著劑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80808"/>
                </a:solidFill>
                <a:latin typeface="Arial"/>
              </a:rPr>
              <a:t>           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A.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由主劑及硬化劑所組成之環氧樹脂黏著劑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           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B.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環氧樹脂應可作為黏著及填補用之商用配方，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              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且硬化後須成為均勻之硬化物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           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C.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主劑與硬化劑之配比：依製造廠商之建議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2.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材料品質管制：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80808"/>
                </a:solidFill>
                <a:latin typeface="Arial"/>
              </a:rPr>
              <a:t>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1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構材製造應依施工製造圖施作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2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切斷、切割、鑽孔、彎折、加壓成型等之機械加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工必須正確施作。加工時應避免造成製品之割傷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及因切削用油而產生之腐蝕現象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3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銲接應符合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CNS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之適用規定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4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鍍鋅：所有之鋼材（含螺栓、螺帽），除不銹鋼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外，應予以鍍鋅處理，其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厚度不得小於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30μm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5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不銹鋼玻璃窗口構材安裝於構造物時，對所受外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力應具充份之強度與剛性，並須符合既定尺度與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精度之要求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116000" y="475920"/>
            <a:ext cx="77724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6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施工廠商提送供料或製造廠商之出廠證明文件及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保證書正本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zh-TW" sz="24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7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製品在出廠前應施以適當之保護措施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8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運送至現場的產品應完好無缺。搬運時應防止碰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撞及刮傷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9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產品儲存時應保持乾燥；並與地面、土壤隔離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　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10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附屬材料　─　花崗石材之加工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80808"/>
                </a:solidFill>
                <a:latin typeface="Arial"/>
              </a:rPr>
              <a:t>　　   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A.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石材之加工應符合經核定施工製造圖說所示之細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             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節及圖說規範之規定。依圖示及固定石材之所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             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需，在石材上鑽切安裝所需之孔洞及凹洞。依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             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照正確舖設位置及空隙進行切割。石材背底之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             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形狀應與其支撐配合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          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B.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提供臨近其他工作所需之管槽、邊框、嵌線、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             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開口等部位，並與鄰近其他工作之設計圖及經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             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核定之施工製造圖妥為協調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116000" y="692280"/>
            <a:ext cx="77724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cc3300"/>
                </a:solidFill>
                <a:latin typeface="Arial"/>
              </a:rPr>
              <a:t>　　 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C.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依經核可之施工製造圖說所示形狀及尺度正確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             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切割及加工石材，並符合下列要求︰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80808"/>
                </a:solidFill>
                <a:latin typeface="Arial"/>
              </a:rPr>
              <a:t>　　      </a:t>
            </a:r>
            <a:r>
              <a:rPr b="0" lang="zh-TW" sz="2400" spc="-1" strike="noStrike">
                <a:solidFill>
                  <a:srgbClr val="009900"/>
                </a:solidFill>
                <a:latin typeface="Arial"/>
              </a:rPr>
              <a:t>a.</a:t>
            </a:r>
            <a:r>
              <a:rPr b="0" lang="zh-TW" sz="2400" spc="-1" strike="noStrike">
                <a:solidFill>
                  <a:srgbClr val="009900"/>
                </a:solidFill>
                <a:latin typeface="Arial"/>
              </a:rPr>
              <a:t>除非圖說另有標示，所有接縫均應平直，並與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00"/>
                </a:solidFill>
                <a:latin typeface="Arial"/>
              </a:rPr>
              <a:t>               </a:t>
            </a:r>
            <a:r>
              <a:rPr b="0" lang="zh-TW" sz="2400" spc="-1" strike="noStrike">
                <a:solidFill>
                  <a:srgbClr val="009900"/>
                </a:solidFill>
                <a:latin typeface="Arial"/>
              </a:rPr>
              <a:t>材面成</a:t>
            </a:r>
            <a:r>
              <a:rPr b="0" lang="zh-TW" sz="2400" spc="-1" strike="noStrike">
                <a:solidFill>
                  <a:srgbClr val="009900"/>
                </a:solidFill>
                <a:latin typeface="Arial"/>
              </a:rPr>
              <a:t>90°</a:t>
            </a:r>
            <a:r>
              <a:rPr b="0" lang="zh-TW" sz="2400" spc="-1" strike="noStrike">
                <a:solidFill>
                  <a:srgbClr val="009900"/>
                </a:solidFill>
                <a:latin typeface="Arial"/>
              </a:rPr>
              <a:t>角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00"/>
                </a:solidFill>
                <a:latin typeface="Arial"/>
              </a:rPr>
              <a:t>　         </a:t>
            </a:r>
            <a:r>
              <a:rPr b="0" lang="zh-TW" sz="2400" spc="-1" strike="noStrike">
                <a:solidFill>
                  <a:srgbClr val="009900"/>
                </a:solidFill>
                <a:latin typeface="Arial"/>
              </a:rPr>
              <a:t>b.</a:t>
            </a:r>
            <a:r>
              <a:rPr b="0" lang="zh-TW" sz="2400" spc="-1" strike="noStrike">
                <a:solidFill>
                  <a:srgbClr val="009900"/>
                </a:solidFill>
                <a:latin typeface="Arial"/>
              </a:rPr>
              <a:t>除非圖說另有標示，轉角處應以留縫斜角對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00"/>
                </a:solidFill>
                <a:latin typeface="Arial"/>
              </a:rPr>
              <a:t>               </a:t>
            </a:r>
            <a:r>
              <a:rPr b="0" lang="zh-TW" sz="2400" spc="-1" strike="noStrike">
                <a:solidFill>
                  <a:srgbClr val="009900"/>
                </a:solidFill>
                <a:latin typeface="Arial"/>
              </a:rPr>
              <a:t>接，且轉角處石材上下背底均應以固定件固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00"/>
                </a:solidFill>
                <a:latin typeface="Arial"/>
              </a:rPr>
              <a:t>               </a:t>
            </a:r>
            <a:r>
              <a:rPr b="0" lang="zh-TW" sz="2400" spc="-1" strike="noStrike">
                <a:solidFill>
                  <a:srgbClr val="009900"/>
                </a:solidFill>
                <a:latin typeface="Arial"/>
              </a:rPr>
              <a:t>定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00"/>
                </a:solidFill>
                <a:latin typeface="Arial"/>
              </a:rPr>
              <a:t>　         </a:t>
            </a:r>
            <a:r>
              <a:rPr b="0" lang="zh-TW" sz="2400" spc="-1" strike="noStrike">
                <a:solidFill>
                  <a:srgbClr val="009900"/>
                </a:solidFill>
                <a:latin typeface="Arial"/>
              </a:rPr>
              <a:t>c.</a:t>
            </a:r>
            <a:r>
              <a:rPr b="0" lang="zh-TW" sz="2400" spc="-1" strike="noStrike">
                <a:solidFill>
                  <a:srgbClr val="009900"/>
                </a:solidFill>
                <a:latin typeface="Arial"/>
              </a:rPr>
              <a:t>石材之切割應留以如圖說所示之縫寬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00"/>
                </a:solidFill>
                <a:latin typeface="Arial"/>
              </a:rPr>
              <a:t>            </a:t>
            </a:r>
            <a:r>
              <a:rPr b="0" lang="zh-TW" sz="2400" spc="-1" strike="noStrike">
                <a:solidFill>
                  <a:srgbClr val="009900"/>
                </a:solidFill>
                <a:latin typeface="Arial"/>
              </a:rPr>
              <a:t>d.</a:t>
            </a:r>
            <a:r>
              <a:rPr b="0" lang="zh-TW" sz="2400" spc="-1" strike="noStrike">
                <a:solidFill>
                  <a:srgbClr val="009900"/>
                </a:solidFill>
                <a:latin typeface="Arial"/>
              </a:rPr>
              <a:t>石材之厚度應依設計圖所示，非外露之石材背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00"/>
                </a:solidFill>
                <a:latin typeface="Arial"/>
              </a:rPr>
              <a:t>               </a:t>
            </a:r>
            <a:r>
              <a:rPr b="0" lang="zh-TW" sz="2400" spc="-1" strike="noStrike">
                <a:solidFill>
                  <a:srgbClr val="009900"/>
                </a:solidFill>
                <a:latin typeface="Arial"/>
              </a:rPr>
              <a:t>面可逕用鋸切面或粗鉋面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971640" y="475920"/>
            <a:ext cx="77724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zh-TW" sz="36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3. 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施工作業品質標準：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80808"/>
                </a:solidFill>
                <a:latin typeface="Arial"/>
              </a:rPr>
              <a:t>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1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使用不含腐蝕前應以毛刷刷淨，如需清洗石材安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裝應性之溫和清潔劑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2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斷裂、缺口、污損之石材應予移除換新。與鄰接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石材工程不相稱之石塊應依指示移除，並以相稱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之石塊依規定之方法予以換新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3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安裝許可差︰以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3m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長之直尺測量，於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任意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3m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範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圍內，平整度之許可差不得大於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3mm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4.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施工注意事項：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80808"/>
                </a:solidFill>
                <a:latin typeface="Arial"/>
              </a:rPr>
              <a:t>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1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接合部之施工須依指定尺度，並應確保其正確與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牢固。    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182600" y="692280"/>
            <a:ext cx="77724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6699"/>
                </a:solidFill>
                <a:latin typeface="Arial"/>
              </a:rPr>
              <a:t>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2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補強及輔助材料之接合須防止異質材料之接觸腐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蝕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3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銲接部應先用清除或磨研方式去除所生銲碴及氧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化物後再施以防銹處理。此外亦須避免因銲接導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致磨光表面產生顯著之顏色變化及彎曲等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4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審閱鄰近其他工作之安裝時程及步驟，並與其工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作人員密切協調，使各項組件依順序安裝妥當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5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工作完成後，應使用清水及硬鬃刷將石材清理乾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淨。不得使用鋼絲刷、酸性清潔劑或其他含有腐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蝕性物質之清潔劑</a:t>
            </a:r>
            <a:r>
              <a:rPr b="0" lang="zh-TW" sz="2400" spc="-1" strike="noStrike">
                <a:solidFill>
                  <a:srgbClr val="080808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971640" y="620280"/>
            <a:ext cx="77724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66"/>
                </a:solidFill>
                <a:latin typeface="Arial"/>
              </a:rPr>
              <a:t>一、</a:t>
            </a:r>
            <a:r>
              <a:rPr b="0" lang="zh-TW" sz="4000" spc="-1" strike="noStrike">
                <a:solidFill>
                  <a:srgbClr val="0039ac"/>
                </a:solidFill>
                <a:latin typeface="Arial"/>
              </a:rPr>
              <a:t>玻璃安裝</a:t>
            </a:r>
            <a:r>
              <a:rPr b="0" lang="zh-TW" sz="4000" spc="-1" strike="noStrike">
                <a:solidFill>
                  <a:srgbClr val="000066"/>
                </a:solidFill>
                <a:latin typeface="Arial"/>
              </a:rPr>
              <a:t>作業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800000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800000"/>
                </a:solidFill>
                <a:latin typeface="Arial"/>
              </a:rPr>
              <a:t>一</a:t>
            </a:r>
            <a:r>
              <a:rPr b="0" lang="zh-TW" sz="2800" spc="-1" strike="noStrike">
                <a:solidFill>
                  <a:srgbClr val="800000"/>
                </a:solidFill>
                <a:latin typeface="Arial"/>
              </a:rPr>
              <a:t>)</a:t>
            </a:r>
            <a:r>
              <a:rPr b="0" lang="zh-TW" sz="2800" spc="-1" strike="noStrike">
                <a:solidFill>
                  <a:srgbClr val="800000"/>
                </a:solidFill>
                <a:latin typeface="Arial"/>
              </a:rPr>
              <a:t>玻璃及玻璃鑲嵌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800000"/>
                </a:solidFill>
                <a:latin typeface="Arial"/>
              </a:rPr>
              <a:t>      </a:t>
            </a:r>
            <a:r>
              <a:rPr b="0" lang="zh-TW" sz="2400" spc="-1" strike="noStrike">
                <a:solidFill>
                  <a:srgbClr val="800000"/>
                </a:solidFill>
                <a:latin typeface="Arial"/>
              </a:rPr>
              <a:t>玻璃為一種納石灰矽酸物</a:t>
            </a:r>
            <a:r>
              <a:rPr b="0" lang="zh-TW" sz="2400" spc="-1" strike="noStrike">
                <a:solidFill>
                  <a:srgbClr val="800000"/>
                </a:solidFill>
                <a:latin typeface="Arial"/>
              </a:rPr>
              <a:t>(</a:t>
            </a:r>
            <a:r>
              <a:rPr b="0" lang="zh-TW" sz="2400" spc="-1" strike="noStrike">
                <a:solidFill>
                  <a:srgbClr val="800000"/>
                </a:solidFill>
                <a:latin typeface="Arial"/>
              </a:rPr>
              <a:t>矽酸</a:t>
            </a:r>
            <a:r>
              <a:rPr b="0" lang="zh-TW" sz="2400" spc="-1" strike="noStrike">
                <a:solidFill>
                  <a:srgbClr val="800000"/>
                </a:solidFill>
                <a:latin typeface="Arial"/>
              </a:rPr>
              <a:t>)</a:t>
            </a:r>
            <a:r>
              <a:rPr b="0" lang="zh-TW" sz="2400" spc="-1" strike="noStrike">
                <a:solidFill>
                  <a:srgbClr val="800000"/>
                </a:solidFill>
                <a:latin typeface="Arial"/>
              </a:rPr>
              <a:t>也有稱為納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800000"/>
                </a:solidFill>
                <a:latin typeface="Arial"/>
              </a:rPr>
              <a:t>        </a:t>
            </a:r>
            <a:r>
              <a:rPr b="0" lang="zh-TW" sz="2400" spc="-1" strike="noStrike">
                <a:solidFill>
                  <a:srgbClr val="800000"/>
                </a:solidFill>
                <a:latin typeface="Arial"/>
              </a:rPr>
              <a:t>玻璃，在</a:t>
            </a:r>
            <a:r>
              <a:rPr b="0" lang="zh-TW" sz="2400" spc="-1" strike="noStrike">
                <a:solidFill>
                  <a:srgbClr val="800000"/>
                </a:solidFill>
                <a:latin typeface="Arial"/>
              </a:rPr>
              <a:t>1200</a:t>
            </a:r>
            <a:r>
              <a:rPr b="0" lang="zh-TW" sz="2400" spc="-1" strike="noStrike">
                <a:solidFill>
                  <a:srgbClr val="800000"/>
                </a:solidFill>
                <a:latin typeface="Arial"/>
              </a:rPr>
              <a:t>度坩鍋內燃燒</a:t>
            </a:r>
            <a:r>
              <a:rPr b="0" lang="zh-TW" sz="2400" spc="-1" strike="noStrike">
                <a:solidFill>
                  <a:srgbClr val="800000"/>
                </a:solidFill>
                <a:latin typeface="Arial"/>
              </a:rPr>
              <a:t>12</a:t>
            </a:r>
            <a:r>
              <a:rPr b="0" lang="zh-TW" sz="2400" spc="-1" strike="noStrike">
                <a:solidFill>
                  <a:srgbClr val="800000"/>
                </a:solidFill>
                <a:latin typeface="Arial"/>
              </a:rPr>
              <a:t>小時即成普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800000"/>
                </a:solidFill>
                <a:latin typeface="Arial"/>
              </a:rPr>
              <a:t>        </a:t>
            </a:r>
            <a:r>
              <a:rPr b="0" lang="zh-TW" sz="2400" spc="-1" strike="noStrike">
                <a:solidFill>
                  <a:srgbClr val="800000"/>
                </a:solidFill>
                <a:latin typeface="Arial"/>
              </a:rPr>
              <a:t>通白色玻璃；由砂和納</a:t>
            </a:r>
            <a:r>
              <a:rPr b="0" lang="zh-TW" sz="2400" spc="-1" strike="noStrike">
                <a:solidFill>
                  <a:srgbClr val="800000"/>
                </a:solidFill>
                <a:latin typeface="Arial"/>
              </a:rPr>
              <a:t>(</a:t>
            </a:r>
            <a:r>
              <a:rPr b="0" lang="zh-TW" sz="2400" spc="-1" strike="noStrike">
                <a:solidFill>
                  <a:srgbClr val="800000"/>
                </a:solidFill>
                <a:latin typeface="Arial"/>
              </a:rPr>
              <a:t>碱</a:t>
            </a:r>
            <a:r>
              <a:rPr b="0" lang="zh-TW" sz="2400" spc="-1" strike="noStrike">
                <a:solidFill>
                  <a:srgbClr val="800000"/>
                </a:solidFill>
                <a:latin typeface="Arial"/>
              </a:rPr>
              <a:t>)</a:t>
            </a:r>
            <a:r>
              <a:rPr b="0" lang="zh-TW" sz="2400" spc="-1" strike="noStrike">
                <a:solidFill>
                  <a:srgbClr val="800000"/>
                </a:solidFill>
                <a:latin typeface="Arial"/>
              </a:rPr>
              <a:t>溶化，冷卻即成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800000"/>
                </a:solidFill>
                <a:latin typeface="Arial"/>
              </a:rPr>
              <a:t>        </a:t>
            </a:r>
            <a:r>
              <a:rPr b="0" lang="zh-TW" sz="2400" spc="-1" strike="noStrike">
                <a:solidFill>
                  <a:srgbClr val="800000"/>
                </a:solidFill>
                <a:latin typeface="Arial"/>
              </a:rPr>
              <a:t>透明玻璃質的矽酸納</a:t>
            </a:r>
            <a:r>
              <a:rPr b="0" lang="zh-TW" sz="2400" spc="-1" strike="noStrike">
                <a:solidFill>
                  <a:srgbClr val="800000"/>
                </a:solidFill>
                <a:latin typeface="Arial"/>
              </a:rPr>
              <a:t>(</a:t>
            </a:r>
            <a:r>
              <a:rPr b="0" lang="zh-TW" sz="2400" spc="-1" strike="noStrike">
                <a:solidFill>
                  <a:srgbClr val="800000"/>
                </a:solidFill>
                <a:latin typeface="Arial"/>
              </a:rPr>
              <a:t>水玻璃</a:t>
            </a:r>
            <a:r>
              <a:rPr b="0" lang="zh-TW" sz="2400" spc="-1" strike="noStrike">
                <a:solidFill>
                  <a:srgbClr val="800000"/>
                </a:solidFill>
                <a:latin typeface="Arial"/>
              </a:rPr>
              <a:t>)</a:t>
            </a:r>
            <a:r>
              <a:rPr b="0" lang="zh-TW" sz="2400" spc="-1" strike="noStrike">
                <a:solidFill>
                  <a:srgbClr val="800000"/>
                </a:solidFill>
                <a:latin typeface="Arial"/>
              </a:rPr>
              <a:t>，可溶於水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800000"/>
                </a:solidFill>
                <a:latin typeface="Arial"/>
              </a:rPr>
              <a:t>        </a:t>
            </a:r>
            <a:r>
              <a:rPr b="0" lang="zh-TW" sz="2400" spc="-1" strike="noStrike">
                <a:solidFill>
                  <a:srgbClr val="800000"/>
                </a:solidFill>
                <a:latin typeface="Arial"/>
              </a:rPr>
              <a:t>如混以充分石灰即可減低水溶性，獲得耐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800000"/>
                </a:solidFill>
                <a:latin typeface="Arial"/>
              </a:rPr>
              <a:t>        </a:t>
            </a:r>
            <a:r>
              <a:rPr b="0" lang="zh-TW" sz="2400" spc="-1" strike="noStrike">
                <a:solidFill>
                  <a:srgbClr val="800000"/>
                </a:solidFill>
                <a:latin typeface="Arial"/>
              </a:rPr>
              <a:t>久性、耐酸性</a:t>
            </a:r>
            <a:r>
              <a:rPr b="0" lang="zh-TW" sz="2400" spc="-1" strike="noStrike">
                <a:solidFill>
                  <a:srgbClr val="800000"/>
                </a:solidFill>
                <a:latin typeface="Arial"/>
              </a:rPr>
              <a:t>(</a:t>
            </a:r>
            <a:r>
              <a:rPr b="0" lang="zh-TW" sz="2400" spc="-1" strike="noStrike">
                <a:solidFill>
                  <a:srgbClr val="800000"/>
                </a:solidFill>
                <a:latin typeface="Arial"/>
              </a:rPr>
              <a:t>除氫氟酸外</a:t>
            </a:r>
            <a:r>
              <a:rPr b="0" lang="zh-TW" sz="2400" spc="-1" strike="noStrike">
                <a:solidFill>
                  <a:srgbClr val="800000"/>
                </a:solidFill>
                <a:latin typeface="Arial"/>
              </a:rPr>
              <a:t>)</a:t>
            </a:r>
            <a:r>
              <a:rPr b="0" lang="zh-TW" sz="2400" spc="-1" strike="noStrike">
                <a:solidFill>
                  <a:srgbClr val="8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800000"/>
                </a:solidFill>
                <a:latin typeface="Arial"/>
              </a:rPr>
              <a:t>        </a:t>
            </a:r>
            <a:r>
              <a:rPr b="0" lang="zh-TW" sz="2400" spc="-1" strike="noStrike">
                <a:solidFill>
                  <a:srgbClr val="800000"/>
                </a:solidFill>
                <a:latin typeface="Arial"/>
              </a:rPr>
              <a:t>其比重約在</a:t>
            </a:r>
            <a:r>
              <a:rPr b="0" lang="zh-TW" sz="2400" spc="-1" strike="noStrike">
                <a:solidFill>
                  <a:srgbClr val="800000"/>
                </a:solidFill>
                <a:latin typeface="Arial"/>
              </a:rPr>
              <a:t>2.5</a:t>
            </a:r>
            <a:r>
              <a:rPr b="0" lang="zh-TW" sz="2400" spc="-1" strike="noStrike">
                <a:solidFill>
                  <a:srgbClr val="800000"/>
                </a:solidFill>
                <a:latin typeface="Arial"/>
              </a:rPr>
              <a:t>，若含鉛或金屬則在</a:t>
            </a:r>
            <a:r>
              <a:rPr b="0" lang="zh-TW" sz="2400" spc="-1" strike="noStrike">
                <a:solidFill>
                  <a:srgbClr val="800000"/>
                </a:solidFill>
                <a:latin typeface="Arial"/>
              </a:rPr>
              <a:t>6</a:t>
            </a:r>
            <a:r>
              <a:rPr b="0" lang="zh-TW" sz="2400" spc="-1" strike="noStrike">
                <a:solidFill>
                  <a:srgbClr val="800000"/>
                </a:solidFill>
                <a:latin typeface="Arial"/>
              </a:rPr>
              <a:t>以上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800000"/>
                </a:solidFill>
                <a:latin typeface="Arial"/>
              </a:rPr>
              <a:t>        </a:t>
            </a:r>
            <a:r>
              <a:rPr b="0" lang="zh-TW" sz="2400" spc="-1" strike="noStrike">
                <a:solidFill>
                  <a:srgbClr val="800000"/>
                </a:solidFill>
                <a:latin typeface="Arial"/>
              </a:rPr>
              <a:t>玻璃成分內碳酸鈉含量愈多，對化學抵抗力愈弱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800000"/>
                </a:solidFill>
                <a:latin typeface="Arial"/>
              </a:rPr>
              <a:t>        </a:t>
            </a:r>
            <a:r>
              <a:rPr b="0" lang="zh-TW" sz="2400" spc="-1" strike="noStrike">
                <a:solidFill>
                  <a:srgbClr val="800000"/>
                </a:solidFill>
                <a:latin typeface="Arial"/>
              </a:rPr>
              <a:t>玻璃中沙及石灰有增加化學抗力之作用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800000"/>
                </a:solidFill>
                <a:latin typeface="Arial"/>
              </a:rPr>
              <a:t>        </a:t>
            </a:r>
            <a:r>
              <a:rPr b="0" lang="zh-TW" sz="2400" spc="-1" strike="noStrike">
                <a:solidFill>
                  <a:srgbClr val="ccffcc"/>
                </a:solidFill>
                <a:latin typeface="Arial"/>
              </a:rPr>
              <a:t>一般市面上玻璃一箱為</a:t>
            </a:r>
            <a:r>
              <a:rPr b="0" lang="zh-TW" sz="2400" spc="-1" strike="noStrike">
                <a:solidFill>
                  <a:srgbClr val="ccffcc"/>
                </a:solidFill>
                <a:latin typeface="Arial"/>
              </a:rPr>
              <a:t>100</a:t>
            </a:r>
            <a:r>
              <a:rPr b="0" lang="zh-TW" sz="2400" spc="-1" strike="noStrike">
                <a:solidFill>
                  <a:srgbClr val="ccffcc"/>
                </a:solidFill>
                <a:latin typeface="Arial"/>
              </a:rPr>
              <a:t>才，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cc"/>
                </a:solidFill>
                <a:latin typeface="Arial"/>
              </a:rPr>
              <a:t>        </a:t>
            </a:r>
            <a:r>
              <a:rPr b="0" lang="zh-TW" sz="2400" spc="-1" strike="noStrike">
                <a:solidFill>
                  <a:srgbClr val="ccffcc"/>
                </a:solidFill>
                <a:latin typeface="Arial"/>
              </a:rPr>
              <a:t>每才為  </a:t>
            </a:r>
            <a:r>
              <a:rPr b="0" lang="zh-TW" sz="2400" spc="-1" strike="noStrike">
                <a:solidFill>
                  <a:srgbClr val="ccffcc"/>
                </a:solidFill>
                <a:latin typeface="Arial"/>
              </a:rPr>
              <a:t>1 </a:t>
            </a:r>
            <a:r>
              <a:rPr b="0" lang="zh-TW" sz="2400" spc="-1" strike="noStrike">
                <a:solidFill>
                  <a:srgbClr val="ccffcc"/>
                </a:solidFill>
                <a:latin typeface="Arial"/>
              </a:rPr>
              <a:t>台尺 </a:t>
            </a:r>
            <a:r>
              <a:rPr b="0" lang="zh-TW" sz="2400" spc="-1" strike="noStrike">
                <a:solidFill>
                  <a:srgbClr val="ccffcc"/>
                </a:solidFill>
                <a:latin typeface="Arial"/>
              </a:rPr>
              <a:t>*  1 </a:t>
            </a:r>
            <a:r>
              <a:rPr b="0" lang="zh-TW" sz="2400" spc="-1" strike="noStrike">
                <a:solidFill>
                  <a:srgbClr val="ccffcc"/>
                </a:solidFill>
                <a:latin typeface="Arial"/>
              </a:rPr>
              <a:t>台尺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116000" y="691920"/>
            <a:ext cx="77724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0" lang="zh-TW" sz="3600" spc="-1" strike="noStrike">
                <a:solidFill>
                  <a:srgbClr val="800000"/>
                </a:solidFill>
                <a:latin typeface="Arial"/>
              </a:rPr>
              <a:t>(</a:t>
            </a:r>
            <a:r>
              <a:rPr b="0" lang="zh-TW" sz="3600" spc="-1" strike="noStrike">
                <a:solidFill>
                  <a:srgbClr val="800000"/>
                </a:solidFill>
                <a:latin typeface="Arial"/>
              </a:rPr>
              <a:t>四</a:t>
            </a:r>
            <a:r>
              <a:rPr b="0" lang="zh-TW" sz="3600" spc="-1" strike="noStrike">
                <a:solidFill>
                  <a:srgbClr val="800000"/>
                </a:solidFill>
                <a:latin typeface="Arial"/>
              </a:rPr>
              <a:t>)</a:t>
            </a:r>
            <a:r>
              <a:rPr b="0" lang="zh-TW" sz="3600" spc="-1" strike="noStrike">
                <a:solidFill>
                  <a:srgbClr val="800000"/>
                </a:solidFill>
                <a:latin typeface="Arial"/>
              </a:rPr>
              <a:t>浮式玻璃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         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1.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材料品質管制：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1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材料生產或供應商資料及技術文件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2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施工用機具及器材等技術資料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3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提送所採用材料之品質及產品之功能、強度均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符合圖說規定之試驗證明文件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4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浮式玻璃產品、鑲嵌材料及其配件品質應符合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圖說之規定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5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依照本章相關準則之規定，提送原製造廠商出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具之出廠證明文件及保證書正本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6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所有浮式玻璃成品出廠應貼黏製造、檢驗標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籤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116000" y="54900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        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2.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施工作業品質標準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80808"/>
                </a:solidFill>
                <a:latin typeface="Arial"/>
              </a:rPr>
              <a:t>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1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建築內、外裝應已實質完工，並完成初步清理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工作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2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安裝玻璃之門窗框應為平直及無尖銳突出物，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並確認無後續之粉刷泥水工作，方得進行玻璃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鑲嵌之工作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3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浮式玻璃製作完成經出廠檢驗後，需用瓦楞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紙、泡棉等材料妥善包裝，並在其外部採用木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框、塑膠框等框架予以保護之，以防運輸時碰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傷並防水泥漿或其他材料沾污材料表面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4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所有材料在搬運時，均應輕取輕放，用力均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勻，不得任意拖拉，致使材料變形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5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置放時均須在適當墊料上垂直放置，不得平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放，堆疊或負重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187280" y="764640"/>
            <a:ext cx="76377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        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3. 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施工作業品質標準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80808"/>
                </a:solidFill>
                <a:latin typeface="Arial"/>
              </a:rPr>
              <a:t>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1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除另有規定外，所有門窗玻璃之安裝均須單孔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為一整塊玻璃，不得拼接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2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依據施工製造圖或現場玻璃安裝處之開孔尺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寸，裁切玻璃使嵌合及空隙均符合要求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3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玻璃表面須保持清潔。安裝表面不得有灰塵、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腐蝕物及殘渣等雜物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        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4.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施工注意事項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80808"/>
                </a:solidFill>
                <a:latin typeface="Arial"/>
              </a:rPr>
              <a:t>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1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現場玻璃應依據設計圖示所規定之位置安裝，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並與核准之樣品相符合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2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承包商應督導分包人安裝，並確認每片玻璃皆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為所指定之型式及等級。</a:t>
            </a:r>
            <a:r>
              <a:rPr b="0" lang="zh-TW" sz="1000" spc="-1" strike="noStrike">
                <a:solidFill>
                  <a:srgbClr val="336699"/>
                </a:solidFill>
                <a:latin typeface="Arial"/>
              </a:rPr>
              <a:t>     </a:t>
            </a: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182600" y="765000"/>
            <a:ext cx="77724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3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安裝用膠帶其長度應與玻璃完全相同，安裝至窗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框後，其縫隙應密不透水。不得拉長或使膠帶變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形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4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將聚氯丁合成橡膠墊塊置於玻璃片底部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1/4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長度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位置。墊塊應使玻璃與框架距離至少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1.5mm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以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上，並固定於玻璃之開孔位置上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5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安裝並固定玻璃，以填縫料填滿玻璃與押條之間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所有的空隙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6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凡發霉、變色、斑點、扭曲、波紋之玻璃不得使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用；雖已裝配一經發現仍須全面更換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7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安裝須在氣溫高於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5℃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以上，且預測前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24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小時內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不下雨之天候下完成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182600" y="620280"/>
            <a:ext cx="7772400" cy="55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8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填縫料應依據設計圖示之規定施打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9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驗收前須徹底清除所裝玻璃上之污漬、油漆、粉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刷或其他有礙觀瞻之物，並擦拭潔淨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10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安裝時不慎沾上水泥、灰漿等應在未乾前以清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水沖洗或濕布拭除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11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油酯類污物則以中性皂水或清潔劑洗除，並擦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拭乾淨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12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使用與填縫料相容之溶劑，清除多餘或污染之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填縫料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182600" y="692280"/>
            <a:ext cx="77724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zh-TW" sz="4000" spc="-1" strike="noStrike">
                <a:solidFill>
                  <a:srgbClr val="000066"/>
                </a:solidFill>
                <a:latin typeface="Arial"/>
              </a:rPr>
              <a:t>二、</a:t>
            </a:r>
            <a:r>
              <a:rPr b="0" lang="zh-TW" sz="4000" spc="-1" strike="noStrike">
                <a:solidFill>
                  <a:srgbClr val="0039ac"/>
                </a:solidFill>
                <a:latin typeface="Arial"/>
              </a:rPr>
              <a:t>壓克力安裝作業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800000"/>
                </a:solidFill>
                <a:latin typeface="Arial"/>
              </a:rPr>
              <a:t>        </a:t>
            </a:r>
            <a:r>
              <a:rPr b="0" lang="zh-TW" sz="3600" spc="-1" strike="noStrike">
                <a:solidFill>
                  <a:srgbClr val="800000"/>
                </a:solidFill>
                <a:latin typeface="Arial"/>
              </a:rPr>
              <a:t>壓克力或塑膠板鑲嵌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100" spc="-1" strike="noStrike">
                <a:solidFill>
                  <a:srgbClr val="cc3300"/>
                </a:solidFill>
                <a:latin typeface="Arial"/>
              </a:rPr>
              <a:t>      </a:t>
            </a:r>
            <a:r>
              <a:rPr b="0" lang="zh-TW" sz="3200" spc="-1" strike="noStrike">
                <a:solidFill>
                  <a:srgbClr val="cc3300"/>
                </a:solidFill>
                <a:latin typeface="Arial"/>
              </a:rPr>
              <a:t>1. </a:t>
            </a:r>
            <a:r>
              <a:rPr b="0" lang="zh-TW" sz="3200" spc="-1" strike="noStrike">
                <a:solidFill>
                  <a:srgbClr val="cc3300"/>
                </a:solidFill>
                <a:latin typeface="Arial"/>
              </a:rPr>
              <a:t>材質說明：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80808"/>
                </a:solidFill>
                <a:latin typeface="Arial"/>
              </a:rPr>
              <a:t>        </a:t>
            </a:r>
            <a:r>
              <a:rPr b="0" lang="zh-TW" sz="2800" spc="-1" strike="noStrike">
                <a:solidFill>
                  <a:srgbClr val="336699"/>
                </a:solidFill>
                <a:latin typeface="Arial"/>
              </a:rPr>
              <a:t>(1)</a:t>
            </a:r>
            <a:r>
              <a:rPr b="0" lang="zh-TW" sz="2800" spc="-1" strike="noStrike">
                <a:solidFill>
                  <a:srgbClr val="336699"/>
                </a:solidFill>
                <a:latin typeface="Arial"/>
              </a:rPr>
              <a:t>依據契約及設計圖示之規定，凡屬於建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6699"/>
                </a:solidFill>
                <a:latin typeface="Arial"/>
              </a:rPr>
              <a:t>            </a:t>
            </a:r>
            <a:r>
              <a:rPr b="0" lang="zh-TW" sz="2800" spc="-1" strike="noStrike">
                <a:solidFill>
                  <a:srgbClr val="336699"/>
                </a:solidFill>
                <a:latin typeface="Arial"/>
              </a:rPr>
              <a:t>築物使用之帷幕牆、門、窗或隔間、欄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6699"/>
                </a:solidFill>
                <a:latin typeface="Arial"/>
              </a:rPr>
              <a:t>            </a:t>
            </a:r>
            <a:r>
              <a:rPr b="0" lang="zh-TW" sz="2800" spc="-1" strike="noStrike">
                <a:solidFill>
                  <a:srgbClr val="336699"/>
                </a:solidFill>
                <a:latin typeface="Arial"/>
              </a:rPr>
              <a:t>杆、扶手等經指定為壓克力或塑膠板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6699"/>
                </a:solidFill>
                <a:latin typeface="Arial"/>
              </a:rPr>
              <a:t>            </a:t>
            </a:r>
            <a:r>
              <a:rPr b="0" lang="zh-TW" sz="2800" spc="-1" strike="noStrike">
                <a:solidFill>
                  <a:srgbClr val="336699"/>
                </a:solidFill>
                <a:latin typeface="Arial"/>
              </a:rPr>
              <a:t>時，其相關之週邊零料、配件、必要之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6699"/>
                </a:solidFill>
                <a:latin typeface="Arial"/>
              </a:rPr>
              <a:t>            </a:t>
            </a:r>
            <a:r>
              <a:rPr b="0" lang="zh-TW" sz="2800" spc="-1" strike="noStrike">
                <a:solidFill>
                  <a:srgbClr val="336699"/>
                </a:solidFill>
                <a:latin typeface="Arial"/>
              </a:rPr>
              <a:t>鑲嵌材料、固定件、填料及安裝等均屬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6699"/>
                </a:solidFill>
                <a:latin typeface="Arial"/>
              </a:rPr>
              <a:t>            </a:t>
            </a:r>
            <a:r>
              <a:rPr b="0" lang="zh-TW" sz="2800" spc="-1" strike="noStrike">
                <a:solidFill>
                  <a:srgbClr val="336699"/>
                </a:solidFill>
                <a:latin typeface="Arial"/>
              </a:rPr>
              <a:t>之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6699"/>
                </a:solidFill>
                <a:latin typeface="Arial"/>
              </a:rPr>
              <a:t>        </a:t>
            </a:r>
            <a:r>
              <a:rPr b="0" lang="zh-TW" sz="2800" spc="-1" strike="noStrike">
                <a:solidFill>
                  <a:srgbClr val="336699"/>
                </a:solidFill>
                <a:latin typeface="Arial"/>
              </a:rPr>
              <a:t>(2)</a:t>
            </a:r>
            <a:r>
              <a:rPr b="0" lang="zh-TW" sz="2800" spc="-1" strike="noStrike">
                <a:solidFill>
                  <a:srgbClr val="336699"/>
                </a:solidFill>
                <a:latin typeface="Arial"/>
              </a:rPr>
              <a:t>如無特殊規定時，工作內容應包括但不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6699"/>
                </a:solidFill>
                <a:latin typeface="Arial"/>
              </a:rPr>
              <a:t>            </a:t>
            </a:r>
            <a:r>
              <a:rPr b="0" lang="zh-TW" sz="2800" spc="-1" strike="noStrike">
                <a:solidFill>
                  <a:srgbClr val="336699"/>
                </a:solidFill>
                <a:latin typeface="Arial"/>
              </a:rPr>
              <a:t>限於壓克力或塑膠板及其鑲嵌材料、壓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6699"/>
                </a:solidFill>
                <a:latin typeface="Arial"/>
              </a:rPr>
              <a:t>            </a:t>
            </a:r>
            <a:r>
              <a:rPr b="0" lang="zh-TW" sz="2800" spc="-1" strike="noStrike">
                <a:solidFill>
                  <a:srgbClr val="336699"/>
                </a:solidFill>
                <a:latin typeface="Arial"/>
              </a:rPr>
              <a:t>條、防雨條、墊塊、固定件、填縫料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6699"/>
                </a:solidFill>
                <a:latin typeface="Arial"/>
              </a:rPr>
              <a:t>            </a:t>
            </a:r>
            <a:r>
              <a:rPr b="0" lang="zh-TW" sz="2800" spc="-1" strike="noStrike">
                <a:solidFill>
                  <a:srgbClr val="336699"/>
                </a:solidFill>
                <a:latin typeface="Arial"/>
              </a:rPr>
              <a:t>等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6699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182600" y="765000"/>
            <a:ext cx="7772400" cy="536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3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材料生產或供應商資料及技術文件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4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施工用機具及器材等技術資料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5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除另有規定外或工程司認為必要時，得要求承包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商製作實品大樣，經核可後方得大批製作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6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提送所採用材料之品質及產品之功能、強度均符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合本章規定之試驗證明文件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      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2.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施工作業品質標準：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1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壓克力或塑膠板產品、鑲嵌材料及其配件品質應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符合圖說規範之規定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2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承包商應依照相關準則之規定，提送原製造廠商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出具之出廠證明文件及保證書正本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3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所有壓克力或塑膠板成品出廠應貼黏製造、檢驗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標籤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042920" y="69192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zh-TW" sz="2800" spc="-1" strike="noStrike">
                <a:solidFill>
                  <a:srgbClr val="336699"/>
                </a:solidFill>
                <a:latin typeface="Arial"/>
              </a:rPr>
              <a:t>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4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本章工作施作時，建築內、外裝應已實質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完工，並完成初步清理工作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5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安裝壓克力或塑膠板之門窗框應為平直及無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尖銳突出物，並確認無後續之粉刷泥水工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作，方得進行壓克力或塑膠板鑲嵌之工作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6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壓克力或塑膠板製作完成經出廠檢驗後，需用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瓦楞紙、泡棉等材料妥善包裝，並在其外部採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用木框、塑膠框等框架予以保護之，以防運輸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時碰傷並防水泥漿或其他材料沾污材料表面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6699"/>
                </a:solidFill>
                <a:latin typeface="Arial"/>
              </a:rPr>
              <a:t>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7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所有材料在搬運時，均應輕取輕放，用力均勻，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不得任意拖拉，致使材料變形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82600" y="333000"/>
            <a:ext cx="77724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6699"/>
                </a:solidFill>
                <a:latin typeface="Arial"/>
              </a:rPr>
              <a:t>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8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置放時均須在適當墊料上垂直放置，不得平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放、堆疊或負重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3. 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施工作業品質標準：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1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壓克力或塑膠板，應符合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CNS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之規定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2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鑲嵌配件應符合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CNS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之規定，包含但不限於墊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塊、墊圈、墊片、膠帶等富彈性的材料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3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填縫料應依據圖說規範，並符合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CNS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規範之相關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規定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4.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施工注意事項：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1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除另有規定外，所有門窗壓克力或塑膠板之安裝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均須單孔為一整塊玻璃，不得拼接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182600" y="836280"/>
            <a:ext cx="7772400" cy="52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2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依據施工製造圖或現場壓克力或塑膠板安裝處之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開孔尺寸，裁切玻璃使嵌合及空隙均符合要求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3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壓克力或塑膠板表面須保持清潔。安裝表面不得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有灰塵、腐蝕物及殘渣等雜物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4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現場玻璃應依據設計圖示所規定之位置安裝，並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與核准之樣品相符合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5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承包商應督導分包人安裝，並確認每片壓克力或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塑膠板皆為所指定之型式及等級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6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安裝用膠帶其長度應與壓克力或塑膠板完全相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同，安裝至窗框後，其縫隙應密不透水。不得拉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長或使膠帶變形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971640" y="620280"/>
            <a:ext cx="77724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66"/>
                </a:solidFill>
                <a:latin typeface="Arial"/>
              </a:rPr>
              <a:t>一、</a:t>
            </a:r>
            <a:r>
              <a:rPr b="0" lang="zh-TW" sz="4400" spc="-1" strike="noStrike">
                <a:solidFill>
                  <a:srgbClr val="0039ac"/>
                </a:solidFill>
                <a:latin typeface="Arial"/>
              </a:rPr>
              <a:t>玻璃安裝</a:t>
            </a:r>
            <a:r>
              <a:rPr b="0" lang="zh-TW" sz="4400" spc="-1" strike="noStrike">
                <a:solidFill>
                  <a:srgbClr val="000066"/>
                </a:solidFill>
                <a:latin typeface="Arial"/>
              </a:rPr>
              <a:t>作業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8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800000"/>
                </a:solidFill>
                <a:latin typeface="Arial"/>
              </a:rPr>
              <a:t>一</a:t>
            </a:r>
            <a:r>
              <a:rPr b="0" lang="zh-TW" sz="3200" spc="-1" strike="noStrike">
                <a:solidFill>
                  <a:srgbClr val="8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800000"/>
                </a:solidFill>
                <a:latin typeface="Arial"/>
              </a:rPr>
              <a:t>玻璃及玻璃鑲嵌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800000"/>
                </a:solidFill>
                <a:latin typeface="Arial"/>
              </a:rPr>
              <a:t>      </a:t>
            </a:r>
            <a:r>
              <a:rPr b="0" lang="zh-TW" sz="2800" spc="-1" strike="noStrike">
                <a:solidFill>
                  <a:srgbClr val="800000"/>
                </a:solidFill>
                <a:latin typeface="Arial"/>
              </a:rPr>
              <a:t>玻璃為一種納石灰矽酸物</a:t>
            </a:r>
            <a:r>
              <a:rPr b="0" lang="zh-TW" sz="2800" spc="-1" strike="noStrike">
                <a:solidFill>
                  <a:srgbClr val="800000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800000"/>
                </a:solidFill>
                <a:latin typeface="Arial"/>
              </a:rPr>
              <a:t>矽酸</a:t>
            </a:r>
            <a:r>
              <a:rPr b="0" lang="zh-TW" sz="2800" spc="-1" strike="noStrike">
                <a:solidFill>
                  <a:srgbClr val="800000"/>
                </a:solidFill>
                <a:latin typeface="Arial"/>
              </a:rPr>
              <a:t>)</a:t>
            </a:r>
            <a:r>
              <a:rPr b="0" lang="zh-TW" sz="2800" spc="-1" strike="noStrike">
                <a:solidFill>
                  <a:srgbClr val="800000"/>
                </a:solidFill>
                <a:latin typeface="Arial"/>
              </a:rPr>
              <a:t>也有稱為納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800000"/>
                </a:solidFill>
                <a:latin typeface="Arial"/>
              </a:rPr>
              <a:t>        </a:t>
            </a:r>
            <a:r>
              <a:rPr b="0" lang="zh-TW" sz="2800" spc="-1" strike="noStrike">
                <a:solidFill>
                  <a:srgbClr val="800000"/>
                </a:solidFill>
                <a:latin typeface="Arial"/>
              </a:rPr>
              <a:t>玻璃，在</a:t>
            </a:r>
            <a:r>
              <a:rPr b="0" lang="zh-TW" sz="2800" spc="-1" strike="noStrike">
                <a:solidFill>
                  <a:srgbClr val="800000"/>
                </a:solidFill>
                <a:latin typeface="Arial"/>
              </a:rPr>
              <a:t>1200</a:t>
            </a:r>
            <a:r>
              <a:rPr b="0" lang="zh-TW" sz="2800" spc="-1" strike="noStrike">
                <a:solidFill>
                  <a:srgbClr val="800000"/>
                </a:solidFill>
                <a:latin typeface="Arial"/>
              </a:rPr>
              <a:t>度坩鍋內燃燒</a:t>
            </a:r>
            <a:r>
              <a:rPr b="0" lang="zh-TW" sz="2800" spc="-1" strike="noStrike">
                <a:solidFill>
                  <a:srgbClr val="800000"/>
                </a:solidFill>
                <a:latin typeface="Arial"/>
              </a:rPr>
              <a:t>12</a:t>
            </a:r>
            <a:r>
              <a:rPr b="0" lang="zh-TW" sz="2800" spc="-1" strike="noStrike">
                <a:solidFill>
                  <a:srgbClr val="800000"/>
                </a:solidFill>
                <a:latin typeface="Arial"/>
              </a:rPr>
              <a:t>小時即成普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800000"/>
                </a:solidFill>
                <a:latin typeface="Arial"/>
              </a:rPr>
              <a:t>        </a:t>
            </a:r>
            <a:r>
              <a:rPr b="0" lang="zh-TW" sz="2800" spc="-1" strike="noStrike">
                <a:solidFill>
                  <a:srgbClr val="800000"/>
                </a:solidFill>
                <a:latin typeface="Arial"/>
              </a:rPr>
              <a:t>通白色玻璃；由砂和納</a:t>
            </a:r>
            <a:r>
              <a:rPr b="0" lang="zh-TW" sz="2800" spc="-1" strike="noStrike">
                <a:solidFill>
                  <a:srgbClr val="800000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800000"/>
                </a:solidFill>
                <a:latin typeface="Arial"/>
              </a:rPr>
              <a:t>碱</a:t>
            </a:r>
            <a:r>
              <a:rPr b="0" lang="zh-TW" sz="2800" spc="-1" strike="noStrike">
                <a:solidFill>
                  <a:srgbClr val="800000"/>
                </a:solidFill>
                <a:latin typeface="Arial"/>
              </a:rPr>
              <a:t>)</a:t>
            </a:r>
            <a:r>
              <a:rPr b="0" lang="zh-TW" sz="2800" spc="-1" strike="noStrike">
                <a:solidFill>
                  <a:srgbClr val="800000"/>
                </a:solidFill>
                <a:latin typeface="Arial"/>
              </a:rPr>
              <a:t>溶化，冷卻即成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800000"/>
                </a:solidFill>
                <a:latin typeface="Arial"/>
              </a:rPr>
              <a:t>        </a:t>
            </a:r>
            <a:r>
              <a:rPr b="0" lang="zh-TW" sz="2800" spc="-1" strike="noStrike">
                <a:solidFill>
                  <a:srgbClr val="800000"/>
                </a:solidFill>
                <a:latin typeface="Arial"/>
              </a:rPr>
              <a:t>透明玻璃質的矽酸納</a:t>
            </a:r>
            <a:r>
              <a:rPr b="0" lang="zh-TW" sz="2800" spc="-1" strike="noStrike">
                <a:solidFill>
                  <a:srgbClr val="800000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800000"/>
                </a:solidFill>
                <a:latin typeface="Arial"/>
              </a:rPr>
              <a:t>水玻璃</a:t>
            </a:r>
            <a:r>
              <a:rPr b="0" lang="zh-TW" sz="2800" spc="-1" strike="noStrike">
                <a:solidFill>
                  <a:srgbClr val="800000"/>
                </a:solidFill>
                <a:latin typeface="Arial"/>
              </a:rPr>
              <a:t>)</a:t>
            </a:r>
            <a:r>
              <a:rPr b="0" lang="zh-TW" sz="2800" spc="-1" strike="noStrike">
                <a:solidFill>
                  <a:srgbClr val="800000"/>
                </a:solidFill>
                <a:latin typeface="Arial"/>
              </a:rPr>
              <a:t>，可溶於水；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800000"/>
                </a:solidFill>
                <a:latin typeface="Arial"/>
              </a:rPr>
              <a:t>        </a:t>
            </a:r>
            <a:r>
              <a:rPr b="0" lang="zh-TW" sz="2800" spc="-1" strike="noStrike">
                <a:solidFill>
                  <a:srgbClr val="800000"/>
                </a:solidFill>
                <a:latin typeface="Arial"/>
              </a:rPr>
              <a:t>如混以充分石灰即可減低水溶性，獲得耐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800000"/>
                </a:solidFill>
                <a:latin typeface="Arial"/>
              </a:rPr>
              <a:t>        </a:t>
            </a:r>
            <a:r>
              <a:rPr b="0" lang="zh-TW" sz="2800" spc="-1" strike="noStrike">
                <a:solidFill>
                  <a:srgbClr val="800000"/>
                </a:solidFill>
                <a:latin typeface="Arial"/>
              </a:rPr>
              <a:t>久性、耐酸性</a:t>
            </a:r>
            <a:r>
              <a:rPr b="0" lang="zh-TW" sz="2800" spc="-1" strike="noStrike">
                <a:solidFill>
                  <a:srgbClr val="800000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800000"/>
                </a:solidFill>
                <a:latin typeface="Arial"/>
              </a:rPr>
              <a:t>除氫氟酸外</a:t>
            </a:r>
            <a:r>
              <a:rPr b="0" lang="zh-TW" sz="2800" spc="-1" strike="noStrike">
                <a:solidFill>
                  <a:srgbClr val="800000"/>
                </a:solidFill>
                <a:latin typeface="Arial"/>
              </a:rPr>
              <a:t>)</a:t>
            </a:r>
            <a:r>
              <a:rPr b="0" lang="zh-TW" sz="2800" spc="-1" strike="noStrike">
                <a:solidFill>
                  <a:srgbClr val="8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800000"/>
                </a:solidFill>
                <a:latin typeface="Arial"/>
              </a:rPr>
              <a:t>        </a:t>
            </a:r>
            <a:r>
              <a:rPr b="0" lang="zh-TW" sz="2800" spc="-1" strike="noStrike">
                <a:solidFill>
                  <a:srgbClr val="800000"/>
                </a:solidFill>
                <a:latin typeface="Arial"/>
              </a:rPr>
              <a:t>其比重約在</a:t>
            </a:r>
            <a:r>
              <a:rPr b="0" lang="zh-TW" sz="2800" spc="-1" strike="noStrike">
                <a:solidFill>
                  <a:srgbClr val="800000"/>
                </a:solidFill>
                <a:latin typeface="Arial"/>
              </a:rPr>
              <a:t>2.5</a:t>
            </a:r>
            <a:r>
              <a:rPr b="0" lang="zh-TW" sz="2800" spc="-1" strike="noStrike">
                <a:solidFill>
                  <a:srgbClr val="800000"/>
                </a:solidFill>
                <a:latin typeface="Arial"/>
              </a:rPr>
              <a:t>，若含鉛或金屬則在</a:t>
            </a:r>
            <a:r>
              <a:rPr b="0" lang="zh-TW" sz="2800" spc="-1" strike="noStrike">
                <a:solidFill>
                  <a:srgbClr val="800000"/>
                </a:solidFill>
                <a:latin typeface="Arial"/>
              </a:rPr>
              <a:t>6</a:t>
            </a:r>
            <a:r>
              <a:rPr b="0" lang="zh-TW" sz="2800" spc="-1" strike="noStrike">
                <a:solidFill>
                  <a:srgbClr val="800000"/>
                </a:solidFill>
                <a:latin typeface="Arial"/>
              </a:rPr>
              <a:t>以上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800000"/>
                </a:solidFill>
                <a:latin typeface="Arial"/>
              </a:rPr>
              <a:t>        </a:t>
            </a:r>
            <a:r>
              <a:rPr b="0" lang="zh-TW" sz="2800" spc="-1" strike="noStrike">
                <a:solidFill>
                  <a:srgbClr val="800000"/>
                </a:solidFill>
                <a:latin typeface="Arial"/>
              </a:rPr>
              <a:t>玻璃成分內碳酸鈉含量愈多，對化學抵抗力愈弱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800000"/>
                </a:solidFill>
                <a:latin typeface="Arial"/>
              </a:rPr>
              <a:t>        </a:t>
            </a:r>
            <a:r>
              <a:rPr b="0" lang="zh-TW" sz="2800" spc="-1" strike="noStrike">
                <a:solidFill>
                  <a:srgbClr val="800000"/>
                </a:solidFill>
                <a:latin typeface="Arial"/>
              </a:rPr>
              <a:t>玻璃中沙及石灰有增加化學抗力之作用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8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182600" y="692280"/>
            <a:ext cx="77724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0" lang="zh-TW" sz="28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7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將聚氯丁合成橡膠墊塊置於玻璃片底部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1/4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長度位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置。墊塊應使壓克力或塑膠板與框架距離至少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1.5mm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以上，並固定於壓克力或塑膠板之開孔位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置上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8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安裝並固定壓克力或塑膠板，以填縫料填滿玻璃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與押條之間所有的空隙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9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凡發霉、變色、斑點、扭曲、波紋之壓克力或塑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膠板不得使用；雖已裝配一經發現仍須全面更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換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10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安裝須在氣溫高於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5℃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以上，且預測前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24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小時內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不下雨之天候下完成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11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填縫料應依據設計圖示之規定施打填縫料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182600" y="620280"/>
            <a:ext cx="7772400" cy="55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12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驗收前須徹底清除所裝壓克力或塑膠板上之污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漬、油漆、粉刷或其他有礙觀瞻之物，並擦拭潔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淨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13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安裝時不慎沾上水泥、灰漿等應在未乾前以清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水沖洗或濕布拭除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14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油脂類污物則以中性皂水或清潔劑洗除，並擦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拭乾淨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15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使用與填縫料相容之溶劑，清除多餘或污染之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填縫料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779328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66ff"/>
                </a:solidFill>
                <a:latin typeface="Arial"/>
              </a:rPr>
              <a:t>玻璃及壓克力安裝課程結束</a:t>
            </a:r>
            <a:br>
              <a:rPr sz="4000"/>
            </a:b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版權為   中華民國災害預防協會 林明成</a:t>
            </a:r>
            <a:br>
              <a:rPr sz="3200"/>
            </a:b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翻印必究</a:t>
            </a:r>
            <a:endParaRPr b="0" lang="en-US" sz="3200" spc="-1" strike="noStrike">
              <a:solidFill>
                <a:srgbClr val="0039ac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116000" y="62028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1.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玻璃加工方式分為：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80808"/>
                </a:solidFill>
                <a:latin typeface="Arial"/>
              </a:rPr>
              <a:t>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1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普通平板玻璃：依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CNS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規定分為透明平板玻璃及磨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        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砂平板玻璃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2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種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2)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透明平板玻璃：以機械由熔解窑輥壓軋成表面平滑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         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透明之玻璃。分四級八種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3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磨砂平板玻璃：以透明平板玻璃使用磨砂、噴砂或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        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腐蝕等適當方法使表面喪失原有光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        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滑度，為透光而不透明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減少透視性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        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之玻璃。無等級之分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4)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強化玻璃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：係將平板玻璃加熱至軟化點再做急速冷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  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卻，使表面受到壓縮應力，其抗衝及抗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  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彎曲強度可增至約普通玻璃的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倍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5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膠合玻璃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：由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片或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片以上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之平板玻璃中間夾以柔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  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軟、强韌而透明之塑膠膜膠合而成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042920" y="620640"/>
            <a:ext cx="77724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6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浮式玻璃：浮式明板玻璃係玻璃膏經控制閘門進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     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入錫槽，由於地心引力及本身表面張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     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力作用浮於熔融錫表面上後，再進入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     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徐冷槽，使玻璃兩面平滑均勻，波紋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     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消失而製成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7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磨光平板玻璃：係經過磨光處理，表面十分平滑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            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具有光澤，幾無波紋之玻璃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8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雙層玻璃：係以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2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片玻璃隔開，使中間夾以透明塑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    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膜膠合並保持一定距離，玻璃四周以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    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特製金屬帶塗封，然後以無塵、無濕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    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氣之純淨乾燥空氣抽換夾層中之空氣製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    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成。</a:t>
            </a:r>
            <a:r>
              <a:rPr b="0" lang="zh-TW" sz="2800" spc="-1" strike="noStrike">
                <a:solidFill>
                  <a:srgbClr val="336699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182600" y="765000"/>
            <a:ext cx="7772400" cy="536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9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有色吸熱平板玻璃：玻璃本身著色，使其永不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                    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變色與褪色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10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鐵絲網玻璃：分成壓花及磨平鐵絲網玻璃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           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種。鐵絲網多用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直徑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0.4mm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以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           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上的龜甲形，也有方格型或斜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           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方格形者。一般用於阻隔濃煙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           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之用途為多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11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壓花玻璃：通常一面為平滑面，另面具有機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        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械壓鑄之花型面。依厚度分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6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種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12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浪形玻璃板：有嵌鐵絲網及無嵌鐵絲網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2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           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種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182600" y="765000"/>
            <a:ext cx="7772400" cy="536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13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玻璃磚：係以前後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2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片後約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5~6mm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之平板壓花玻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  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璃組合而成中空的玻璃磚。如砌稜鏡玻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  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璃磚，多用於地板作為下層樓採光之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  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用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14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水晶玻璃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鉛玻璃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：為防止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X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光室之射線外，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                           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而採用其特殊玻璃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15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泡沫玻璃是良好抗凍、隔熱及吸音材料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01680" y="549360"/>
            <a:ext cx="854064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80808"/>
                </a:solidFill>
                <a:latin typeface="Arial"/>
              </a:rPr>
              <a:t>玻璃磚施工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80808"/>
                </a:solidFill>
                <a:latin typeface="Arial"/>
              </a:rPr>
              <a:t>1. </a:t>
            </a:r>
            <a:r>
              <a:rPr b="0" lang="zh-TW" sz="3200" spc="-1" strike="noStrike">
                <a:solidFill>
                  <a:srgbClr val="080808"/>
                </a:solidFill>
                <a:latin typeface="Arial"/>
              </a:rPr>
              <a:t>玻璃磚以固定架輔助施工，控制間隙為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80808"/>
                </a:solidFill>
                <a:latin typeface="Arial"/>
              </a:rPr>
              <a:t>1cm</a:t>
            </a:r>
            <a:r>
              <a:rPr b="0" lang="zh-TW" sz="3200" spc="-1" strike="noStrike">
                <a:solidFill>
                  <a:srgbClr val="080808"/>
                </a:solidFill>
                <a:latin typeface="Arial"/>
              </a:rPr>
              <a:t>，並以 水泥砂漿填縫，灰縫再以矽利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80808"/>
                </a:solidFill>
                <a:latin typeface="Arial"/>
              </a:rPr>
              <a:t>康雙面嵌縫防水。 </a:t>
            </a:r>
            <a:br>
              <a:rPr sz="3200"/>
            </a:br>
            <a:r>
              <a:rPr b="0" lang="zh-TW" sz="3200" spc="-1" strike="noStrike">
                <a:solidFill>
                  <a:srgbClr val="080808"/>
                </a:solidFill>
                <a:latin typeface="Arial"/>
              </a:rPr>
              <a:t>2. </a:t>
            </a:r>
            <a:r>
              <a:rPr b="0" lang="zh-TW" sz="3200" spc="-1" strike="noStrike">
                <a:solidFill>
                  <a:srgbClr val="080808"/>
                </a:solidFill>
                <a:latin typeface="Arial"/>
              </a:rPr>
              <a:t>框邊四周填塞</a:t>
            </a:r>
            <a:r>
              <a:rPr b="0" lang="zh-TW" sz="3200" spc="-1" strike="noStrike">
                <a:solidFill>
                  <a:srgbClr val="080808"/>
                </a:solidFill>
                <a:latin typeface="Arial"/>
              </a:rPr>
              <a:t>PU</a:t>
            </a:r>
            <a:r>
              <a:rPr b="0" lang="zh-TW" sz="3200" spc="-1" strike="noStrike">
                <a:solidFill>
                  <a:srgbClr val="080808"/>
                </a:solidFill>
                <a:latin typeface="Arial"/>
              </a:rPr>
              <a:t>發泡縮材，並於磚縫增填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80808"/>
                </a:solidFill>
                <a:latin typeface="Arial"/>
              </a:rPr>
              <a:t>伸縮材。 </a:t>
            </a:r>
            <a:br>
              <a:rPr sz="3200"/>
            </a:br>
            <a:r>
              <a:rPr b="0" lang="zh-TW" sz="3200" spc="-1" strike="noStrike">
                <a:solidFill>
                  <a:srgbClr val="080808"/>
                </a:solidFill>
                <a:latin typeface="Arial"/>
              </a:rPr>
              <a:t>3. </a:t>
            </a:r>
            <a:r>
              <a:rPr b="0" lang="zh-TW" sz="3200" spc="-1" strike="noStrike">
                <a:solidFill>
                  <a:srgbClr val="080808"/>
                </a:solidFill>
                <a:latin typeface="Arial"/>
              </a:rPr>
              <a:t>玻璃磚縱橫向每</a:t>
            </a:r>
            <a:r>
              <a:rPr b="0" lang="zh-TW" sz="3200" spc="-1" strike="noStrike">
                <a:solidFill>
                  <a:srgbClr val="080808"/>
                </a:solidFill>
                <a:latin typeface="Arial"/>
              </a:rPr>
              <a:t>(+-60cm) x (2-6mm)</a:t>
            </a:r>
            <a:r>
              <a:rPr b="0" lang="zh-TW" sz="3200" spc="-1" strike="noStrike">
                <a:solidFill>
                  <a:srgbClr val="080808"/>
                </a:solidFill>
                <a:latin typeface="Arial"/>
              </a:rPr>
              <a:t>補強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80808"/>
                </a:solidFill>
                <a:latin typeface="Arial"/>
              </a:rPr>
              <a:t>鋼條。 </a:t>
            </a:r>
            <a:br>
              <a:rPr sz="3200"/>
            </a:br>
            <a:r>
              <a:rPr b="0" lang="zh-TW" sz="32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2T12:05:52Z</dcterms:created>
  <dc:creator>dpa</dc:creator>
  <dc:description/>
  <dc:language>en-US</dc:language>
  <cp:lastModifiedBy>kl</cp:lastModifiedBy>
  <dcterms:modified xsi:type="dcterms:W3CDTF">2006-02-10T14:42:22Z</dcterms:modified>
  <cp:revision>372</cp:revision>
  <dc:subject/>
  <dc:title>玻璃及壓克力</dc:title>
</cp:coreProperties>
</file>