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EC3-2008-4A06-BA33-40575CE3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0A0-49B3-4AF3-9F36-94F6CCC6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3A2-F31C-4A1E-AF7F-6BD51FA9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B25-22A9-41C9-B63B-5E847B81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52D9-AD4A-496B-83F8-559B29C0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71FF-A598-4027-876F-81C731F9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1668-35EE-475F-8661-64CF1507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3DC8-EF07-4116-8C3D-E598B2E6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9738-104F-4D3D-AB50-71210AFD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916A-2FFB-42B7-B0A2-14A80C14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7F36-81EE-45CC-9B39-D5B26222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751-18D3-4A36-BB1F-F6202189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502C-196E-450A-991A-F4FA8767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866E-81F4-4DF6-A19F-89AAC803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B297-2B66-4C81-B460-C0A5DFFD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A8CF-E2A3-40E1-8B70-A1C966CD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5D0C-2C53-437E-A79E-05FD423F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AFC-27E1-46FF-8C96-059ED3CE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844-BBC4-4AC2-9CB7-EF056D42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162-F1B6-42B7-9A15-D96D1A3F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BC4-C5F8-4594-867D-C88EBB3B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C64-72E9-44B4-8B09-58BA385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525-0A37-4BCF-9D71-2401F009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C17-DF76-4F98-B438-42178A05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98B3-7D48-4D1B-AE85-94707480AFDB}" type="slidenum"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812B-F8C9-4BDC-9E7E-5C8B938ACC77}" type="slidenum">
              <a:rPr b="0" lang="zh-TW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</a:rPr>
              <a:t>相關施工作業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zh-TW" sz="4400" spc="-1" strike="noStrike">
                <a:solidFill>
                  <a:srgbClr val="ff0000"/>
                </a:solidFill>
                <a:latin typeface="Arial"/>
              </a:rPr>
              <a:t>裝修木作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5280" y="3573360"/>
            <a:ext cx="8137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9ac"/>
                </a:solidFill>
                <a:latin typeface="Arial"/>
              </a:rPr>
              <a:t>一、</a:t>
            </a: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能了解隔間</a:t>
            </a:r>
            <a:r>
              <a:rPr b="0" lang="en-US" sz="3600" spc="-1" strike="noStrike">
                <a:solidFill>
                  <a:srgbClr val="0039ac"/>
                </a:solidFill>
                <a:latin typeface="Arial"/>
              </a:rPr>
              <a:t>.</a:t>
            </a: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壁板</a:t>
            </a:r>
            <a:r>
              <a:rPr b="0" lang="en-US" sz="3600" spc="-1" strike="noStrike">
                <a:solidFill>
                  <a:srgbClr val="0039ac"/>
                </a:solidFill>
                <a:latin typeface="Arial"/>
              </a:rPr>
              <a:t>.</a:t>
            </a: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地板</a:t>
            </a:r>
            <a:r>
              <a:rPr b="0" lang="en-US" sz="3600" spc="-1" strike="noStrike">
                <a:solidFill>
                  <a:srgbClr val="0039ac"/>
                </a:solidFill>
                <a:latin typeface="Arial"/>
              </a:rPr>
              <a:t>.</a:t>
            </a: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廚櫃材料品質施工步驟及工法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二、能督導技術人員做好合乎施工圖說之規定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繫結鐵件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(1)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凡繫結木料所需之螺釘、螺栓、馬釘、木螺絲、鐵釘及其他補強繫結鐵件均須為鋼或鐵製材質，其式樣、品質須符合相關規定之標準且須準確精良，並於使用前應加除銹及防銹處理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除貫穿相同厚度之板材外，其他時機使用之鐵釘長度須為其貫穿部份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二倍半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以上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防蟻處理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(1)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若與泥土接觸者，接觸面另應確實滿塗白蟻油，待其乾燥後方得使用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所有細木作木料若有特殊規定時須做好防蟻處理並負責保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10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以上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二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木作隔間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隔屏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施工前步驟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. 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隔間位置什物清理並作清潔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地坪清潔後用水沖洗乾淨，待乾後進行放樣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放樣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依照隔間位置及圖說規定尺寸厚度，牆寬尺寸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放樣並彈墨線於樓板上，門位置以斷線配合斜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線標誌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如樑下隔牆須與梁側面結構須平齊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牆與牆轉角處，除設計圖面另有規定者外，一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般皆成垂直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90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度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放樣四面牆均成直角，以丈量對角線尺寸來核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對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1320" y="475920"/>
            <a:ext cx="85914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固定四周邊料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作時須用技術成熟之專業木工，並具有技術士證照者為之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依照圖說規定施作，一般採用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寸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寸之木角材為四邊之邊料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樑下結構與邊料必須密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貼再以鋼釘固定，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以鋼釘長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2.5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寸固定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=2.5 * t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627080" y="2477880"/>
            <a:ext cx="4337640" cy="3705480"/>
            <a:chOff x="4627080" y="2477880"/>
            <a:chExt cx="4337640" cy="370548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 rot="21456600">
              <a:off x="4698720" y="2563560"/>
              <a:ext cx="4194000" cy="35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 rot="21456600">
              <a:off x="4698720" y="2563560"/>
              <a:ext cx="4194000" cy="353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cc3300"/>
                </a:buClr>
                <a:buSzPct val="85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1832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定垂直線並作垂直直立向角料記號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一般間距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80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公分設置管柱，其角料尺寸同四周邊料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管柱與管柱間設置牆骨一般間距為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30~60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公分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其一般角料尺寸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寸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*1.2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寸，配合板材尺寸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固定直立向角料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7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定水平線並作水平橫向角料記號或以斜撐方式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一般間距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45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公分設置厚條木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橫向角料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，其角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尺寸同牆骨料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管柱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或通柱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與管柱間以斜對角，設置斜撐料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其角料尺寸同牆骨料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固定水平向角料或斜稱料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9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上膠封釘，一般板材以木心板、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分以上夾板，石膏板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三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木作隔間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隔屏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注意事項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表面貼薄皮時，結構料最好用木心板裁切成角料使用。避免角料潮濕被夾板吸收產生霉狀黑斑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表面為美耐板，留溝縫時，最好以較厚夾板施工現場黏貼，以避免夾板翹曲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表面材為化妝版時最好先釘一層夾板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表面為薄銅，鋁板或軟皮時應選較厚並刨修、磨平之夾板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表面為塗裝或壁紙，應採用不銹鋼釘及膠釘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1320" y="549360"/>
            <a:ext cx="8591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9ac"/>
                </a:solidFill>
                <a:latin typeface="Arial"/>
              </a:rPr>
              <a:t>二、壁板材料品質施工步驟、工法及管理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9ac"/>
                </a:solidFill>
                <a:latin typeface="Arial"/>
              </a:rPr>
              <a:t>壁板設置的目的：裝飾、修飾、造型及台度設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一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壁板構架品質施工步驟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專業木工必須技術成熟，並具有技術士證照者為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作的壁面四邊，取所需之深度。垂直、平行放樣彈墨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量取四邊之尺寸，於地面上依所量之尺寸以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.0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寸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寸之角材組裝購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將構架推向施作的壁面，並緊貼後以鋼釘固定於壁面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檢查管線、封面版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夾板、石膏板，矽酸鈣板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6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貼裝飾面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1320" y="475920"/>
            <a:ext cx="85914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二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封面板施工要點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底板應表面乾燥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面板與線板之形式應依圖說規定辦理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面板黏著材應依圖說規定或經設計單位及業主確認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面板與面板間勾縫必須將放樣線清除乾淨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5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面板上之表面花紋必須對紋或對稱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6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壁板施作完成後在未完工驗收前，面板上之表面應用夾板或珍珠板加以保護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1320" y="549360"/>
            <a:ext cx="8591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三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其他壁板施工方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.</a:t>
            </a:r>
            <a:r>
              <a:rPr b="0" lang="zh-TW" sz="2400" spc="-1" strike="noStrike">
                <a:solidFill>
                  <a:srgbClr val="ffcc66"/>
                </a:solidFill>
                <a:latin typeface="Arial"/>
              </a:rPr>
              <a:t>造型壁板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造型壁板之施作，並非全施作也有局部施作，故非全以角料為構架，也有以木心板或夾板為結構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結構材為木心板或夾板時，以膠材黏貼及鐵釘固定作為底板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裝飾面板以膠材黏貼及鐵釘固定於底板上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完成後表面應以夾板或珍珠板加以保護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2.</a:t>
            </a:r>
            <a:r>
              <a:rPr b="0" lang="zh-TW" sz="2400" spc="-1" strike="noStrike">
                <a:solidFill>
                  <a:srgbClr val="ffcc66"/>
                </a:solidFill>
                <a:latin typeface="Arial"/>
              </a:rPr>
              <a:t>企口壁板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橫向或斜向企口壁板，以軌道式角材結構施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鑽石花拼板或其他組合壁板，其結構材可採行角料及夾板施作，再用鑽石花面板或其他組合面板，以膠材黏貼及鐵釘固定於結構材上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完成後表面應以夾板或珍珠板加以保護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1320" y="475920"/>
            <a:ext cx="85914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ffcc66"/>
                </a:solidFill>
                <a:latin typeface="Arial"/>
              </a:rPr>
              <a:t>台度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台度結構材同壁板施工方式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工時須注意高度、厚度、面板與結構材接合度及面板之樣式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完成後表面應以夾板或珍珠板加以保護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1320" y="549360"/>
            <a:ext cx="8591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9ac"/>
                </a:solidFill>
                <a:latin typeface="Arial"/>
              </a:rPr>
              <a:t>三、</a:t>
            </a:r>
            <a:r>
              <a:rPr b="0" lang="zh-TW" sz="2800" spc="-1" strike="noStrike">
                <a:solidFill>
                  <a:srgbClr val="0039ac"/>
                </a:solidFill>
                <a:latin typeface="Arial"/>
              </a:rPr>
              <a:t>地板材料品質施工步驟、工法及管理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9ac"/>
                </a:solidFill>
                <a:latin typeface="Arial"/>
              </a:rPr>
              <a:t>木作地板在往日最常見於日式房屋，該房屋基礎大多高於道路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</a:rPr>
              <a:t>30</a:t>
            </a:r>
            <a:r>
              <a:rPr b="0" lang="zh-TW" sz="2800" spc="-1" strike="noStrike">
                <a:solidFill>
                  <a:srgbClr val="0039ac"/>
                </a:solidFill>
                <a:latin typeface="Arial"/>
              </a:rPr>
              <a:t>公分</a:t>
            </a:r>
            <a:r>
              <a:rPr b="0" lang="en-US" sz="2800" spc="-1" strike="noStrike">
                <a:solidFill>
                  <a:srgbClr val="0039ac"/>
                </a:solidFill>
                <a:latin typeface="Arial"/>
              </a:rPr>
              <a:t>~60</a:t>
            </a:r>
            <a:r>
              <a:rPr b="0" lang="zh-TW" sz="2800" spc="-1" strike="noStrike">
                <a:solidFill>
                  <a:srgbClr val="0039ac"/>
                </a:solidFill>
                <a:latin typeface="Arial"/>
              </a:rPr>
              <a:t>公分，木作地板再做於房屋基礎上緣，使成為一體。近年在鋼筋混凝土建築結構樓層中，木作地板大興其道主要取決於可增加居室空間的另一種風貌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9ac"/>
                </a:solidFill>
                <a:latin typeface="Arial"/>
              </a:rPr>
              <a:t>木作地板施工可分為直舖、平舖及高架等地板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一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直舖地板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工上直接將地板材料膠合黏貼於鋼筋混凝土粉刷後地板上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地板材料一般為櫸木地板或拼花地板，其尺寸大多可分為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寸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.5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尺長板塊、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公分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公分及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5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公分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5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公分等板塊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</a:rPr>
              <a:t>裝修木作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隔間材料品質施工步驟、工法及管理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壁板材料品質施工步驟、工法及管理。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地板材料品質施工步驟、工法及管理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廚櫃材料品質施工步驟、工法及管理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門、窗、天花板及樓梯材料品質施工步驟、工法及管理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1320" y="475920"/>
            <a:ext cx="85914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3.</a:t>
            </a:r>
            <a:r>
              <a:rPr b="0" lang="zh-TW" sz="2400" spc="-1" strike="noStrike">
                <a:solidFill>
                  <a:srgbClr val="ffcc66"/>
                </a:solidFill>
                <a:latin typeface="Arial"/>
              </a:rPr>
              <a:t>施工方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專業木工必須技術成熟，並具有技術士證照者為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作位置什物清理並作清潔後用水沖洗乾淨，並待乾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以刮齒板塗佈黏著材，僅以局部板塊施工範圍內塗佈黏著材，其黏著材應依圖說規定或經設計單位及業主確認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將板塊依序並密接貼合。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木作地板舖貼完成後，如面材上有牛皮紙保護模時，可用水濕潤後撕除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待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~2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天養護乾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7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打磨：分為粗磨及細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8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表面塗佈保護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二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平舖地板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面材使用無塵地板、複合式地板等，底材採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分木心板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夾板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分夾板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施工前應注意地板原有舖面材質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水泥粉光材質地坪，可直接使用釘槍固定底板，釘距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30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公分內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磁磚材質地坪，使用手釘鋼釘順磁磚縫施作，如磁磚採軟底其砂漿較厚故釘長須釘入混凝土面內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石材材質地坪，因硬度較大，以加舖塑膠墊或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B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膠貼材施作，此做法失敗率較高、依般建議將石材材質地坪破壞或拆除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1832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3.</a:t>
            </a:r>
            <a:r>
              <a:rPr b="0" lang="zh-TW" sz="2400" spc="-1" strike="noStrike">
                <a:solidFill>
                  <a:srgbClr val="ffcc66"/>
                </a:solidFill>
                <a:latin typeface="Arial"/>
              </a:rPr>
              <a:t>施工方式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專業木工必須技術成熟，並具有技術士證照者為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作位置什物清理並作清潔後用水沖洗乾淨，並待乾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舖放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E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塑膠布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依圖說規定或經設計單位及業主確認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舖放底材，採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6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分木心板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夾板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分夾板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┌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並用鋼釘固定底材。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面板鋪設，由出入門對面牆之地板開始鋪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無塵地板，面材與牆面接合處最好留有伸縮縫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約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8mm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，其縫可用踢腳板或矽利康填縫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複合式地板，以雙針裝釘施工，背面可點膠固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660033"/>
                </a:solidFill>
                <a:latin typeface="Arial"/>
              </a:rPr>
              <a:t>三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660033"/>
                </a:solidFill>
                <a:latin typeface="Arial"/>
              </a:rPr>
              <a:t>高架地板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0066ff"/>
                </a:solidFill>
                <a:latin typeface="Arial"/>
              </a:rPr>
              <a:t>高架地板，構材部分依圖說規定辦理，一般採用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.2</a:t>
            </a:r>
            <a:r>
              <a:rPr b="0" lang="zh-TW" sz="3200" spc="-1" strike="noStrike">
                <a:solidFill>
                  <a:srgbClr val="0066ff"/>
                </a:solidFill>
                <a:latin typeface="Arial"/>
              </a:rPr>
              <a:t>寸</a:t>
            </a:r>
            <a:r>
              <a:rPr b="0" lang="zh-TW" sz="3200" spc="-1" strike="noStrike">
                <a:solidFill>
                  <a:srgbClr val="0066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.2</a:t>
            </a:r>
            <a:r>
              <a:rPr b="0" lang="zh-TW" sz="3200" spc="-1" strike="noStrike">
                <a:solidFill>
                  <a:srgbClr val="0066ff"/>
                </a:solidFill>
                <a:latin typeface="Arial"/>
              </a:rPr>
              <a:t>寸角料施作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0066ff"/>
                </a:solidFill>
                <a:latin typeface="Arial"/>
              </a:rPr>
              <a:t>施工前應注意地板原有舖面材質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水泥粉光材質地坪，可直接使用釘槍固定角料，釘距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30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公分內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磁磚材質地坪，使用手釘鋼釘順磁磚縫施作，如磁磚採軟底其砂漿較厚故釘長須釘入混凝土面內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石材材質地坪，因硬度較大，一般將會破壞石材材質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424800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施工方式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專業木工必須技術成熟，並具有技術士證照者為之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施作位置什物清理並作清潔後用水沖洗乾淨，並待乾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舖放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E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塑膠布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依圖說規定或經設計單位及業主確認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舖放下角材，採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寸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寸角料間距採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30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公分，固定於地坪面。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78200" y="692280"/>
            <a:ext cx="44658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1320" y="691920"/>
            <a:ext cx="41259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5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依高架高度，釘木立角料採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寸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寸角料  間距採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30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公分，固定於下角料作為支撐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6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舖放上角材，以橫向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0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寸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寸及縱向釘角料採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0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寸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.8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寸角料間距採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30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公分，固定於立角料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7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舖放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分以上木心板或夾板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8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舖貼面材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27640" y="476280"/>
            <a:ext cx="4716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四、廚櫃材料品質施工步驟、工法及管理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0039ac"/>
                </a:solidFill>
                <a:latin typeface="Arial"/>
              </a:rPr>
              <a:t>廚櫃一般須可受力，講究結構載重強度，材料具有硬度大、厚度較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9a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0039ac"/>
                </a:solidFill>
                <a:latin typeface="Arial"/>
              </a:rPr>
              <a:t>厚等特性，僅就結構上而言不以美觀為主，故須美麗的面材來加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9a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0039ac"/>
                </a:solidFill>
                <a:latin typeface="Arial"/>
              </a:rPr>
              <a:t>美化修飾，結構材之間結合材料也影響櫥櫃的結構性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一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廚櫃材料尺寸及廚櫃橫剖面寬度尺寸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廚櫃材料尺寸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夾板、木心板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*6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*7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美耐板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*8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*10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薄片：長度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或更長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1320" y="475920"/>
            <a:ext cx="85914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線板：長度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軟板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紙皮、塑膠皮、波音軟片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寬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實木化妝板：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；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.2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抽屜板：材質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花旗松、美檜、白柳安等、厚度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長度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                      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寬度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抽屜滑軌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0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5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0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5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0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0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           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分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籃架：高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、寬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2.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、深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杯架：基本規格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0066ff"/>
                </a:solidFill>
                <a:latin typeface="Arial"/>
              </a:rPr>
              <a:t>二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0066ff"/>
                </a:solidFill>
                <a:latin typeface="Arial"/>
              </a:rPr>
              <a:t>廚櫃橫剖面寬度尺寸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廚櫃橫剖面寬度尺寸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衣櫃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7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；完成面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0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電視櫃：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7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；完成面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0~62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流理台：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7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；完成面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0~62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；高度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80~82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鞋櫃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3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斜層板形式其寬度可較窄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書桌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7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或更大；高度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2~7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洗臉檯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7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；完成面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0~62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精品櫃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書櫃：開放式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、門板式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床座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 ’*6 ’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 ’*6.2 ’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 ’*6.2 ’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 ’*6.2 ’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 ’*7 ’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高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    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分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吊櫃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8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0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；完成面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0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2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餐具櫃：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40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或使用推籃架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7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公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TW" sz="3900" spc="-1" strike="noStrike">
                <a:solidFill>
                  <a:srgbClr val="0066ff"/>
                </a:solidFill>
                <a:latin typeface="Arial"/>
              </a:rPr>
              <a:t>三</a:t>
            </a:r>
            <a:r>
              <a:rPr b="0" lang="en-US" sz="3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zh-TW" sz="3900" spc="-1" strike="noStrike">
                <a:solidFill>
                  <a:srgbClr val="0066ff"/>
                </a:solidFill>
                <a:latin typeface="Arial"/>
              </a:rPr>
              <a:t>廚櫃材料之準備</a:t>
            </a:r>
            <a:endParaRPr b="0" lang="en-US" sz="3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專業木工必須技術成熟，並具有技術士證照者為之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一般裁切皆使用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『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鋸檯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』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其直角校正甚為重要，鋸片與推板須絕對平行，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『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鋸檯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』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本身之結構也必須十分牢固，以免切鋸時發生危險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cc66"/>
                </a:solidFill>
                <a:latin typeface="Arial"/>
              </a:rPr>
              <a:t>結構骨料之準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依設計圖之尺寸進行備料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骨料之裁切如設計圖面不明時，須詢問設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計單位確認後再行施作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9ac"/>
                </a:solidFill>
                <a:latin typeface="Arial"/>
              </a:rPr>
              <a:t>一、隔間材料品質施工步驟、工法及管理</a:t>
            </a:r>
            <a:endParaRPr b="0" lang="en-US" sz="32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47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一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木作隔間材料特性成份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70~80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年代大量集合住宅新建，一般皆為地上四層公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寓結構，其室 內皆無任合隔間牆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除浴廁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，一般俗稱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『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空殼厝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』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，當建商交屋後屋主必須找室內裝修廠商進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行隔間等工程，因工程費用之考量大多採行木作隔間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          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施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木作隔間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或稱隔屏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，通常使用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1.0*1.8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寸之角料施工，早 期則使用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1.2*1.5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寸角料，材質皆為松、杉木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較特殊採檜木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等結構材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木作隔間封板材為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3’*7’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4’*8’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之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分厚夾板，經來使用石膏板或矽酸鈣板，依據施用目的及場所，隔間規格也有所不同。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優點：價格低廉、自重輕、施工便捷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4.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缺點：易蛀蝕、耐久性、抗風性差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           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易燃、隔音性差 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1832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cc66"/>
                </a:solidFill>
                <a:latin typeface="Arial"/>
              </a:rPr>
              <a:t>框架板料之準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1)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一般使用之板材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素面木心板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波麗木心板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樟木皮木心板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美耐板或其他軟皮材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裁切尺寸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依設計圖之尺寸進行裁切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裁切時如設計圖面不明時，須詢問設計單位確認後再行裁切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一般裁切尺寸可參考前項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二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尺寸之料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.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裁切時須考量廢料尺寸，避免廢料過多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TW" sz="3600" spc="-1" strike="noStrike">
                <a:solidFill>
                  <a:srgbClr val="0066ff"/>
                </a:solidFill>
                <a:latin typeface="Arial"/>
              </a:rPr>
              <a:t>四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zh-TW" sz="3600" spc="-1" strike="noStrike">
                <a:solidFill>
                  <a:srgbClr val="0066ff"/>
                </a:solidFill>
                <a:latin typeface="Arial"/>
              </a:rPr>
              <a:t>廚櫃組裝固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1.</a:t>
            </a:r>
            <a:r>
              <a:rPr b="0" lang="zh-TW" sz="3200" spc="-1" strike="noStrike">
                <a:solidFill>
                  <a:srgbClr val="ffcc66"/>
                </a:solidFill>
                <a:latin typeface="Arial"/>
              </a:rPr>
              <a:t>組裝固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依設計圖面，按裝位置進行放樣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踢腳板之製作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廚櫃底座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由內而外，封背板以白膠及雙針槍釘固定背板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正面結構框架板組裝，以白膠及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寸鐵釘固定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5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安裝門板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6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補縫修飾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2.</a:t>
            </a:r>
            <a:r>
              <a:rPr b="0" lang="zh-TW" sz="3200" spc="-1" strike="noStrike">
                <a:solidFill>
                  <a:srgbClr val="ffcc66"/>
                </a:solidFill>
                <a:latin typeface="Arial"/>
              </a:rPr>
              <a:t>注意事項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設計圖面不明時，須詢問設計單位確認後再行施作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踢腳板之製作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廚櫃底座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，其垂直、水平、直角、平行須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特別注意，避免影響往後作業。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廚櫃不靠牆時其壁板應考慮增加板厚，或加強骨料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正面框架施作時如有高低框架，以低框架先鉋光組裝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5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框架安裝必須順平，對於門板安裝具有影響，須特別注意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6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補縫修飾及框架製作，最好由同一組人施作為宜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1320" y="476280"/>
            <a:ext cx="44146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TW" sz="3600" spc="-1" strike="noStrike">
                <a:solidFill>
                  <a:srgbClr val="0066ff"/>
                </a:solidFill>
                <a:latin typeface="Arial"/>
              </a:rPr>
              <a:t>五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zh-TW" sz="3600" spc="-1" strike="noStrike">
                <a:solidFill>
                  <a:srgbClr val="0066ff"/>
                </a:solidFill>
                <a:latin typeface="Arial"/>
              </a:rPr>
              <a:t>抽屜組裝固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cc66"/>
                </a:solidFill>
                <a:latin typeface="Arial"/>
              </a:rPr>
              <a:t>組裝固定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作方式可由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~(3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項擇一施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抽屜前正面板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俗稱抽前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或抽頭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，鑿鳩尾榫式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三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角榫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，再以抽牆板插入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榫接。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『</a:t>
            </a: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抽前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』</a:t>
            </a: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以鉋溝方式施作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，用三片抽牆板鉋溝插入組裝再直接釘裝。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四片抽牆板釘裝，以螺絲固定。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600" spc="-1" strike="noStrike">
                <a:solidFill>
                  <a:srgbClr val="cc3300"/>
                </a:solidFill>
                <a:latin typeface="Arial"/>
              </a:rPr>
              <a:t>塑膠製抽牆板卡榫組合。   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716360" y="476280"/>
            <a:ext cx="4194360" cy="5977080"/>
            <a:chOff x="4716360" y="476280"/>
            <a:chExt cx="4194360" cy="597708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716360" y="476280"/>
              <a:ext cx="419436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 txBox="1"/>
            <p:nvPr/>
          </p:nvSpPr>
          <p:spPr>
            <a:xfrm>
              <a:off x="4716360" y="476280"/>
              <a:ext cx="4194360" cy="597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cc3300"/>
                </a:buClr>
                <a:buSzPct val="85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2.</a:t>
            </a:r>
            <a:r>
              <a:rPr b="0" lang="zh-TW" sz="3600" spc="-1" strike="noStrike">
                <a:solidFill>
                  <a:srgbClr val="ffcc66"/>
                </a:solidFill>
                <a:latin typeface="Arial"/>
              </a:rPr>
              <a:t>注意事項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3600" spc="-1" strike="noStrike">
                <a:solidFill>
                  <a:srgbClr val="cc3300"/>
                </a:solidFill>
                <a:latin typeface="Arial"/>
              </a:rPr>
              <a:t>抽屜前正面板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3600" spc="-1" strike="noStrike">
                <a:solidFill>
                  <a:srgbClr val="cc3300"/>
                </a:solidFill>
                <a:latin typeface="Arial"/>
              </a:rPr>
              <a:t>俗稱抽前或抽頭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3600" spc="-1" strike="noStrike">
                <a:solidFill>
                  <a:srgbClr val="cc3300"/>
                </a:solidFill>
                <a:latin typeface="Arial"/>
              </a:rPr>
              <a:t>，鑿鳩尾榫式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3600" spc="-1" strike="noStrike">
                <a:solidFill>
                  <a:srgbClr val="cc3300"/>
                </a:solidFill>
                <a:latin typeface="Arial"/>
              </a:rPr>
              <a:t>三角榫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3600" spc="-1" strike="noStrike">
                <a:solidFill>
                  <a:srgbClr val="cc3300"/>
                </a:solidFill>
                <a:latin typeface="Arial"/>
              </a:rPr>
              <a:t>，每一處需</a:t>
            </a:r>
            <a:r>
              <a:rPr b="0" lang="zh-TW" sz="36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0" lang="zh-TW" sz="3600" spc="-1" strike="noStrike">
                <a:solidFill>
                  <a:srgbClr val="cc3300"/>
                </a:solidFill>
                <a:latin typeface="Arial"/>
              </a:rPr>
              <a:t>個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zh-TW" sz="3600" spc="-1" strike="noStrike">
                <a:solidFill>
                  <a:srgbClr val="cc3300"/>
                </a:solidFill>
                <a:latin typeface="Arial"/>
              </a:rPr>
              <a:t>以上榫接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3600" spc="-1" strike="noStrike">
                <a:solidFill>
                  <a:srgbClr val="cc3300"/>
                </a:solidFill>
                <a:latin typeface="Arial"/>
              </a:rPr>
              <a:t>鉋溝方式，抽頭板與抽牆板接合避免正面擊釘。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3600" spc="-1" strike="noStrike">
                <a:solidFill>
                  <a:srgbClr val="cc3300"/>
                </a:solidFill>
                <a:latin typeface="Arial"/>
              </a:rPr>
              <a:t>四片抽牆板施作，現大多使用花旗松等材質，抽底使用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cc3300"/>
                </a:solidFill>
                <a:latin typeface="Arial"/>
              </a:rPr>
              <a:t>分夾板之例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zh-TW" sz="3600" spc="-1" strike="noStrike">
                <a:solidFill>
                  <a:srgbClr val="cc3300"/>
                </a:solidFill>
                <a:latin typeface="Arial"/>
              </a:rPr>
              <a:t>光板或樟木板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1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1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66ff"/>
                </a:solidFill>
                <a:latin typeface="Arial"/>
              </a:rPr>
              <a:t>六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66ff"/>
                </a:solidFill>
                <a:latin typeface="Arial"/>
              </a:rPr>
              <a:t>門片組裝固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櫥櫃造型主要表現在門片上，製作上影響裝修工程的價值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門片可以用實木做成，一般皆使用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分木心板為多，也可用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分防水夾板，使用白膠以冷壓方式製成空心板。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1.</a:t>
            </a:r>
            <a:r>
              <a:rPr b="0" lang="zh-TW" sz="2400" spc="-1" strike="noStrike">
                <a:solidFill>
                  <a:srgbClr val="ffcc66"/>
                </a:solidFill>
                <a:latin typeface="Arial"/>
              </a:rPr>
              <a:t>組裝固定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櫥櫃門板通常使用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~2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分夾板為板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以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6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分木心板或防水夾板為內部構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使用白膠以冷壓方式製成空心板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表面材料之黏貼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使用實木封邊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鉸鏈之安裝。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1832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cc66"/>
                </a:solidFill>
                <a:latin typeface="Arial"/>
              </a:rPr>
              <a:t>注意事項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門板之製作盡量不要直接使用木心板裁切，以免門板自重過重，影響鉸鏈之使用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表面材料均依門板實際規格裁切完成之後再黏貼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使用化妝板則直接當成面板壓製後裁切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使用美耐板實木封邊時，則貼好美耐板再裁切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5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封邊條最好至現場確定厚度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6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鉸鏈之安裝須考量門板重量增加鉸鏈安裝數量，一般為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個以上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五、門、窗、天花板及樓梯材料品質施工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       </a:t>
            </a:r>
            <a:r>
              <a:rPr b="0" lang="zh-TW" sz="3600" spc="-1" strike="noStrike">
                <a:solidFill>
                  <a:srgbClr val="0039ac"/>
                </a:solidFill>
                <a:latin typeface="Arial"/>
              </a:rPr>
              <a:t>步驟、工法及管理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一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木門樘工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製造加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安裝組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二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空心或實心夾板門扇工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製造加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安裝組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三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天花板工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四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樓梯木扶手工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五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0033"/>
                </a:solidFill>
                <a:latin typeface="Arial"/>
              </a:rPr>
              <a:t>粗、細五金工程</a:t>
            </a:r>
            <a:r>
              <a:rPr b="0" lang="zh-TW" sz="28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一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木門樘工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1.</a:t>
            </a:r>
            <a:r>
              <a:rPr b="0" lang="zh-TW" sz="2200" spc="-1" strike="noStrike">
                <a:solidFill>
                  <a:srgbClr val="ffcc66"/>
                </a:solidFill>
                <a:latin typeface="Arial"/>
              </a:rPr>
              <a:t>注意事項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製造加工前對材質、等級、尺寸、乾燥程度逐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一檢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露明木料均應刨光，表面不得留有鉋刀痕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門樘料除另有規定外，均以榫皆為原則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門樘線板需與樘料一體成形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露明材料需有適當保護，木料貼靠或伸入牆身均需塗保護漆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二度熱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柏油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6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製造加工前需繪製施工大樣圖，經設計單位及業主核可後施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2.</a:t>
            </a:r>
            <a:r>
              <a:rPr b="0" lang="zh-TW" sz="2200" spc="-1" strike="noStrike">
                <a:solidFill>
                  <a:srgbClr val="ffcc66"/>
                </a:solidFill>
                <a:latin typeface="Arial"/>
              </a:rPr>
              <a:t>安裝组立：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門樘依放樣位置豎立，豎立時需作假固定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(A)</a:t>
            </a: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兩立向門樘柱腳於墨線內，出入等距，左右平齊，用鋼釘或固定鐵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件固定 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(B)</a:t>
            </a: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兩立向門樘柱需垂直、等寬、等高則門樘料必水平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(C)</a:t>
            </a:r>
            <a:r>
              <a:rPr b="0" lang="zh-TW" sz="2000" spc="-1" strike="noStrike">
                <a:solidFill>
                  <a:srgbClr val="0066ff"/>
                </a:solidFill>
                <a:latin typeface="Arial"/>
              </a:rPr>
              <a:t>假固定角材不得妨礙砌磚工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zh-TW" sz="2200" spc="-1" strike="noStrike">
                <a:solidFill>
                  <a:srgbClr val="ff0000"/>
                </a:solidFill>
                <a:latin typeface="Arial"/>
              </a:rPr>
              <a:t>紅磚隔間施工時，門柱腳需有三點固定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4.</a:t>
            </a:r>
            <a:r>
              <a:rPr b="0" lang="zh-TW" sz="2200" spc="-1" strike="noStrike">
                <a:solidFill>
                  <a:srgbClr val="080808"/>
                </a:solidFill>
                <a:latin typeface="Arial"/>
              </a:rPr>
              <a:t>樘料貼靠及埋入牆身部份，塗佈保護漆</a:t>
            </a: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TW" sz="2200" spc="-1" strike="noStrike">
                <a:solidFill>
                  <a:srgbClr val="080808"/>
                </a:solidFill>
                <a:latin typeface="Arial"/>
              </a:rPr>
              <a:t>如柏油</a:t>
            </a: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)</a:t>
            </a:r>
            <a:r>
              <a:rPr b="0" lang="zh-TW" sz="2200" spc="-1" strike="noStrike">
                <a:solidFill>
                  <a:srgbClr val="080808"/>
                </a:solidFill>
                <a:latin typeface="Arial"/>
              </a:rPr>
              <a:t>，露光表面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zh-TW" sz="2200" spc="-1" strike="noStrike">
                <a:solidFill>
                  <a:srgbClr val="080808"/>
                </a:solidFill>
                <a:latin typeface="Arial"/>
              </a:rPr>
              <a:t>亮光漆時需先塗皂土粉，如油漆時需先打底漆，加以保護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5.</a:t>
            </a:r>
            <a:r>
              <a:rPr b="0" lang="zh-TW" sz="2200" spc="-1" strike="noStrike">
                <a:solidFill>
                  <a:srgbClr val="080808"/>
                </a:solidFill>
                <a:latin typeface="Arial"/>
              </a:rPr>
              <a:t>為防碰撞兩立柱需用防護夾板保護，</a:t>
            </a:r>
            <a:r>
              <a:rPr b="0" lang="zh-TW" sz="2200" spc="-1" strike="noStrike">
                <a:solidFill>
                  <a:srgbClr val="ff0000"/>
                </a:solidFill>
                <a:latin typeface="Arial"/>
              </a:rPr>
              <a:t>其高度為至地面起算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0" lang="zh-TW" sz="2200" spc="-1" strike="noStrike">
                <a:solidFill>
                  <a:srgbClr val="ff0000"/>
                </a:solidFill>
                <a:latin typeface="Arial"/>
              </a:rPr>
              <a:t>公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TW" sz="2200" spc="-1" strike="noStrike">
                <a:solidFill>
                  <a:srgbClr val="ff0000"/>
                </a:solidFill>
                <a:latin typeface="Arial"/>
              </a:rPr>
              <a:t>分。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二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空心或實心夾板門扇工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1.</a:t>
            </a:r>
            <a:r>
              <a:rPr b="0" lang="zh-TW" sz="2200" spc="-1" strike="noStrike">
                <a:solidFill>
                  <a:srgbClr val="ffcc66"/>
                </a:solidFill>
                <a:latin typeface="Arial"/>
              </a:rPr>
              <a:t>注意事項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其大小、厚度、式樣、內骨架、鎖位補強片，封口材、內填充料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均依施工大樣圖及樣品施作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製造前需核對材質、材料等級、尺寸、乾燥程度及夾板材質、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度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門扇如以合成樹脂膠料，用熱壓法成為一體，表面不得留有膠痕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不平整之痕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採用之膠合原料，必要時做浸水試驗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5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門扇表面為柳安或柚木夾板，再同一室內者門扇表面紋理色澤應一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41940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5.</a:t>
            </a:r>
            <a:r>
              <a:rPr b="0" lang="zh-TW" sz="2400" spc="-1" strike="noStrike">
                <a:solidFill>
                  <a:srgbClr val="ffcc66"/>
                </a:solidFill>
                <a:latin typeface="Arial"/>
              </a:rPr>
              <a:t>材料品質管制標準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材質、材等、尺寸及乾燥程度之規定選用。                                 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加工前需施以適合亞熱帶地區溼度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含水量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10%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至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5%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之乾燥處理。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一般細木之彎縮率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纖維變形量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縱向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0.1~0.3%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；橫向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.2~5.0%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邊紋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.5~9.3%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，一般角材收縮變形與年輪垂直方向較小，平行方向較大，離樹心較遠者較大，材質必須為完工六個月後，檜木不得超過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公厘，杉木不得超過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6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公厘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8320" y="476280"/>
            <a:ext cx="419400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2.</a:t>
            </a:r>
            <a:r>
              <a:rPr b="0" lang="zh-TW" sz="2600" spc="-1" strike="noStrike">
                <a:solidFill>
                  <a:srgbClr val="ffcc66"/>
                </a:solidFill>
                <a:latin typeface="Arial"/>
              </a:rPr>
              <a:t>安裝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推拉啟閉之木門其頂線及兩側應與門樘之槽口面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.0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公厘之淨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門扇底線與完成之地面應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公厘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之淨隙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三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660033"/>
                </a:solidFill>
                <a:latin typeface="Arial"/>
              </a:rPr>
              <a:t>天花板工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1.</a:t>
            </a:r>
            <a:r>
              <a:rPr b="0" lang="zh-TW" sz="2600" spc="-1" strike="noStrike">
                <a:solidFill>
                  <a:srgbClr val="ffcc66"/>
                </a:solidFill>
                <a:latin typeface="Arial"/>
              </a:rPr>
              <a:t>注意事項：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施工時須依施工大樣圖施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平頂木架隔柵筋另有規定外，木筋間隔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長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公分、短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公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木架隔柵均需水平接合，不得疊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隔柵架需四周水平、中間略高，但目視不感覺為準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吊筋下之平頂架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間距為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公分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公分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平頂架釘版面應刨平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釘裝應自中央向四側展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7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釘裝應使用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銅釘或鍍鋅材料之釘針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8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如有檢修口及水電設備應預先配合設置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天花板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除另有註明並經核可外，天花板所使用木料須符合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NS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及相關主管單位有關室內裝修防火材料之規範，其懸吊系統並須採用金屬套件，應符合契約圖說之規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一般木製天花板其平頂吊筋格柵依圖示之木料尺寸釘牢，如無特別說明，水平筋不得小於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6mm×36mm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，雙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5cm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，垂直吊筋不得小於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6mm×36mm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，雙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@90cm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☆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混凝土樓地板下之平頂吊筋應預置平頂吊筋鍍鋅卡簧盒。木格柵與平頂板相接之一面應刨平，釘裝時應自室內之中心開始釘向四邊，一律使用銅釘或不銹鋼釘，並將釘頭打扁釘入，如規定有平頂維修口或出入口，應用銅螺絲或不銹鋼螺絲固定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4)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立體印花板或吸音板裝釘時須帶手套，不可將板面染污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5)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天花板釘好後，須再校正水平，如有碰損應予修復或更換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2.</a:t>
            </a:r>
            <a:r>
              <a:rPr b="0" lang="zh-TW" sz="2600" spc="-1" strike="noStrike">
                <a:solidFill>
                  <a:srgbClr val="ffcc66"/>
                </a:solidFill>
                <a:latin typeface="Arial"/>
              </a:rPr>
              <a:t>安裝组立：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定水平線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定水平線高度依縱、橫向角材間距拉水線，並須配合地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板完成高度，廚櫃立面高度及嵌燈之嵌入高度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定邊料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使用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.0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寸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*1.2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寸之角料，使用槍釘或手釘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.5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寸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定於水平線上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吊筋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以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.0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寸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*1.2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寸之角材，依縱、橫向水線交叉位置，定吊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用固定角材於頂板，再定立吊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釘橫向角材：以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.0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寸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*1.2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寸之角材施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釘縱向角材：以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.0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寸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*1.2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寸之角材施作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封板：一般使用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尺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8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尺或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尺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*6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尺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分厚夾板，以槍釘或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手釘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6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分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固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lang="zh-TW" sz="2300" spc="-1" strike="noStrike">
                <a:solidFill>
                  <a:srgbClr val="660033"/>
                </a:solidFill>
                <a:latin typeface="Arial"/>
              </a:rPr>
              <a:t>四</a:t>
            </a:r>
            <a:r>
              <a:rPr b="0" lang="en-US" sz="2300" spc="-1" strike="noStrike">
                <a:solidFill>
                  <a:srgbClr val="660033"/>
                </a:solidFill>
                <a:latin typeface="Arial"/>
              </a:rPr>
              <a:t>)</a:t>
            </a:r>
            <a:r>
              <a:rPr b="0" lang="zh-TW" sz="2300" spc="-1" strike="noStrike">
                <a:solidFill>
                  <a:srgbClr val="660033"/>
                </a:solidFill>
                <a:latin typeface="Arial"/>
              </a:rPr>
              <a:t>樓梯木扶手工程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cc66"/>
                </a:solidFill>
                <a:latin typeface="Arial"/>
              </a:rPr>
              <a:t>1.</a:t>
            </a:r>
            <a:r>
              <a:rPr b="0" lang="zh-TW" sz="2300" spc="-1" strike="noStrike">
                <a:solidFill>
                  <a:srgbClr val="ffcc66"/>
                </a:solidFill>
                <a:latin typeface="Arial"/>
              </a:rPr>
              <a:t>注意事項：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300" spc="-1" strike="noStrike">
                <a:solidFill>
                  <a:srgbClr val="cc3300"/>
                </a:solidFill>
                <a:latin typeface="Arial"/>
              </a:rPr>
              <a:t>施工時須依施工大樣圖施作。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300" spc="-1" strike="noStrike">
                <a:solidFill>
                  <a:srgbClr val="cc3300"/>
                </a:solidFill>
                <a:latin typeface="Arial"/>
              </a:rPr>
              <a:t>每一梯段應用整根木料加工，不得以零料接合。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300" spc="-1" strike="noStrike">
                <a:solidFill>
                  <a:srgbClr val="cc3300"/>
                </a:solidFill>
                <a:latin typeface="Arial"/>
              </a:rPr>
              <a:t>塞螺絲洞之木材其紋理需與全根一致，其外觀無填補痕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0" lang="zh-TW" sz="2300" spc="-1" strike="noStrike">
                <a:solidFill>
                  <a:srgbClr val="cc3300"/>
                </a:solidFill>
                <a:latin typeface="Arial"/>
              </a:rPr>
              <a:t>跡。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300" spc="-1" strike="noStrike">
                <a:solidFill>
                  <a:srgbClr val="cc3300"/>
                </a:solidFill>
                <a:latin typeface="Arial"/>
              </a:rPr>
              <a:t>彎頭依設計要求製造，如需一體成型時，不得分段接合。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(5)</a:t>
            </a:r>
            <a:r>
              <a:rPr b="0" lang="zh-TW" sz="2300" spc="-1" strike="noStrike">
                <a:solidFill>
                  <a:srgbClr val="cc3300"/>
                </a:solidFill>
                <a:latin typeface="Arial"/>
              </a:rPr>
              <a:t>安裝完成刨光刨平後，應塗佈底漆并用</a:t>
            </a: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PE</a:t>
            </a:r>
            <a:r>
              <a:rPr b="0" lang="zh-TW" sz="2300" spc="-1" strike="noStrike">
                <a:solidFill>
                  <a:srgbClr val="cc3300"/>
                </a:solidFill>
                <a:latin typeface="Arial"/>
              </a:rPr>
              <a:t>布包裹保護。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cc66"/>
                </a:solidFill>
                <a:latin typeface="Arial"/>
              </a:rPr>
              <a:t>2.</a:t>
            </a:r>
            <a:r>
              <a:rPr b="0" lang="zh-TW" sz="2300" spc="-1" strike="noStrike">
                <a:solidFill>
                  <a:srgbClr val="ffcc66"/>
                </a:solidFill>
                <a:latin typeface="Arial"/>
              </a:rPr>
              <a:t>原</a:t>
            </a:r>
            <a:r>
              <a:rPr b="0" lang="en-US" sz="2300" spc="-1" strike="noStrike">
                <a:solidFill>
                  <a:srgbClr val="ffcc66"/>
                </a:solidFill>
                <a:latin typeface="Arial"/>
              </a:rPr>
              <a:t>RC</a:t>
            </a:r>
            <a:r>
              <a:rPr b="0" lang="zh-TW" sz="2300" spc="-1" strike="noStrike">
                <a:solidFill>
                  <a:srgbClr val="ffcc66"/>
                </a:solidFill>
                <a:latin typeface="Arial"/>
              </a:rPr>
              <a:t>結構樓梯，加舖實木踏板：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300" spc="-1" strike="noStrike">
                <a:solidFill>
                  <a:srgbClr val="cc3300"/>
                </a:solidFill>
                <a:latin typeface="Arial"/>
              </a:rPr>
              <a:t>定製材。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300" spc="-1" strike="noStrike">
                <a:solidFill>
                  <a:srgbClr val="cc3300"/>
                </a:solidFill>
                <a:latin typeface="Arial"/>
              </a:rPr>
              <a:t>試裝整修。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300" spc="-1" strike="noStrike">
                <a:solidFill>
                  <a:srgbClr val="cc3300"/>
                </a:solidFill>
                <a:latin typeface="Arial"/>
              </a:rPr>
              <a:t>搗圓角，刨止滑溝。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300" spc="-1" strike="noStrike">
                <a:solidFill>
                  <a:srgbClr val="cc3300"/>
                </a:solidFill>
                <a:latin typeface="Arial"/>
              </a:rPr>
              <a:t>清理樓梯。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(5)</a:t>
            </a:r>
            <a:r>
              <a:rPr b="0" lang="zh-TW" sz="2300" spc="-1" strike="noStrike">
                <a:solidFill>
                  <a:srgbClr val="cc3300"/>
                </a:solidFill>
                <a:latin typeface="Arial"/>
              </a:rPr>
              <a:t>以螺栓或</a:t>
            </a:r>
            <a:r>
              <a:rPr b="0" lang="en-US" sz="2300" spc="-1" strike="noStrike">
                <a:solidFill>
                  <a:srgbClr val="cc3300"/>
                </a:solidFill>
                <a:latin typeface="Arial"/>
              </a:rPr>
              <a:t>A.B</a:t>
            </a:r>
            <a:r>
              <a:rPr b="0" lang="zh-TW" sz="2300" spc="-1" strike="noStrike">
                <a:solidFill>
                  <a:srgbClr val="cc3300"/>
                </a:solidFill>
                <a:latin typeface="Arial"/>
              </a:rPr>
              <a:t>膠固定安裝。       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ffcc66"/>
                </a:solidFill>
                <a:latin typeface="Arial"/>
              </a:rPr>
              <a:t>3.</a:t>
            </a:r>
            <a:r>
              <a:rPr b="0" lang="zh-TW" sz="1900" spc="-1" strike="noStrike">
                <a:solidFill>
                  <a:srgbClr val="ffcc66"/>
                </a:solidFill>
                <a:latin typeface="Arial"/>
              </a:rPr>
              <a:t>原</a:t>
            </a:r>
            <a:r>
              <a:rPr b="0" lang="en-US" sz="1900" spc="-1" strike="noStrike">
                <a:solidFill>
                  <a:srgbClr val="ffcc66"/>
                </a:solidFill>
                <a:latin typeface="Arial"/>
              </a:rPr>
              <a:t>RC</a:t>
            </a:r>
            <a:r>
              <a:rPr b="0" lang="zh-TW" sz="1900" spc="-1" strike="noStrike">
                <a:solidFill>
                  <a:srgbClr val="ffcc66"/>
                </a:solidFill>
                <a:latin typeface="Arial"/>
              </a:rPr>
              <a:t>結構樓梯，外包夾板加貼薄皮或實木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zh-TW" sz="1900" spc="-1" strike="noStrike">
                <a:solidFill>
                  <a:srgbClr val="ffcc66"/>
                </a:solidFill>
                <a:latin typeface="Arial"/>
              </a:rPr>
              <a:t>踏板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1900" spc="-1" strike="noStrike">
                <a:solidFill>
                  <a:srgbClr val="cc3300"/>
                </a:solidFill>
                <a:latin typeface="Arial"/>
              </a:rPr>
              <a:t>單純包覆工作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A. 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踏板用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分、立板用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分木心板或夾板，依每階最高及最寬為標準尺寸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                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裁切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B.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由最低一級之立板以鋼釘固定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C.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將第一級踏板與第二級立板，組裝成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形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D.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為使平整可用小塊夾板墊平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E.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使用單針槍釘將第一級踏板及第二級立板固定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F.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重複依序完成踏板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1900" spc="-1" strike="noStrike">
                <a:solidFill>
                  <a:srgbClr val="cc3300"/>
                </a:solidFill>
                <a:latin typeface="Arial"/>
              </a:rPr>
              <a:t>加寬踏階、降低級高，統一階級規格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A. 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可延伸狀況下，由最上一級加寬、降低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B.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裝訂結構，墊高、加寬，由上而下施作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C.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定出規格，依序完成結構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D.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為使平整可用小塊夾板墊平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E.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使用單針槍釘將底板結構固定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</a:rPr>
              <a:t>F.</a:t>
            </a:r>
            <a:r>
              <a:rPr b="0" lang="zh-TW" sz="1900" spc="-1" strike="noStrike">
                <a:solidFill>
                  <a:srgbClr val="0066ff"/>
                </a:solidFill>
                <a:latin typeface="Arial"/>
              </a:rPr>
              <a:t>重複依序完成踏板。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800" spc="-1" strike="noStrike">
                <a:solidFill>
                  <a:srgbClr val="cc3300"/>
                </a:solidFill>
                <a:latin typeface="Arial"/>
              </a:rPr>
              <a:t>全木作樓梯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量高度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以上、下樓層地面後續施作之工程完成高度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計算級數及尺寸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以量測完成之高度，轉算成傾斜角後計算之階寬、高之尺寸而定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放樣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再靠牆一邊作階級尺寸放樣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作第一折基座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通常第一折為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3~5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級，靠牆一邊依放樣以木心板鋸成階梯狀固定，照水平、垂直及直角作出階梯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E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組裝立向踏板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先定第一級立板，其餘採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形裝釘，以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寸鐵釘固定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作樓梯側拱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通常以兩片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分木心板或夾板施作，依照每階尺寸放樣，在鋸出階梯裝釘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G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裝訂踏面階梯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通常以兩片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分木心板或夾板施作，依照每階尺寸裝釘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組裝立踏板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通常以兩片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分木心板或夾板施作，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如橫向踏板超過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公分實需考慮加厚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，依照每階尺寸裝釘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.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樓梯扶手施作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Arial"/>
              </a:rPr>
              <a:t>一般採用定製品，依扶手之規定來加以固定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Arial"/>
              </a:rPr>
              <a:t>裝修木工課程結束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木材體積一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100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10000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台寸立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常用才積單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一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1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台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1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台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10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台尺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100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台寸立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木材長度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尺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寬度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厚度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其才積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6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60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360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=3.6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才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版權為   中華民國災害預防協會  林明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翻印必究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41940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圖樣規定之尺寸，除門窗料外，均為為刨尺寸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5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台灣檜木以禁採，可以美檜或其他同科之木料替代，為需送林務局鑑定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6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山林砍伐的生材大部分的比重均超過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，經人工乾燥後，一般比重約在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0.4~0.6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之間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除相思木為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0.75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，黑檀木為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.1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左右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7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木材的瑕疵可分為節疤、裂痕、瘤疤、外傷等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比重最大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台灣櫸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比重最低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鐵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適合室外門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花旗松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489200" y="572760"/>
            <a:ext cx="4502160" cy="5642280"/>
            <a:chOff x="4489200" y="572760"/>
            <a:chExt cx="4502160" cy="56422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 rot="200400">
              <a:off x="4642920" y="690120"/>
              <a:ext cx="4194360" cy="54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 txBox="1"/>
            <p:nvPr/>
          </p:nvSpPr>
          <p:spPr>
            <a:xfrm rot="200400">
              <a:off x="4642920" y="690120"/>
              <a:ext cx="4194360" cy="540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3300"/>
                </a:buClr>
                <a:buSzPct val="85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8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木材製品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一般木材製品分為角材及板材；加工製品有各式的木夾板、地板、木地磚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木材製品取材接近樹心稱為心材；反之稱為邊材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心材：材質緻密、色澤美觀、彎翹收縮性少，抗蛀及抗蝕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較大，一般使用於裝修材。邊材特性則較差之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木材與纖維方向垂直抵抗剪力最強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9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木材的養護及防腐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阻斷空氣法、隔絕水份法、高溫殺菌法、表面碳化法、藥劑處理法及防蟲處理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(10)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木材乾燥法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分為自然乾燥法及人工乾燥法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自然乾燥法分為空氣乾燥法、浸水乾燥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zh-TW" sz="2000" spc="-1" strike="noStrike">
                <a:solidFill>
                  <a:srgbClr val="cc3300"/>
                </a:solidFill>
                <a:latin typeface="Arial"/>
              </a:rPr>
              <a:t>人工乾燥法分為烘乾法、煮沸法、蒸氣法、煙燻法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下列木材中，以那種材質最硬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(1)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扁柏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(2)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松木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(3)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台灣杉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(4)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花梨木</a:t>
            </a: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41940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6.</a:t>
            </a:r>
            <a:r>
              <a:rPr b="0" lang="zh-TW" sz="2400" spc="-1" strike="noStrike">
                <a:solidFill>
                  <a:srgbClr val="ffcc66"/>
                </a:solidFill>
                <a:latin typeface="Arial"/>
              </a:rPr>
              <a:t>接合部的補强材料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鐵釘類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.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常用鐵釘：詳右上圖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要領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a.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釘成一排時，不論釘數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寡，儘可能配置構材中心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線上，詳右上圖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a)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d)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g)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m)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；反之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b)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f)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j)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o)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每一接合處最少三支以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080808"/>
                </a:solidFill>
                <a:latin typeface="Arial"/>
              </a:rPr>
              <a:t>鐵釘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80808"/>
                </a:solidFill>
                <a:latin typeface="Arial"/>
              </a:rPr>
              <a:t>一般框架使用榫接時，其榫頭厚度約為材料的厚度的幾倍左右？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1/3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9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41940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.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配置二列時，避免平行排於斜材中心線上。詳右圖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d.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釘數為五支時，遠離斜材尾端，錯列平行於柱材中心線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木螺釘的規格為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1 " # 7 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， 其中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# 7 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表示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. </a:t>
            </a:r>
            <a:r>
              <a:rPr b="0" lang="zh-TW" sz="2800" spc="-1" strike="noStrike">
                <a:solidFill>
                  <a:srgbClr val="080808"/>
                </a:solidFill>
                <a:latin typeface="Arial"/>
              </a:rPr>
              <a:t>釘頭直徑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419436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419400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螺栓類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.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常用螺栓：詳右圖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普通、兩頭、錨定、魚尾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螺栓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由左至右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要領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常用螺栓：詳右圖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一般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螺栓孔直徑比螺栓直徑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0.8~1.6mmm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cc3300"/>
                </a:solidFill>
                <a:latin typeface="Arial"/>
              </a:rPr>
              <a:t>補強鐵件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.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螞蝗釘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平腳、反腳、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尾型。詳右圖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(a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.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尺鐵板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詳右圖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(b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.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補強鐵框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詳右圖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(c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.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接合圈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詳右圖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(d)</a:t>
            </a:r>
            <a:r>
              <a:rPr b="0" lang="zh-TW" sz="2400" spc="-1" strike="noStrike">
                <a:solidFill>
                  <a:srgbClr val="0066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476280"/>
            <a:ext cx="4194000" cy="3449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3280" y="4221000"/>
            <a:ext cx="4194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02:42:40Z</dcterms:created>
  <dc:creator>dpa</dc:creator>
  <dc:description/>
  <dc:language>en-US</dc:language>
  <cp:lastModifiedBy>kl</cp:lastModifiedBy>
  <dcterms:modified xsi:type="dcterms:W3CDTF">2006-02-10T14:33:38Z</dcterms:modified>
  <cp:revision>192</cp:revision>
  <dc:subject/>
  <dc:title>相關施工作業 -裝修泥作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